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gif" ContentType="image/gif"/>
  <Override PartName="/ppt/media/image55.gif" ContentType="image/gif"/>
  <Override PartName="/ppt/media/image46.jpeg" ContentType="image/jpeg"/>
  <Override PartName="/ppt/media/image48.jpeg" ContentType="image/jpeg"/>
  <Override PartName="/ppt/media/image5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23.jpeg" ContentType="image/jpeg"/>
  <Override PartName="/ppt/media/image63.wmf" ContentType="image/x-wmf"/>
  <Override PartName="/ppt/media/image3.png" ContentType="image/png"/>
  <Override PartName="/ppt/media/image17.jpeg" ContentType="image/jpeg"/>
  <Override PartName="/ppt/media/image45.wmf" ContentType="image/x-wmf"/>
  <Override PartName="/ppt/media/image60.gif" ContentType="image/gif"/>
  <Override PartName="/ppt/media/image18.gif" ContentType="image/gif"/>
  <Override PartName="/ppt/media/image62.gif" ContentType="image/gif"/>
  <Override PartName="/ppt/media/image61.gif" ContentType="image/gif"/>
  <Override PartName="/ppt/media/image41.jpeg" ContentType="image/jpeg"/>
  <Override PartName="/ppt/media/image19.gif" ContentType="image/gif"/>
  <Override PartName="/ppt/media/image25.jpeg" ContentType="image/jpeg"/>
  <Override PartName="/ppt/media/image56.gif" ContentType="image/gif"/>
  <Override PartName="/ppt/media/image4.wmf" ContentType="image/x-wmf"/>
  <Override PartName="/ppt/media/image24.jpeg" ContentType="image/jpeg"/>
  <Override PartName="/ppt/media/image21.gif" ContentType="image/gif"/>
  <Override PartName="/ppt/media/image16.gif" ContentType="image/gif"/>
  <Override PartName="/ppt/media/image49.wmf" ContentType="image/x-wmf"/>
  <Override PartName="/ppt/media/image22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1.wmf" ContentType="image/x-wmf"/>
  <Override PartName="/ppt/media/image38.jpeg" ContentType="image/jpeg"/>
  <Override PartName="/ppt/media/image8.jpeg" ContentType="image/jpeg"/>
  <Override PartName="/ppt/media/image39.jpeg" ContentType="image/jpeg"/>
  <Override PartName="/ppt/media/image14.gif" ContentType="image/gif"/>
  <Override PartName="/ppt/media/image13.jpeg" ContentType="image/jpeg"/>
  <Override PartName="/ppt/media/image40.jpeg" ContentType="image/jpeg"/>
  <Override PartName="/ppt/media/image9.gif" ContentType="image/gif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0.gif" ContentType="image/gif"/>
  <Override PartName="/ppt/media/image58.gif" ContentType="image/gif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5.gif" ContentType="image/gif"/>
  <Override PartName="/ppt/media/image42.jpeg" ContentType="image/jpeg"/>
  <Override PartName="/ppt/media/image43.gif" ContentType="image/gif"/>
  <Override PartName="/ppt/media/image44.jpeg" ContentType="image/jpeg"/>
  <Override PartName="/ppt/media/image4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1E3-00FF-450B-96BC-FF7073F9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F86-EEC9-4E9B-92FF-6EFE852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F03-013A-4C62-B576-3BC08574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B44-1D9A-453D-8FDE-902028F4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0D9-599E-4FAA-A3F0-12C89DCE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B88-E08D-40BF-8A2F-B60A43A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ACA-13B3-479D-BDA8-2768F455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7FF-71F8-4B67-85DE-AD40775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85D7-CB8E-405F-A103-88AF1F0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86ED-1024-4C48-AC07-2D66FB33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A3FE-F989-44D0-B7C5-9184CAF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92C-A147-43AB-B0AC-46489F5E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CD9A-F2A3-4CED-A3A3-648E609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D929-B693-40A5-BAF0-235D9C3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9E1-12C5-4444-B76A-E5C286C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08B0-E6FB-4091-AE1C-41B8B9B8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70B-4113-4F5C-AF72-667B299A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28AB-7682-4CED-91BA-DD07ADB1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37E9-9682-4585-BABF-4AB60290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3D45-8901-401B-997B-7286504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2D74-A9E7-4464-961E-EB36ECF7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A6C0-112C-447B-9D63-EF15D41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4D1-E65C-4CBF-BB25-AC12418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C27D-D874-4557-984E-89B9083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8F7E-7E9B-49CF-AD98-142BB77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1BA0-E4F8-4EC3-B3A1-775BC33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0C17-17DE-43B4-9F23-78ADDFF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B29D-1902-41C1-B188-3F987F3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4D7C-A1D7-4F91-ADCC-CEB5B6E8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025E-8162-44F4-9268-64BFF8B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8F27-3725-4155-9166-BEA29F80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F132-BA85-4D72-8775-08A71F7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F211-1E27-4EBB-BE68-F405BB2E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6CB-0CB2-45CB-8C57-1330D9B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FCCA-7FD2-43CD-83A4-44EEA50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846D-03B5-4007-80FE-037B607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0E8C-32B9-4ACB-811D-6E84058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F9F7-87D8-4AA2-A899-3EE736B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BC92-87B5-45C1-80F0-C3F4EBF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8145-1A24-40E7-8CA1-6449A2A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47D6-D5A0-4FB0-BE24-4C7D9DE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B516-A68E-4295-ACBF-B5769513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C88D-D5A1-4C42-8120-66257342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BA6-01AE-4461-92DA-25E804F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8E4-DD9A-46BE-A320-1E7EF6B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550-8A8E-4293-8860-A85766A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944-7D95-4D98-A1DB-11A9A60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D90-1795-4F93-81A2-9C4762E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9E9-FF61-42BA-9DA2-A2904FE3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49F7-1746-454E-AEA1-117D42B9D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31C-FBC3-48B1-8E2C-F69D8CEDCB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4E1-AA73-47AD-9D7D-88B5A50CDB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image" Target="../media/image4.wmf"/><Relationship Id="rId5" Type="http://schemas.openxmlformats.org/officeDocument/2006/relationships/slide" Target="slide15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wmf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10.gif"/><Relationship Id="rId3" Type="http://schemas.openxmlformats.org/officeDocument/2006/relationships/image" Target="../media/image57.png"/><Relationship Id="rId4" Type="http://schemas.openxmlformats.org/officeDocument/2006/relationships/image" Target="../media/image58.gif"/><Relationship Id="rId5" Type="http://schemas.openxmlformats.org/officeDocument/2006/relationships/image" Target="../media/image54.gif"/><Relationship Id="rId6" Type="http://schemas.openxmlformats.org/officeDocument/2006/relationships/image" Target="../media/image59.gif"/><Relationship Id="rId7" Type="http://schemas.openxmlformats.org/officeDocument/2006/relationships/image" Target="../media/image60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55.gif"/><Relationship Id="rId3" Type="http://schemas.openxmlformats.org/officeDocument/2006/relationships/image" Target="../media/image62.gif"/><Relationship Id="rId4" Type="http://schemas.openxmlformats.org/officeDocument/2006/relationships/package" Target="../embeddings/oleObject1.docx"/><Relationship Id="rId5" Type="http://schemas.openxmlformats.org/officeDocument/2006/relationships/image" Target="../media/image63.wmf"/><Relationship Id="rId6" Type="http://schemas.openxmlformats.org/officeDocument/2006/relationships/image" Target="../media/image61.gi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селинка Станковић, ош. “ Десанка Максимовић”, Чок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49C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ан Живић, ош. “ Десанка Максимовић”, Чо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агана Леповић, ош. “ Десанка Максимовић”, Чо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хничко образ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улисање друмског саобраћ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35280" y="5516640"/>
            <a:ext cx="1366920" cy="792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5445000"/>
            <a:ext cx="1366920" cy="792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572000" y="566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.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51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е које никад не смеш да учиниш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2952720" cy="2135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879640" cy="1978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31687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mph" presetID="5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5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552680" y="0"/>
            <a:ext cx="7591320" cy="1425600"/>
            <a:chOff x="1552680" y="0"/>
            <a:chExt cx="7591320" cy="1425600"/>
          </a:xfrm>
        </p:grpSpPr>
        <p:sp>
          <p:nvSpPr>
            <p:cNvPr id="539" name=""/>
            <p:cNvSpPr/>
            <p:nvPr/>
          </p:nvSpPr>
          <p:spPr>
            <a:xfrm>
              <a:off x="1552680" y="228600"/>
              <a:ext cx="560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4000" spc="-1" strike="noStrike">
                  <a:solidFill>
                    <a:srgbClr val="000000"/>
                  </a:solidFill>
                  <a:latin typeface="Times New Roman"/>
                </a:rPr>
                <a:t>Бициклисти у саобраћај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0" name=""/>
            <p:cNvGraphicFramePr/>
            <p:nvPr/>
          </p:nvGraphicFramePr>
          <p:xfrm>
            <a:off x="7620120" y="0"/>
            <a:ext cx="1523880" cy="142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0"/>
                      <a:ext cx="1523880" cy="14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3962160" cy="2239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3457440" cy="27370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5003640" y="4005360"/>
            <a:ext cx="38862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813320" y="13500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аобраћајни знак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524240" cy="536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76760" cy="676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6732720" y="2997360"/>
            <a:ext cx="1170000" cy="5428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078280" cy="676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160" y="33577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оризонтална сигн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943600"/>
            <a:ext cx="1828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594360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5943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6810480"/>
            <a:ext cx="9144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05120" y="59436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5943600"/>
            <a:ext cx="2362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609588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6477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571500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5334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495288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шачки пре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91320" y="594360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6095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оп ли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5400000">
            <a:off x="5115600" y="6273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457200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77120" y="4191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5029200"/>
            <a:ext cx="5867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33920" y="4267080"/>
            <a:ext cx="2057400" cy="4572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5334120"/>
            <a:ext cx="1981080" cy="380880"/>
          </a:xfrm>
          <a:prstGeom prst="rightArrow">
            <a:avLst>
              <a:gd name="adj1" fmla="val 50000"/>
              <a:gd name="adj2" fmla="val 1300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56386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утобуско стајалиш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5410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кретање л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267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Бициклистичка</a:t>
            </a:r>
            <a:r>
              <a:rPr b="1" lang="sr-C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т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362320" y="37335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1042920" y="836640"/>
            <a:ext cx="2166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1244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134080" y="26820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Саобраћајни полицај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2448000" cy="16210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7086600" y="5105520"/>
            <a:ext cx="1333440" cy="1047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2743200" y="5029200"/>
            <a:ext cx="3333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7740720" y="4508640"/>
            <a:ext cx="6786720" cy="596880"/>
            <a:chOff x="7740720" y="4508640"/>
            <a:chExt cx="6786720" cy="596880"/>
          </a:xfrm>
        </p:grpSpPr>
        <p:sp>
          <p:nvSpPr>
            <p:cNvPr id="587" name=""/>
            <p:cNvSpPr/>
            <p:nvPr/>
          </p:nvSpPr>
          <p:spPr>
            <a:xfrm>
              <a:off x="9061560" y="450864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00"/>
                  </a:solidFill>
                  <a:latin typeface="Times New Roman"/>
                </a:rPr>
                <a:t>Возила са првенством прола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8" name=""/>
            <p:cNvGraphicFramePr/>
            <p:nvPr/>
          </p:nvGraphicFramePr>
          <p:xfrm>
            <a:off x="7740720" y="4643640"/>
            <a:ext cx="1371600" cy="46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0720" y="4643640"/>
                      <a:ext cx="137160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826920" y="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авила саобраћаја на раскрс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7"/>
          <a:stretch/>
        </p:blipFill>
        <p:spPr>
          <a:xfrm>
            <a:off x="3348000" y="981000"/>
            <a:ext cx="2376360" cy="16606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"/>
          <a:stretch/>
        </p:blipFill>
        <p:spPr>
          <a:xfrm>
            <a:off x="3276720" y="2852640"/>
            <a:ext cx="2447640" cy="1671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9"/>
          <a:stretch/>
        </p:blipFill>
        <p:spPr>
          <a:xfrm>
            <a:off x="6227640" y="2852640"/>
            <a:ext cx="2521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96 0.01942 L -1.00868 0.01965 E">
                                      <p:cBhvr>
                                        <p:cTn id="289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ЖЕ РАДА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одни део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ратко обнављање наученог и загревање за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ни де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гра  и проглашење поб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ава и саопштавање правила игре: “ Пантомима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ава и саопштавање правила игре: “ Ја саобраћајац 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гра  и проглашење поб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авршни део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пуштање уз музику и задавање домаћег задатка за родите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6477120" y="4952880"/>
          <a:ext cx="182880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1828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5257800" cy="1724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410080" cy="17762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819160" cy="174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6019920" y="4267080"/>
            <a:ext cx="2666880" cy="18608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52280" y="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Хајде да се сетимо правила првен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пролаза на раскрсниц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Правило: десне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34290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Возило са правом пр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4290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аобраћај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66680" y="63244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аобраћајни зн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ема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752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752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1828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077320" y="2819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3048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600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305920" y="1905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48520" y="213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4800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5105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5715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05520" y="4648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001000" y="5638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320" y="5791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38880" y="4343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153280" y="4572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9588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авила игре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а, саобраћаја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група на својој макети поставља возила и обележава смер њиховог кре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папиру записује своје реш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упа (Раскрсница)  прва решава раскрсницу на макет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колико успешно реши задатак заузима макету 1 и поставља свој задатак, а група уз макету 1 решава задатак на макет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колико не реши тачно задатак испада из такмич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 такмичења испада и група која је поставила задатак, а није га успешно реш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група има могућност да брани своје решење, а коначан суд даје настав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бедник је она група која остане послед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ланови победничке екипе добијају пет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232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500"/>
                            </p:stCondLst>
                            <p:childTnLst>
                              <p:par>
                                <p:cTn id="510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500"/>
                            </p:stCondLst>
                            <p:childTnLst>
                              <p:par>
                                <p:cTn id="518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6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500"/>
                            </p:stCondLst>
                            <p:childTnLst>
                              <p:par>
                                <p:cTn id="534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400" fill="hold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00" fill="hold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542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50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0" y="2895480"/>
            <a:ext cx="1295280" cy="5335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638680" y="41911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4952880"/>
            <a:ext cx="1295280" cy="5335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41911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28195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86200" y="1295280"/>
            <a:ext cx="1600200" cy="7621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1629000" cy="9810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7391520" y="3505320"/>
            <a:ext cx="618840" cy="5904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6095880" y="4876920"/>
            <a:ext cx="619200" cy="590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4191120" y="5562720"/>
            <a:ext cx="618840" cy="5904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5"/>
          <a:stretch/>
        </p:blipFill>
        <p:spPr>
          <a:xfrm>
            <a:off x="2057400" y="4724280"/>
            <a:ext cx="619200" cy="5907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619200" cy="5907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619200" cy="5904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7238880" y="838080"/>
            <a:ext cx="1905120" cy="990720"/>
          </a:xfrm>
          <a:prstGeom prst="wedgeEllipseCallout">
            <a:avLst>
              <a:gd name="adj1" fmla="val -15000"/>
              <a:gd name="adj2" fmla="val 70032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648320" y="2590920"/>
            <a:ext cx="1904760" cy="990360"/>
          </a:xfrm>
          <a:prstGeom prst="wedgeEllipseCallout">
            <a:avLst>
              <a:gd name="adj1" fmla="val 89750"/>
              <a:gd name="adj2" fmla="val 5288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438280"/>
            <a:ext cx="1905120" cy="990720"/>
          </a:xfrm>
          <a:prstGeom prst="wedgeEllipseCallout">
            <a:avLst>
              <a:gd name="adj1" fmla="val 89750"/>
              <a:gd name="adj2" fmla="val 5288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5867280"/>
            <a:ext cx="2514600" cy="990720"/>
          </a:xfrm>
          <a:prstGeom prst="wedgeEllipseCallout">
            <a:avLst>
              <a:gd name="adj1" fmla="val -52337"/>
              <a:gd name="adj2" fmla="val -124680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67080" y="5867280"/>
            <a:ext cx="2514600" cy="990720"/>
          </a:xfrm>
          <a:prstGeom prst="wedgeEllipseCallout">
            <a:avLst>
              <a:gd name="adj1" fmla="val -34407"/>
              <a:gd name="adj2" fmla="val -5144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43200" y="152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Ја, саобраћај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28800" y="2666880"/>
            <a:ext cx="2514600" cy="990720"/>
          </a:xfrm>
          <a:prstGeom prst="wedgeEllipseCallout">
            <a:avLst>
              <a:gd name="adj1" fmla="val 34847"/>
              <a:gd name="adj2" fmla="val 7900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1214E-007 L 0.10782 0.16786 E">
                                      <p:cBhvr>
                                        <p:cTn id="562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6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82 0.16787 C 0.10921 0.16394 0.11059 0.16024 0.13473 0.16394 C 0.15886 0.1674 0.24671 0.15885 0.25226 0.18914 C 0.25782 0.21943 0.18316 0.32024 0.16806 0.34636 E">
                                      <p:cBhvr>
                                        <p:cTn id="573" dur="3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8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38 L -0.15834 3.98844E-006 E">
                                      <p:cBhvr>
                                        <p:cTn id="581" dur="3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8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56647E-006 C 0.10226 0.04324 0.20469 0.08671 0.23333 0.00208 C 0.26198 -0.08254 0.20799 -0.41665 0.17153 -0.50751 C 0.13507 -0.59838 0.07465 -0.57087 0.01441 -0.54335 E">
                                      <p:cBhvr>
                                        <p:cTn id="596" dur="3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4 -3.52601E-006 C -0.24132 -0.01133 -0.32413 -0.02266 -0.35816 -0.00485 C -0.39219 0.01341 -0.36233 0.09018 -0.3632 0.10937 E">
                                      <p:cBhvr>
                                        <p:cTn id="599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79191E-006 C 0.1894 0.06266 0.37899 0.12578 0.45381 0.02312 C 0.52864 -0.07907 0.47343 -0.50543 0.44913 -0.61503 C 0.42482 -0.72462 0.33142 -0.63075 0.30781 -0.63399 E">
                                      <p:cBhvr>
                                        <p:cTn id="615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2 0.10936 C -0.36355 0.07353 -0.36372 0.03769 -0.39809 0.0141 C -0.43247 -0.00948 -0.54098 -0.02474 -0.56945 -0.03237 E">
                                      <p:cBhvr>
                                        <p:cTn id="618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5120" y="762120"/>
            <a:ext cx="1752480" cy="304560"/>
            <a:chOff x="1905120" y="762120"/>
            <a:chExt cx="1752480" cy="304560"/>
          </a:xfrm>
        </p:grpSpPr>
        <p:sp>
          <p:nvSpPr>
            <p:cNvPr id="660" name=""/>
            <p:cNvSpPr/>
            <p:nvPr/>
          </p:nvSpPr>
          <p:spPr>
            <a:xfrm>
              <a:off x="1905120" y="762120"/>
              <a:ext cx="175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57400" y="914400"/>
              <a:ext cx="15228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382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954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26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6576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5760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864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864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86400" y="43434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4267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98520" cy="5619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390240" cy="7524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2819520" y="114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5"/>
          <a:stretch/>
        </p:blipFill>
        <p:spPr>
          <a:xfrm>
            <a:off x="3581280" y="2895480"/>
            <a:ext cx="1981440" cy="981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1981080" y="5867280"/>
            <a:ext cx="700200" cy="762120"/>
          </a:xfrm>
          <a:prstGeom prst="rect">
            <a:avLst/>
          </a:prstGeom>
          <a:ln w="0">
            <a:noFill/>
          </a:ln>
        </p:spPr>
      </p:pic>
      <p:grpSp>
        <p:nvGrpSpPr>
          <p:cNvPr id="679" name=""/>
          <p:cNvGrpSpPr/>
          <p:nvPr/>
        </p:nvGrpSpPr>
        <p:grpSpPr>
          <a:xfrm>
            <a:off x="0" y="0"/>
            <a:ext cx="1981080" cy="1295280"/>
            <a:chOff x="0" y="0"/>
            <a:chExt cx="1981080" cy="1295280"/>
          </a:xfrm>
        </p:grpSpPr>
        <p:sp>
          <p:nvSpPr>
            <p:cNvPr id="680" name=""/>
            <p:cNvSpPr/>
            <p:nvPr/>
          </p:nvSpPr>
          <p:spPr>
            <a:xfrm>
              <a:off x="0" y="0"/>
              <a:ext cx="1981080" cy="1295280"/>
            </a:xfrm>
            <a:prstGeom prst="wedgeEllipseCallout">
              <a:avLst>
                <a:gd name="adj1" fmla="val -800"/>
                <a:gd name="adj2" fmla="val 77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320" y="304920"/>
              <a:ext cx="190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Times New Roman"/>
                </a:rPr>
                <a:t>Погодили   сте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990720" y="2743200"/>
            <a:ext cx="1676160" cy="1371600"/>
            <a:chOff x="990720" y="2743200"/>
            <a:chExt cx="1676160" cy="1371600"/>
          </a:xfrm>
        </p:grpSpPr>
        <p:sp>
          <p:nvSpPr>
            <p:cNvPr id="683" name=""/>
            <p:cNvSpPr/>
            <p:nvPr/>
          </p:nvSpPr>
          <p:spPr>
            <a:xfrm>
              <a:off x="9907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907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907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07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07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693720" cy="84780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6248520" y="2743200"/>
            <a:ext cx="1676160" cy="1371600"/>
            <a:chOff x="6248520" y="2743200"/>
            <a:chExt cx="1676160" cy="1371600"/>
          </a:xfrm>
        </p:grpSpPr>
        <p:sp>
          <p:nvSpPr>
            <p:cNvPr id="690" name=""/>
            <p:cNvSpPr/>
            <p:nvPr/>
          </p:nvSpPr>
          <p:spPr>
            <a:xfrm>
              <a:off x="62485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485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485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485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485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62520" y="228600"/>
            <a:ext cx="1371600" cy="1676160"/>
            <a:chOff x="3962520" y="228600"/>
            <a:chExt cx="1371600" cy="1676160"/>
          </a:xfrm>
        </p:grpSpPr>
        <p:sp>
          <p:nvSpPr>
            <p:cNvPr id="696" name=""/>
            <p:cNvSpPr/>
            <p:nvPr/>
          </p:nvSpPr>
          <p:spPr>
            <a:xfrm rot="5400000">
              <a:off x="320040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350532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5400000">
              <a:off x="3810240" y="99036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411480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00000">
              <a:off x="441972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886200" y="5181480"/>
            <a:ext cx="1371600" cy="1676160"/>
            <a:chOff x="3886200" y="5181480"/>
            <a:chExt cx="1371600" cy="1676160"/>
          </a:xfrm>
        </p:grpSpPr>
        <p:sp>
          <p:nvSpPr>
            <p:cNvPr id="702" name=""/>
            <p:cNvSpPr/>
            <p:nvPr/>
          </p:nvSpPr>
          <p:spPr>
            <a:xfrm rot="5400000">
              <a:off x="312408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00000">
              <a:off x="342900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5400000">
              <a:off x="3733920" y="594324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403848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5400000">
              <a:off x="434340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715000" y="5257800"/>
            <a:ext cx="1752480" cy="304920"/>
            <a:chOff x="5715000" y="5257800"/>
            <a:chExt cx="1752480" cy="304920"/>
          </a:xfrm>
        </p:grpSpPr>
        <p:sp>
          <p:nvSpPr>
            <p:cNvPr id="708" name=""/>
            <p:cNvSpPr/>
            <p:nvPr/>
          </p:nvSpPr>
          <p:spPr>
            <a:xfrm>
              <a:off x="5715000" y="5257800"/>
              <a:ext cx="1752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5410440"/>
              <a:ext cx="15228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481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625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944680" y="1522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антомим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324120" y="762120"/>
            <a:ext cx="304920" cy="1752480"/>
            <a:chOff x="6324120" y="762120"/>
            <a:chExt cx="304920" cy="1752480"/>
          </a:xfrm>
        </p:grpSpPr>
        <p:sp>
          <p:nvSpPr>
            <p:cNvPr id="715" name=""/>
            <p:cNvSpPr/>
            <p:nvPr/>
          </p:nvSpPr>
          <p:spPr>
            <a:xfrm rot="5400000">
              <a:off x="5600160" y="1485720"/>
              <a:ext cx="1752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5400000">
              <a:off x="6362280" y="952560"/>
              <a:ext cx="15228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5400000">
              <a:off x="6361920" y="1333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400000">
              <a:off x="6361920" y="17906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400000">
              <a:off x="6361920" y="22478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93642E-007 L -0.06667 -0.39954 E">
                                      <p:cBhvr>
                                        <p:cTn id="633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бројте у којим ситуацијама сте учесници у саобраћају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идем у школу пеш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возим би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се возим аутобу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путујем с татом аутомоби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са дедом возим трактор или запрежна 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ме ујак вози на мо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828720" cy="1143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1460520" cy="668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715000" y="3886200"/>
            <a:ext cx="898560" cy="538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47242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4724280" y="1447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6576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486400" y="304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3000" y="4267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990720" y="2743200"/>
            <a:ext cx="1676160" cy="1371600"/>
            <a:chOff x="990720" y="2743200"/>
            <a:chExt cx="1676160" cy="1371600"/>
          </a:xfrm>
        </p:grpSpPr>
        <p:sp>
          <p:nvSpPr>
            <p:cNvPr id="728" name=""/>
            <p:cNvSpPr/>
            <p:nvPr/>
          </p:nvSpPr>
          <p:spPr>
            <a:xfrm>
              <a:off x="9907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907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07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907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07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248520" y="2743200"/>
            <a:ext cx="1676160" cy="1371600"/>
            <a:chOff x="6248520" y="2743200"/>
            <a:chExt cx="1676160" cy="1371600"/>
          </a:xfrm>
        </p:grpSpPr>
        <p:sp>
          <p:nvSpPr>
            <p:cNvPr id="734" name=""/>
            <p:cNvSpPr/>
            <p:nvPr/>
          </p:nvSpPr>
          <p:spPr>
            <a:xfrm>
              <a:off x="62485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485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85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485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143000" y="50292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6019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04920" y="4266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-3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2895480"/>
            <a:ext cx="533520" cy="533520"/>
          </a:xfrm>
          <a:custGeom>
            <a:avLst/>
            <a:gdLst>
              <a:gd name="textAreaLeft" fmla="*/ 192240 w 533520"/>
              <a:gd name="textAreaRight" fmla="*/ 397080 w 533520"/>
              <a:gd name="textAreaTop" fmla="*/ 367200 h 533520"/>
              <a:gd name="textAreaBottom" fmla="*/ 3970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0398"/>
                </a:moveTo>
                <a:lnTo>
                  <a:pt x="14869" y="20398"/>
                </a:lnTo>
                <a:lnTo>
                  <a:pt x="14869" y="7779"/>
                </a:lnTo>
                <a:lnTo>
                  <a:pt x="9340" y="7779"/>
                </a:lnTo>
                <a:lnTo>
                  <a:pt x="15470" y="0"/>
                </a:lnTo>
                <a:lnTo>
                  <a:pt x="21600" y="7779"/>
                </a:lnTo>
                <a:lnTo>
                  <a:pt x="16071" y="7779"/>
                </a:lnTo>
                <a:lnTo>
                  <a:pt x="160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33526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352680" y="335268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343400" y="24382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343040" y="190476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106668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10" stAng="10800000" swAng="5400000"/>
                <a:lnTo>
                  <a:pt x="12450" y="4650"/>
                </a:lnTo>
                <a:lnTo>
                  <a:pt x="12450" y="0"/>
                </a:lnTo>
                <a:lnTo>
                  <a:pt x="21600" y="6079"/>
                </a:lnTo>
                <a:lnTo>
                  <a:pt x="12450" y="12158"/>
                </a:lnTo>
                <a:lnTo>
                  <a:pt x="12450" y="7508"/>
                </a:lnTo>
                <a:lnTo>
                  <a:pt x="12427" y="7508"/>
                </a:lnTo>
                <a:arcTo wR="9569" hR="4652" stAng="16200000" swAng="-5400000"/>
                <a:lnTo>
                  <a:pt x="28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485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486400" y="838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1523880" y="3591000"/>
            <a:ext cx="76212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619200" cy="5904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2209680" y="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Моји су друг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7524720" y="5902200"/>
          <a:ext cx="1224000" cy="95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24720" y="5902200"/>
                    <a:ext cx="1224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0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762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104E-006 L 0.31528 0.00278 E">
                                      <p:cBhvr>
                                        <p:cTn id="639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28 0.00278 L 0.33889 -0.38543 E">
                                      <p:cBhvr>
                                        <p:cTn id="64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38543 L 0.57222 -0.38543 E">
                                      <p:cBhvr>
                                        <p:cTn id="645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5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L -0.00902 0.60323 E">
                                      <p:cBhvr>
                                        <p:cTn id="656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2 0.60323 L -0.72569 0.5926 E">
                                      <p:cBhvr>
                                        <p:cTn id="659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56000" y="1628640"/>
            <a:ext cx="3962160" cy="3505320"/>
            <a:chOff x="2556000" y="1628640"/>
            <a:chExt cx="3962160" cy="3505320"/>
          </a:xfrm>
        </p:grpSpPr>
        <p:sp>
          <p:nvSpPr>
            <p:cNvPr id="764" name=""/>
            <p:cNvSpPr/>
            <p:nvPr/>
          </p:nvSpPr>
          <p:spPr>
            <a:xfrm>
              <a:off x="2556000" y="1628640"/>
              <a:ext cx="3962160" cy="35053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36880" y="2771640"/>
              <a:ext cx="3352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77600" y="30168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Основни појм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0600" y="1441440"/>
            <a:ext cx="365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ов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овозна 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обраћајна 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то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е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ешачки пре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7-Бицик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8-Бициклистичка ст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52280" y="4127400"/>
            <a:ext cx="3505320" cy="22640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313080" cy="23050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268360" y="1916280"/>
            <a:ext cx="216000" cy="276480"/>
            <a:chOff x="2268360" y="1916280"/>
            <a:chExt cx="216000" cy="276480"/>
          </a:xfrm>
        </p:grpSpPr>
        <p:sp>
          <p:nvSpPr>
            <p:cNvPr id="452" name=""/>
            <p:cNvSpPr/>
            <p:nvPr/>
          </p:nvSpPr>
          <p:spPr>
            <a:xfrm>
              <a:off x="2268360" y="1916280"/>
              <a:ext cx="2160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68360" y="191628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79640" y="2060640"/>
            <a:ext cx="216000" cy="276480"/>
            <a:chOff x="1979640" y="2060640"/>
            <a:chExt cx="216000" cy="276480"/>
          </a:xfrm>
        </p:grpSpPr>
        <p:sp>
          <p:nvSpPr>
            <p:cNvPr id="455" name=""/>
            <p:cNvSpPr/>
            <p:nvPr/>
          </p:nvSpPr>
          <p:spPr>
            <a:xfrm>
              <a:off x="1979640" y="2060640"/>
              <a:ext cx="21600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79640" y="206064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95280" y="2997360"/>
            <a:ext cx="216000" cy="276480"/>
            <a:chOff x="395280" y="2997360"/>
            <a:chExt cx="216000" cy="276480"/>
          </a:xfrm>
        </p:grpSpPr>
        <p:sp>
          <p:nvSpPr>
            <p:cNvPr id="458" name=""/>
            <p:cNvSpPr/>
            <p:nvPr/>
          </p:nvSpPr>
          <p:spPr>
            <a:xfrm>
              <a:off x="395280" y="2997360"/>
              <a:ext cx="2160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" y="299736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59280" y="2565360"/>
            <a:ext cx="215640" cy="276480"/>
            <a:chOff x="3059280" y="2565360"/>
            <a:chExt cx="215640" cy="276480"/>
          </a:xfrm>
        </p:grpSpPr>
        <p:sp>
          <p:nvSpPr>
            <p:cNvPr id="461" name=""/>
            <p:cNvSpPr/>
            <p:nvPr/>
          </p:nvSpPr>
          <p:spPr>
            <a:xfrm>
              <a:off x="3059280" y="256536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59280" y="256536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276720" y="2060640"/>
            <a:ext cx="215640" cy="276480"/>
            <a:chOff x="3276720" y="2060640"/>
            <a:chExt cx="215640" cy="276480"/>
          </a:xfrm>
        </p:grpSpPr>
        <p:sp>
          <p:nvSpPr>
            <p:cNvPr id="464" name=""/>
            <p:cNvSpPr/>
            <p:nvPr/>
          </p:nvSpPr>
          <p:spPr>
            <a:xfrm>
              <a:off x="3276720" y="206064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6720" y="206064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16360" y="1773360"/>
            <a:ext cx="215640" cy="276480"/>
            <a:chOff x="2916360" y="1773360"/>
            <a:chExt cx="215640" cy="276480"/>
          </a:xfrm>
        </p:grpSpPr>
        <p:sp>
          <p:nvSpPr>
            <p:cNvPr id="467" name=""/>
            <p:cNvSpPr/>
            <p:nvPr/>
          </p:nvSpPr>
          <p:spPr>
            <a:xfrm>
              <a:off x="2916360" y="177336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6360" y="177336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835280" y="2708280"/>
            <a:ext cx="215640" cy="276480"/>
            <a:chOff x="1835280" y="2708280"/>
            <a:chExt cx="215640" cy="276480"/>
          </a:xfrm>
        </p:grpSpPr>
        <p:sp>
          <p:nvSpPr>
            <p:cNvPr id="470" name=""/>
            <p:cNvSpPr/>
            <p:nvPr/>
          </p:nvSpPr>
          <p:spPr>
            <a:xfrm>
              <a:off x="1835280" y="270828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35280" y="270828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87640" y="5445000"/>
            <a:ext cx="216000" cy="276480"/>
            <a:chOff x="2987640" y="5445000"/>
            <a:chExt cx="216000" cy="276480"/>
          </a:xfrm>
        </p:grpSpPr>
        <p:sp>
          <p:nvSpPr>
            <p:cNvPr id="473" name=""/>
            <p:cNvSpPr/>
            <p:nvPr/>
          </p:nvSpPr>
          <p:spPr>
            <a:xfrm>
              <a:off x="2987640" y="5445000"/>
              <a:ext cx="21600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87640" y="544500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54338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990720" cy="676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733920" y="1981080"/>
            <a:ext cx="2361960" cy="177192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5638680" y="1219320"/>
            <a:ext cx="3200400" cy="1295280"/>
            <a:chOff x="5638680" y="1219320"/>
            <a:chExt cx="3200400" cy="1295280"/>
          </a:xfrm>
        </p:grpSpPr>
        <p:sp>
          <p:nvSpPr>
            <p:cNvPr id="479" name=""/>
            <p:cNvSpPr/>
            <p:nvPr/>
          </p:nvSpPr>
          <p:spPr>
            <a:xfrm>
              <a:off x="5638680" y="1219320"/>
              <a:ext cx="3200400" cy="1295280"/>
            </a:xfrm>
            <a:prstGeom prst="cloudCallout">
              <a:avLst>
                <a:gd name="adj1" fmla="val -65027"/>
                <a:gd name="adj2" fmla="val 5318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43600" y="137160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Times New Roman"/>
                </a:rPr>
                <a:t>Да ли постоје правила понашања у саобраћају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514600" y="1676520"/>
            <a:ext cx="1676520" cy="1143000"/>
            <a:chOff x="2514600" y="1676520"/>
            <a:chExt cx="1676520" cy="1143000"/>
          </a:xfrm>
        </p:grpSpPr>
        <p:sp>
          <p:nvSpPr>
            <p:cNvPr id="482" name=""/>
            <p:cNvSpPr/>
            <p:nvPr/>
          </p:nvSpPr>
          <p:spPr>
            <a:xfrm>
              <a:off x="2514600" y="1676520"/>
              <a:ext cx="1676520" cy="1143000"/>
            </a:xfrm>
            <a:prstGeom prst="cloudCallout">
              <a:avLst>
                <a:gd name="adj1" fmla="val 71402"/>
                <a:gd name="adj2" fmla="val 35694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6880" y="190512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Times New Roman"/>
                </a:rPr>
                <a:t>Какав је ово хаос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914400" y="228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егулисање друмског саобраћ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гилисање друмског саобраћај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12193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ашто су битна прави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3200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ако регулишемо саобраћај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9840" y="2043000"/>
            <a:ext cx="90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аобраћајем управљамо да бисмо не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игли на најбржи и најбезбеднији</a:t>
            </a:r>
            <a:r>
              <a:rPr b="1" lang="sr-C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52280" y="4038480"/>
            <a:ext cx="1981440" cy="2334240"/>
            <a:chOff x="152280" y="4038480"/>
            <a:chExt cx="1981440" cy="2334240"/>
          </a:xfrm>
        </p:grpSpPr>
        <p:grpSp>
          <p:nvGrpSpPr>
            <p:cNvPr id="490" name=""/>
            <p:cNvGrpSpPr/>
            <p:nvPr/>
          </p:nvGrpSpPr>
          <p:grpSpPr>
            <a:xfrm>
              <a:off x="457200" y="4038480"/>
              <a:ext cx="1162800" cy="1084320"/>
              <a:chOff x="457200" y="4038480"/>
              <a:chExt cx="1162800" cy="1084320"/>
            </a:xfrm>
          </p:grpSpPr>
          <p:pic>
            <p:nvPicPr>
              <p:cNvPr id="4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4038480"/>
                <a:ext cx="1142640" cy="10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040040" y="47606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200" spc="-1" strike="noStrike">
                    <a:solidFill>
                      <a:srgbClr val="ffffff"/>
                    </a:solidFill>
                    <a:latin typeface="Arial Black"/>
                  </a:rPr>
                  <a:t>ЗОБ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52280" y="51814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Законом о безбедности у саобраћа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286000" y="4191120"/>
            <a:ext cx="2286000" cy="1815840"/>
            <a:chOff x="2286000" y="4191120"/>
            <a:chExt cx="2286000" cy="1815840"/>
          </a:xfrm>
        </p:grpSpPr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2743200" y="4191120"/>
              <a:ext cx="1438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28600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Саобраћајним знац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029200" y="3962520"/>
            <a:ext cx="2057400" cy="2120760"/>
            <a:chOff x="5029200" y="3962520"/>
            <a:chExt cx="2057400" cy="2120760"/>
          </a:xfrm>
        </p:grpSpPr>
        <p:pic>
          <p:nvPicPr>
            <p:cNvPr id="498" name="" descr=""/>
            <p:cNvPicPr/>
            <p:nvPr/>
          </p:nvPicPr>
          <p:blipFill>
            <a:blip r:embed="rId3"/>
            <a:stretch/>
          </p:blipFill>
          <p:spPr>
            <a:xfrm>
              <a:off x="6400800" y="3962520"/>
              <a:ext cx="371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4"/>
            <a:stretch/>
          </p:blipFill>
          <p:spPr>
            <a:xfrm>
              <a:off x="5181480" y="4114800"/>
              <a:ext cx="66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029200" y="52578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Светлосним сигнал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010280" y="3962520"/>
            <a:ext cx="2133720" cy="2059920"/>
            <a:chOff x="7010280" y="3962520"/>
            <a:chExt cx="2133720" cy="2059920"/>
          </a:xfrm>
        </p:grpSpPr>
        <p:pic>
          <p:nvPicPr>
            <p:cNvPr id="502" name="" descr=""/>
            <p:cNvPicPr/>
            <p:nvPr/>
          </p:nvPicPr>
          <p:blipFill>
            <a:blip r:embed="rId5"/>
            <a:stretch/>
          </p:blipFill>
          <p:spPr>
            <a:xfrm>
              <a:off x="7848720" y="3962520"/>
              <a:ext cx="610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010280" y="5257800"/>
              <a:ext cx="2133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Полицајац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</a:rPr>
                <a:t>овлашћено лиц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676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з камиона узмите свако по један папирић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нађите другове са истим саобраћајним з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42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Ви чините једну гру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ме ваше групе је исто као назив саобраћајног знака на вашој цедуљиц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лагалица и глум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71800" y="1143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дела у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-1981080" y="5867280"/>
            <a:ext cx="3038400" cy="44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5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19 0.00069 L 1.12552 0.00069 E">
                                      <p:cBhvr>
                                        <p:cTn id="137" dur="5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датак је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проучите текст који сте доб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направите резиме од 20-30 ре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прави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ако је могућ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графичко-ликовне илустрације текста на бристолу који сте доб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ајте на оној страни бристола која је означена да бисмо могли, на крају, да сложимо нашу слагалиц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ислите где ово примењујете у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покушајте да одглумите ситуа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95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8 0.05966 C 0.09393 0.10659 0.2434 0.15353 0.37969 0.08717 C 0.51597 0.02081 0.69844 -0.26705 0.76215 -0.3378 E">
                                      <p:cBhvr>
                                        <p:cTn id="143" dur="5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6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2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14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095640" cy="18795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219680" y="-14400"/>
            <a:ext cx="375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ретање пеш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04360" y="3357720"/>
            <a:ext cx="28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 трото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04000" y="4149720"/>
            <a:ext cx="3013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 коловоз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ван насеља ( путем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у насељу ( улиц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78520" y="5589720"/>
            <a:ext cx="143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Ноћ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3132360" cy="1710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2952720" cy="19018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708360" y="4149720"/>
            <a:ext cx="503280" cy="57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708360" y="4292640"/>
            <a:ext cx="503280" cy="3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43200" cy="190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979640" y="33336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35280" y="18900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лажење преко колов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08360" y="1341360"/>
            <a:ext cx="51055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ловоз се прелази на обележ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ешачком прелазу и то десном стр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ешачког пре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же се прећи и ван пешачког пре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ко је најближи пешачки прелаз удаљен више од 100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00720" y="83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Важно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3024000" cy="1771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2736720" cy="1706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378936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лаз преко железничке пруге у нивоу п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6453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безбеђен брани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645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обезбеђ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96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96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96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19:10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