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gif" ContentType="image/gif"/>
  <Override PartName="/ppt/media/image55.gif" ContentType="image/gif"/>
  <Override PartName="/ppt/media/image46.jpeg" ContentType="image/jpeg"/>
  <Override PartName="/ppt/media/image48.jpeg" ContentType="image/jpeg"/>
  <Override PartName="/ppt/media/image5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54.gif" ContentType="image/gif"/>
  <Override PartName="/ppt/media/image35.jpeg" ContentType="image/jpeg"/>
  <Override PartName="/ppt/media/image1.jpeg" ContentType="image/jpeg"/>
  <Override PartName="/ppt/media/image23.jpeg" ContentType="image/jpeg"/>
  <Override PartName="/ppt/media/image63.wmf" ContentType="image/x-wmf"/>
  <Override PartName="/ppt/media/image3.png" ContentType="image/png"/>
  <Override PartName="/ppt/media/image17.jpeg" ContentType="image/jpeg"/>
  <Override PartName="/ppt/media/image45.wmf" ContentType="image/x-wmf"/>
  <Override PartName="/ppt/media/image60.gif" ContentType="image/gif"/>
  <Override PartName="/ppt/media/image18.gif" ContentType="image/gif"/>
  <Override PartName="/ppt/media/image62.gif" ContentType="image/gif"/>
  <Override PartName="/ppt/media/image61.gif" ContentType="image/gif"/>
  <Override PartName="/ppt/media/image41.jpeg" ContentType="image/jpeg"/>
  <Override PartName="/ppt/media/image19.gif" ContentType="image/gif"/>
  <Override PartName="/ppt/media/image25.jpeg" ContentType="image/jpeg"/>
  <Override PartName="/ppt/media/image56.gif" ContentType="image/gif"/>
  <Override PartName="/ppt/media/image4.wmf" ContentType="image/x-wmf"/>
  <Override PartName="/ppt/media/image24.jpeg" ContentType="image/jpeg"/>
  <Override PartName="/ppt/media/image21.gif" ContentType="image/gif"/>
  <Override PartName="/ppt/media/image16.gif" ContentType="image/gif"/>
  <Override PartName="/ppt/media/image49.wmf" ContentType="image/x-wmf"/>
  <Override PartName="/ppt/media/image22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1.wmf" ContentType="image/x-wmf"/>
  <Override PartName="/ppt/media/image38.jpeg" ContentType="image/jpeg"/>
  <Override PartName="/ppt/media/image8.jpeg" ContentType="image/jpeg"/>
  <Override PartName="/ppt/media/image39.jpeg" ContentType="image/jpeg"/>
  <Override PartName="/ppt/media/image14.gif" ContentType="image/gif"/>
  <Override PartName="/ppt/media/image13.jpeg" ContentType="image/jpeg"/>
  <Override PartName="/ppt/media/image40.jpeg" ContentType="image/jpeg"/>
  <Override PartName="/ppt/media/image9.gif" ContentType="image/gif"/>
  <Override PartName="/ppt/media/image29.jpeg" ContentType="image/jpeg"/>
  <Override PartName="/ppt/media/image12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20.gif" ContentType="image/gif"/>
  <Override PartName="/ppt/media/image58.gif" ContentType="image/gif"/>
  <Override PartName="/ppt/media/image30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5.gif" ContentType="image/gif"/>
  <Override PartName="/ppt/media/image42.jpeg" ContentType="image/jpeg"/>
  <Override PartName="/ppt/media/image43.gif" ContentType="image/gif"/>
  <Override PartName="/ppt/media/image44.jpeg" ContentType="image/jpeg"/>
  <Override PartName="/ppt/media/image4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6A2-5CCE-489B-9BB7-16A77F9B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6077-15F1-4471-A045-CA146125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C5A-A509-4C87-A60B-02B58485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CFB-8BAB-458B-A8DF-E4A1D64B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3AC1-8DE0-4411-B297-37BD46C3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FCED-77BE-4ADE-9AFD-2A59FC29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13A1-F48F-4952-BF83-28CCF33D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2B33-380A-4866-B5F8-AD90817F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4B56-F0D3-4D7C-A95C-926CE97D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E19F-6358-4791-A1F5-9B95B1CE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9302-7CC9-40A2-953A-9CC75202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C76-FB8E-4281-A6BE-8589B339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DA65-8DE9-4D97-8E79-3979E3C1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26E5-B5BC-471A-9489-930FA614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4CDB-FAEF-41B8-AF2B-F04D5067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B833-37DE-4C7E-BE98-7C8FA70A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D545-B54A-4205-BF43-D9884E41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C8105-0CB3-404B-99C8-519A90A6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AE136-57BD-4F33-BD7D-20DA9B7B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D371D-3659-4850-88C4-29E49D47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B5573-F7DB-4978-97EE-1DAD1CFA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29D8C-270E-4099-9309-63017CF0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24A-878E-4812-AEC3-20A4A937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226C8-AB81-483F-B94D-FC2EDA16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4EFCD-94F2-4E5C-8296-080E0998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E2E9-37E4-477C-9B46-045813CD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A7F8F-A2F6-4BDB-8653-86895113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452C-BB5F-4206-A8EA-833E30D7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7FAF1-B934-4E35-8E63-BADD00D5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86EE4-E04C-4A49-A67F-4520106A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E48CC-F74F-4CE7-B88E-48AC20BD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39C41-FFA4-47D4-A5CF-F7FAFC97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E3BBC-DED9-42F9-B7D5-F5F4F07E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0BF-7487-4CB8-92F1-6B6E1C69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69BFD-526A-4951-A69E-1651A385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57E13-5D2F-44D4-86FC-74578785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42979-2C9B-4A34-8E62-35FB1BD8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E8600-CE8D-4B9E-AFDB-D3197F86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28BD1-C279-47C8-BB96-8547EB0E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09BC9-FB2F-4982-9260-46C8BDD5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59791-C2C0-4372-92B8-6360F144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27B36-09E7-41E5-BAF0-BAAD7B15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CF953-72C6-46B3-9BD8-5575FCB4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4BF-7C4C-4DE7-8C1D-E8835B99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29C-20BE-4D9F-8C76-D173205B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5BB-9EDD-4A2C-B8C1-ED60A5C0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10D-C9F1-4468-BBF2-571E5F19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5A3-2705-432A-9820-BEB2B272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04A2-6D82-4D2B-B54E-696D60C54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5BE4-2CFC-45C4-B421-E02D5F2A36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D338-06F6-4425-99CE-E8B452DFD41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7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653F-9365-4AE8-895E-A227EE97927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15.xml"/><Relationship Id="rId4" Type="http://schemas.openxmlformats.org/officeDocument/2006/relationships/image" Target="../media/image4.wmf"/><Relationship Id="rId5" Type="http://schemas.openxmlformats.org/officeDocument/2006/relationships/slide" Target="slide15.xm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gif"/><Relationship Id="rId4" Type="http://schemas.openxmlformats.org/officeDocument/2006/relationships/image" Target="../media/image4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5.wmf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image" Target="../media/image55.gif"/><Relationship Id="rId6" Type="http://schemas.openxmlformats.org/officeDocument/2006/relationships/image" Target="../media/image55.gif"/><Relationship Id="rId7" Type="http://schemas.openxmlformats.org/officeDocument/2006/relationships/image" Target="../media/image55.gi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10.gif"/><Relationship Id="rId3" Type="http://schemas.openxmlformats.org/officeDocument/2006/relationships/image" Target="../media/image57.png"/><Relationship Id="rId4" Type="http://schemas.openxmlformats.org/officeDocument/2006/relationships/image" Target="../media/image58.gif"/><Relationship Id="rId5" Type="http://schemas.openxmlformats.org/officeDocument/2006/relationships/image" Target="../media/image54.gif"/><Relationship Id="rId6" Type="http://schemas.openxmlformats.org/officeDocument/2006/relationships/image" Target="../media/image59.gif"/><Relationship Id="rId7" Type="http://schemas.openxmlformats.org/officeDocument/2006/relationships/image" Target="../media/image60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image" Target="../media/image55.gif"/><Relationship Id="rId3" Type="http://schemas.openxmlformats.org/officeDocument/2006/relationships/image" Target="../media/image62.gif"/><Relationship Id="rId4" Type="http://schemas.openxmlformats.org/officeDocument/2006/relationships/package" Target="../embeddings/oleObject1.docx"/><Relationship Id="rId5" Type="http://schemas.openxmlformats.org/officeDocument/2006/relationships/image" Target="../media/image63.wmf"/><Relationship Id="rId6" Type="http://schemas.openxmlformats.org/officeDocument/2006/relationships/image" Target="../media/image61.gif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503280" cy="7444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селинка Станковић, ош. “ Десанка Максимовић”, Чоко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49C8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ван Живић, ош. “ Десанка Максимовић”, Чок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агана Леповић, ош. “ Десанка Максимовић”, Чок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хничко образо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гулисање друмског саобраћа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635280" y="5516640"/>
            <a:ext cx="1366920" cy="792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659640" y="5445000"/>
            <a:ext cx="1366920" cy="7923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4572000" y="5661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.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45164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решке које никад не смеш да учиниш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2952720" cy="21351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2879640" cy="19782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4859280" y="1413000"/>
            <a:ext cx="316872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mph" presetID="5" presetSubtype="1">
                                  <p:stCondLst>
                                    <p:cond delay="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indefinite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3" dur="indefinite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4" dur="indefinite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1552680" y="0"/>
            <a:ext cx="7591320" cy="1425600"/>
            <a:chOff x="1552680" y="0"/>
            <a:chExt cx="7591320" cy="1425600"/>
          </a:xfrm>
        </p:grpSpPr>
        <p:sp>
          <p:nvSpPr>
            <p:cNvPr id="539" name=""/>
            <p:cNvSpPr/>
            <p:nvPr/>
          </p:nvSpPr>
          <p:spPr>
            <a:xfrm>
              <a:off x="1552680" y="228600"/>
              <a:ext cx="560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4000" spc="-1" strike="noStrike">
                  <a:solidFill>
                    <a:srgbClr val="000000"/>
                  </a:solidFill>
                  <a:latin typeface="Times New Roman"/>
                </a:rPr>
                <a:t>Бициклисти у саобраћај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0" name=""/>
            <p:cNvGraphicFramePr/>
            <p:nvPr/>
          </p:nvGraphicFramePr>
          <p:xfrm>
            <a:off x="7620120" y="0"/>
            <a:ext cx="1523880" cy="142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0120" y="0"/>
                      <a:ext cx="1523880" cy="14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324000" y="4076640"/>
            <a:ext cx="3962160" cy="22399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2987640" y="907920"/>
            <a:ext cx="3457440" cy="27370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5003640" y="4005360"/>
            <a:ext cx="38862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813320" y="135000"/>
            <a:ext cx="47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Саобраћајни знако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6588000" y="2349360"/>
            <a:ext cx="1524240" cy="5367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5867280" y="836640"/>
            <a:ext cx="2876760" cy="6760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6732720" y="2997360"/>
            <a:ext cx="1170000" cy="5428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6300720" y="1557360"/>
            <a:ext cx="2078280" cy="6760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2160" y="335772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Хоризонтална сигнал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5943600"/>
            <a:ext cx="18288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828800" y="5943600"/>
            <a:ext cx="0" cy="9144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59436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6810480"/>
            <a:ext cx="914400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905120" y="594360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5943600"/>
            <a:ext cx="2362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77120" y="6095880"/>
            <a:ext cx="266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77120" y="6477120"/>
            <a:ext cx="266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477120" y="5715000"/>
            <a:ext cx="266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477120" y="5334120"/>
            <a:ext cx="266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477120" y="4952880"/>
            <a:ext cx="266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0" y="5638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ешачки пре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91320" y="5943600"/>
            <a:ext cx="228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9520" y="60958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топ лин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5400000">
            <a:off x="5115600" y="62730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477120" y="4572000"/>
            <a:ext cx="266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477120" y="4191120"/>
            <a:ext cx="266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0" y="5029200"/>
            <a:ext cx="58672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33920" y="4267080"/>
            <a:ext cx="2057400" cy="457200"/>
          </a:xfrm>
          <a:custGeom>
            <a:avLst/>
            <a:gdLst>
              <a:gd name="textAreaLeft" fmla="*/ 685800 w 2057400"/>
              <a:gd name="textAreaRight" fmla="*/ 1762200 w 205740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5334120"/>
            <a:ext cx="1981080" cy="380880"/>
          </a:xfrm>
          <a:prstGeom prst="rightArrow">
            <a:avLst>
              <a:gd name="adj1" fmla="val 50000"/>
              <a:gd name="adj2" fmla="val 1300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56386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Аутобуско стајалиш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048120" y="54100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Пра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362320" y="4495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кретање л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0880" y="42670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Бициклистичка</a:t>
            </a:r>
            <a:r>
              <a:rPr b="1" lang="sr-C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т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362320" y="373356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5"/>
          <a:stretch/>
        </p:blipFill>
        <p:spPr>
          <a:xfrm>
            <a:off x="1042920" y="836640"/>
            <a:ext cx="2166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31244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2134080" y="268200"/>
            <a:ext cx="56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Саобраћајни полицаја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2448000" cy="162108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533520" y="5638680"/>
            <a:ext cx="1600200" cy="85896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7086600" y="5105520"/>
            <a:ext cx="1333440" cy="1047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2743200" y="5029200"/>
            <a:ext cx="3333600" cy="1582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7740720" y="4508640"/>
            <a:ext cx="6786720" cy="596880"/>
            <a:chOff x="7740720" y="4508640"/>
            <a:chExt cx="6786720" cy="596880"/>
          </a:xfrm>
        </p:grpSpPr>
        <p:sp>
          <p:nvSpPr>
            <p:cNvPr id="587" name=""/>
            <p:cNvSpPr/>
            <p:nvPr/>
          </p:nvSpPr>
          <p:spPr>
            <a:xfrm>
              <a:off x="9061560" y="4508640"/>
              <a:ext cx="546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200" spc="-1" strike="noStrike">
                  <a:solidFill>
                    <a:srgbClr val="000000"/>
                  </a:solidFill>
                  <a:latin typeface="Times New Roman"/>
                </a:rPr>
                <a:t>Возила са првенством пролаз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8" name=""/>
            <p:cNvGraphicFramePr/>
            <p:nvPr/>
          </p:nvGraphicFramePr>
          <p:xfrm>
            <a:off x="7740720" y="4643640"/>
            <a:ext cx="1371600" cy="461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40720" y="4643640"/>
                      <a:ext cx="1371600" cy="46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0" name=""/>
          <p:cNvSpPr/>
          <p:nvPr/>
        </p:nvSpPr>
        <p:spPr>
          <a:xfrm>
            <a:off x="826920" y="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Правила саобраћаја на раскрсн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7"/>
          <a:stretch/>
        </p:blipFill>
        <p:spPr>
          <a:xfrm>
            <a:off x="3348000" y="981000"/>
            <a:ext cx="2376360" cy="16606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8"/>
          <a:stretch/>
        </p:blipFill>
        <p:spPr>
          <a:xfrm>
            <a:off x="3276720" y="2852640"/>
            <a:ext cx="2447640" cy="16718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9"/>
          <a:stretch/>
        </p:blipFill>
        <p:spPr>
          <a:xfrm>
            <a:off x="6227640" y="2852640"/>
            <a:ext cx="25210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96 0.01942 L -1.00868 0.01965 E">
                                      <p:cBhvr>
                                        <p:cTn id="288" dur="2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ЖЕ РАДА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водни део: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ратко обнављање наученог и загревање за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лавни де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гра  и проглашење побед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јава и саопштавање правила игре: “ Пантомима 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јава и саопштавање правила игре: “ Ја саобраћајац 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гра  и проглашење побед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Завршни део: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пуштање уз музику и задавање домаћег задатка за родитељ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6477120" y="4952880"/>
          <a:ext cx="1828800" cy="142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1828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5257800" cy="17240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410080" cy="17762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6019920" y="1600200"/>
            <a:ext cx="2819160" cy="1741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4"/>
          <a:stretch/>
        </p:blipFill>
        <p:spPr>
          <a:xfrm>
            <a:off x="6019920" y="4267080"/>
            <a:ext cx="2666880" cy="186084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152280" y="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 Black"/>
              </a:rPr>
              <a:t>Хајде да се сетимо правила првенс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 Black"/>
              </a:rPr>
              <a:t>пролаза на раскрсниц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33520" y="34290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Black"/>
              </a:rPr>
              <a:t>Правило: десне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00400" y="342900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Black"/>
              </a:rPr>
              <a:t>Возило са правом пр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324480" y="34290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Black"/>
              </a:rPr>
              <a:t>Саобраћај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66680" y="63244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Black"/>
              </a:rPr>
              <a:t>Саобраћајни зна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400800" y="6248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Black"/>
              </a:rPr>
              <a:t>Семаф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1752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0574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905120" y="2895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1752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76920" y="1828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895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29000" y="2743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077320" y="28195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86600" y="3048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05720" y="1600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305920" y="19051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248520" y="2133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48006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33520" y="5105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914400" y="4495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76720" y="4876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4343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038480" y="57150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105520" y="46483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001000" y="56386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34320" y="5791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238880" y="4343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153280" y="4572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95880" y="48769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6000"/>
                            </p:stCondLst>
                            <p:childTnLst>
                              <p:par>
                                <p:cTn id="3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8000"/>
                            </p:stCondLst>
                            <p:childTnLst>
                              <p:par>
                                <p:cTn id="4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авила игре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Ја, саобраћаја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вака група на својој макети поставља возила и обележава смер њиховог крет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 папиру записује своје реше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рупа (Раскрсница)  прва решава раскрсницу на макети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колико успешно реши задатак заузима макету 1 и поставља свој задатак, а група уз макету 1 решава задатак на макети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колико не реши тачно задатак испада из такмич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 такмичења испада и група која је поставила задатак, а није га успешно реш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вака група има могућност да брани своје решење, а коначан суд даје настав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бедник је она група која остане послед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ланови победничке екипе добијају пет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22320"/>
            <a:ext cx="914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4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4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4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509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40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500"/>
                            </p:stCondLst>
                            <p:childTnLst>
                              <p:par>
                                <p:cTn id="517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500"/>
                            </p:stCondLst>
                            <p:childTnLst>
                              <p:par>
                                <p:cTn id="525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3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400" fill="hold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400" fill="hold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500"/>
                            </p:stCondLst>
                            <p:childTnLst>
                              <p:par>
                                <p:cTn id="549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"/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400" fill="hold"/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400" fill="hold"/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6858000" y="2895480"/>
            <a:ext cx="1295280" cy="5335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638680" y="4191120"/>
            <a:ext cx="1295640" cy="5331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733920" y="4952880"/>
            <a:ext cx="1295280" cy="5335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752480" y="4191120"/>
            <a:ext cx="1295640" cy="5331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0880" y="2819520"/>
            <a:ext cx="1295640" cy="5331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886200" y="1295280"/>
            <a:ext cx="1600200" cy="7621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2895480" y="990720"/>
            <a:ext cx="1629000" cy="98100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7391520" y="3505320"/>
            <a:ext cx="618840" cy="59040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6095880" y="4876920"/>
            <a:ext cx="619200" cy="5904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4"/>
          <a:stretch/>
        </p:blipFill>
        <p:spPr>
          <a:xfrm>
            <a:off x="4191120" y="5562720"/>
            <a:ext cx="618840" cy="5904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5"/>
          <a:stretch/>
        </p:blipFill>
        <p:spPr>
          <a:xfrm>
            <a:off x="2057400" y="4724280"/>
            <a:ext cx="619200" cy="5907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619200" cy="5907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7"/>
          <a:stretch/>
        </p:blipFill>
        <p:spPr>
          <a:xfrm>
            <a:off x="6172200" y="1143000"/>
            <a:ext cx="619200" cy="59040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7238880" y="838080"/>
            <a:ext cx="1905120" cy="990720"/>
          </a:xfrm>
          <a:prstGeom prst="wedgeEllipseCallout">
            <a:avLst>
              <a:gd name="adj1" fmla="val -15000"/>
              <a:gd name="adj2" fmla="val 70032"/>
            </a:avLst>
          </a:prstGeom>
          <a:gradFill rotWithShape="0">
            <a:gsLst>
              <a:gs pos="0">
                <a:srgbClr val="66c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ачно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648320" y="2590920"/>
            <a:ext cx="1904760" cy="990360"/>
          </a:xfrm>
          <a:prstGeom prst="wedgeEllipseCallout">
            <a:avLst>
              <a:gd name="adj1" fmla="val 89750"/>
              <a:gd name="adj2" fmla="val 52884"/>
            </a:avLst>
          </a:prstGeom>
          <a:gradFill rotWithShape="0">
            <a:gsLst>
              <a:gs pos="0">
                <a:srgbClr val="66c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ачно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00400" y="2438280"/>
            <a:ext cx="1905120" cy="990720"/>
          </a:xfrm>
          <a:prstGeom prst="wedgeEllipseCallout">
            <a:avLst>
              <a:gd name="adj1" fmla="val 89750"/>
              <a:gd name="adj2" fmla="val 52884"/>
            </a:avLst>
          </a:prstGeom>
          <a:gradFill rotWithShape="0">
            <a:gsLst>
              <a:gs pos="0">
                <a:srgbClr val="66c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ачно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629400" y="5867280"/>
            <a:ext cx="2514600" cy="990720"/>
          </a:xfrm>
          <a:prstGeom prst="wedgeEllipseCallout">
            <a:avLst>
              <a:gd name="adj1" fmla="val -52337"/>
              <a:gd name="adj2" fmla="val -124680"/>
            </a:avLst>
          </a:prstGeom>
          <a:gradFill rotWithShape="0">
            <a:gsLst>
              <a:gs pos="0">
                <a:srgbClr val="66c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р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267080" y="5867280"/>
            <a:ext cx="2514600" cy="990720"/>
          </a:xfrm>
          <a:prstGeom prst="wedgeEllipseCallout">
            <a:avLst>
              <a:gd name="adj1" fmla="val -34407"/>
              <a:gd name="adj2" fmla="val -51444"/>
            </a:avLst>
          </a:prstGeom>
          <a:gradFill rotWithShape="0">
            <a:gsLst>
              <a:gs pos="0">
                <a:srgbClr val="66c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р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43200" y="1522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Ја, саобраћаја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28800" y="2666880"/>
            <a:ext cx="2514600" cy="990720"/>
          </a:xfrm>
          <a:prstGeom prst="wedgeEllipseCallout">
            <a:avLst>
              <a:gd name="adj1" fmla="val 34847"/>
              <a:gd name="adj2" fmla="val 79004"/>
            </a:avLst>
          </a:prstGeom>
          <a:gradFill rotWithShape="0">
            <a:gsLst>
              <a:gs pos="0">
                <a:srgbClr val="66c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р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31214E-007 L 0.10782 0.16786 E">
                                      <p:cBhvr>
                                        <p:cTn id="561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68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500"/>
                            </p:stCondLst>
                            <p:childTnLst>
                              <p:par>
                                <p:cTn id="5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82 0.16787 C 0.10921 0.16394 0.11059 0.16024 0.13473 0.16394 C 0.15886 0.1674 0.24671 0.15885 0.25226 0.18914 C 0.25782 0.21943 0.18316 0.32024 0.16806 0.34636 E">
                                      <p:cBhvr>
                                        <p:cTn id="572" dur="3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77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138 L -0.15834 3.98844E-006 E">
                                      <p:cBhvr>
                                        <p:cTn id="580" dur="3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7500"/>
                            </p:stCondLst>
                            <p:childTnLst>
                              <p:par>
                                <p:cTn id="5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86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92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56647E-006 C 0.10226 0.04324 0.20469 0.08671 0.23333 0.00208 C 0.26198 -0.08254 0.20799 -0.41665 0.17153 -0.50751 C 0.13507 -0.59838 0.07465 -0.57087 0.01441 -0.54335 E">
                                      <p:cBhvr>
                                        <p:cTn id="595" dur="3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834 -3.52601E-006 C -0.24132 -0.01133 -0.32413 -0.02266 -0.35816 -0.00485 C -0.39219 0.01341 -0.36233 0.09018 -0.3632 0.10937 E">
                                      <p:cBhvr>
                                        <p:cTn id="598" dur="2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04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8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10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4500"/>
                            </p:stCondLst>
                            <p:childTnLst>
                              <p:par>
                                <p:cTn id="6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1.79191E-006 C 0.1894 0.06266 0.37899 0.12578 0.45381 0.02312 C 0.52864 -0.07907 0.47343 -0.50543 0.44913 -0.61503 C 0.42482 -0.72462 0.33142 -0.63075 0.30781 -0.63399 E">
                                      <p:cBhvr>
                                        <p:cTn id="614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500"/>
                            </p:stCondLst>
                            <p:childTnLst>
                              <p:par>
                                <p:cTn id="6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32 0.10936 C -0.36355 0.07353 -0.36372 0.03769 -0.39809 0.0141 C -0.43247 -0.00948 -0.54098 -0.02474 -0.56945 -0.03237 E">
                                      <p:cBhvr>
                                        <p:cTn id="617" dur="2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"/>
          <p:cNvGrpSpPr/>
          <p:nvPr/>
        </p:nvGrpSpPr>
        <p:grpSpPr>
          <a:xfrm>
            <a:off x="1905120" y="762120"/>
            <a:ext cx="1752480" cy="304560"/>
            <a:chOff x="1905120" y="762120"/>
            <a:chExt cx="1752480" cy="304560"/>
          </a:xfrm>
        </p:grpSpPr>
        <p:sp>
          <p:nvSpPr>
            <p:cNvPr id="660" name=""/>
            <p:cNvSpPr/>
            <p:nvPr/>
          </p:nvSpPr>
          <p:spPr>
            <a:xfrm>
              <a:off x="1905120" y="762120"/>
              <a:ext cx="17524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057400" y="914400"/>
              <a:ext cx="15228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438280" y="914400"/>
              <a:ext cx="15264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895480" y="914400"/>
              <a:ext cx="15264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352680" y="914400"/>
              <a:ext cx="15264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3657600" y="304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657600" y="42670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86400" y="304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486400" y="4343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486400" y="43434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562720" y="25146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80880" y="2514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0880" y="42670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98520" cy="56196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1981080" y="5181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3"/>
          <a:stretch/>
        </p:blipFill>
        <p:spPr>
          <a:xfrm>
            <a:off x="2819520" y="1676520"/>
            <a:ext cx="390240" cy="75240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4"/>
          <a:stretch/>
        </p:blipFill>
        <p:spPr>
          <a:xfrm>
            <a:off x="2819520" y="114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5"/>
          <a:stretch/>
        </p:blipFill>
        <p:spPr>
          <a:xfrm>
            <a:off x="3581280" y="2895480"/>
            <a:ext cx="1981440" cy="98136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6"/>
          <a:stretch/>
        </p:blipFill>
        <p:spPr>
          <a:xfrm>
            <a:off x="1981080" y="5867280"/>
            <a:ext cx="700200" cy="762120"/>
          </a:xfrm>
          <a:prstGeom prst="rect">
            <a:avLst/>
          </a:prstGeom>
          <a:ln w="0">
            <a:noFill/>
          </a:ln>
        </p:spPr>
      </p:pic>
      <p:grpSp>
        <p:nvGrpSpPr>
          <p:cNvPr id="679" name=""/>
          <p:cNvGrpSpPr/>
          <p:nvPr/>
        </p:nvGrpSpPr>
        <p:grpSpPr>
          <a:xfrm>
            <a:off x="0" y="0"/>
            <a:ext cx="1981080" cy="1295280"/>
            <a:chOff x="0" y="0"/>
            <a:chExt cx="1981080" cy="1295280"/>
          </a:xfrm>
        </p:grpSpPr>
        <p:sp>
          <p:nvSpPr>
            <p:cNvPr id="680" name=""/>
            <p:cNvSpPr/>
            <p:nvPr/>
          </p:nvSpPr>
          <p:spPr>
            <a:xfrm>
              <a:off x="0" y="0"/>
              <a:ext cx="1981080" cy="1295280"/>
            </a:xfrm>
            <a:prstGeom prst="wedgeEllipseCallout">
              <a:avLst>
                <a:gd name="adj1" fmla="val -800"/>
                <a:gd name="adj2" fmla="val 773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320" y="304920"/>
              <a:ext cx="1904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800" spc="-1" strike="noStrike">
                  <a:solidFill>
                    <a:srgbClr val="000000"/>
                  </a:solidFill>
                  <a:latin typeface="Times New Roman"/>
                </a:rPr>
                <a:t>Погодили   сте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990720" y="2743200"/>
            <a:ext cx="1676160" cy="1371600"/>
            <a:chOff x="990720" y="2743200"/>
            <a:chExt cx="1676160" cy="1371600"/>
          </a:xfrm>
        </p:grpSpPr>
        <p:sp>
          <p:nvSpPr>
            <p:cNvPr id="683" name=""/>
            <p:cNvSpPr/>
            <p:nvPr/>
          </p:nvSpPr>
          <p:spPr>
            <a:xfrm>
              <a:off x="990720" y="396252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90720" y="365760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990720" y="3352680"/>
              <a:ext cx="16761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90720" y="304812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90720" y="274320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8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693720" cy="847800"/>
          </a:xfrm>
          <a:prstGeom prst="rect">
            <a:avLst/>
          </a:prstGeom>
          <a:ln w="0">
            <a:noFill/>
          </a:ln>
        </p:spPr>
      </p:pic>
      <p:grpSp>
        <p:nvGrpSpPr>
          <p:cNvPr id="689" name=""/>
          <p:cNvGrpSpPr/>
          <p:nvPr/>
        </p:nvGrpSpPr>
        <p:grpSpPr>
          <a:xfrm>
            <a:off x="6248520" y="2743200"/>
            <a:ext cx="1676160" cy="1371600"/>
            <a:chOff x="6248520" y="2743200"/>
            <a:chExt cx="1676160" cy="1371600"/>
          </a:xfrm>
        </p:grpSpPr>
        <p:sp>
          <p:nvSpPr>
            <p:cNvPr id="690" name=""/>
            <p:cNvSpPr/>
            <p:nvPr/>
          </p:nvSpPr>
          <p:spPr>
            <a:xfrm>
              <a:off x="6248520" y="396252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48520" y="365760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248520" y="3352680"/>
              <a:ext cx="16761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48520" y="304812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48520" y="274320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962520" y="228600"/>
            <a:ext cx="1371600" cy="1676160"/>
            <a:chOff x="3962520" y="228600"/>
            <a:chExt cx="1371600" cy="1676160"/>
          </a:xfrm>
        </p:grpSpPr>
        <p:sp>
          <p:nvSpPr>
            <p:cNvPr id="696" name=""/>
            <p:cNvSpPr/>
            <p:nvPr/>
          </p:nvSpPr>
          <p:spPr>
            <a:xfrm rot="5400000">
              <a:off x="3200400" y="99036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5400000">
              <a:off x="3505320" y="99036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5400000">
              <a:off x="3810240" y="990360"/>
              <a:ext cx="16761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4114800" y="99036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5400000">
              <a:off x="4419720" y="99036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886200" y="5181480"/>
            <a:ext cx="1371600" cy="1676160"/>
            <a:chOff x="3886200" y="5181480"/>
            <a:chExt cx="1371600" cy="1676160"/>
          </a:xfrm>
        </p:grpSpPr>
        <p:sp>
          <p:nvSpPr>
            <p:cNvPr id="702" name=""/>
            <p:cNvSpPr/>
            <p:nvPr/>
          </p:nvSpPr>
          <p:spPr>
            <a:xfrm rot="5400000">
              <a:off x="3124080" y="594324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5400000">
              <a:off x="3429000" y="594324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5400000">
              <a:off x="3733920" y="5943240"/>
              <a:ext cx="16761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5400000">
              <a:off x="4038480" y="594324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5400000">
              <a:off x="4343400" y="594324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715000" y="5257800"/>
            <a:ext cx="1752480" cy="304920"/>
            <a:chOff x="5715000" y="5257800"/>
            <a:chExt cx="1752480" cy="304920"/>
          </a:xfrm>
        </p:grpSpPr>
        <p:sp>
          <p:nvSpPr>
            <p:cNvPr id="708" name=""/>
            <p:cNvSpPr/>
            <p:nvPr/>
          </p:nvSpPr>
          <p:spPr>
            <a:xfrm>
              <a:off x="5715000" y="5257800"/>
              <a:ext cx="1752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67280" y="5410440"/>
              <a:ext cx="15228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48160" y="541044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05360" y="541044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62560" y="541044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5944680" y="15228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антомим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6324120" y="762120"/>
            <a:ext cx="304920" cy="1752480"/>
            <a:chOff x="6324120" y="762120"/>
            <a:chExt cx="304920" cy="1752480"/>
          </a:xfrm>
        </p:grpSpPr>
        <p:sp>
          <p:nvSpPr>
            <p:cNvPr id="715" name=""/>
            <p:cNvSpPr/>
            <p:nvPr/>
          </p:nvSpPr>
          <p:spPr>
            <a:xfrm rot="5400000">
              <a:off x="5600160" y="1485720"/>
              <a:ext cx="1752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5400000">
              <a:off x="6362280" y="952560"/>
              <a:ext cx="15228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5400000">
              <a:off x="6361920" y="133344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5400000">
              <a:off x="6361920" y="179064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5400000">
              <a:off x="6361920" y="2247840"/>
              <a:ext cx="15264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2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500"/>
                            </p:stCondLst>
                            <p:childTnLst>
                              <p:par>
                                <p:cTn id="6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6.93642E-007 L -0.06667 -0.39954 E">
                                      <p:cBhvr>
                                        <p:cTn id="632" dur="2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бројте у којим ситуацијама сте учесници у саобраћају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 идем у школу пеш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 возим би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 се возим аутобу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 путујем с татом аутомоби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 са дедом возим трактор или запрежна 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 ме ујак вози на мот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719280" cy="7128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7315200" y="4343400"/>
            <a:ext cx="828720" cy="1143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4419720" y="3048120"/>
            <a:ext cx="1460520" cy="6681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5715000" y="3886200"/>
            <a:ext cx="898560" cy="538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5"/>
          <a:stretch/>
        </p:blipFill>
        <p:spPr>
          <a:xfrm>
            <a:off x="4724280" y="571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6"/>
          <a:stretch/>
        </p:blipFill>
        <p:spPr>
          <a:xfrm>
            <a:off x="4724280" y="14479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657600" y="304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486400" y="304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562720" y="25146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80880" y="2514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143000" y="42670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990720" y="2743200"/>
            <a:ext cx="1676160" cy="1371600"/>
            <a:chOff x="990720" y="2743200"/>
            <a:chExt cx="1676160" cy="1371600"/>
          </a:xfrm>
        </p:grpSpPr>
        <p:sp>
          <p:nvSpPr>
            <p:cNvPr id="728" name=""/>
            <p:cNvSpPr/>
            <p:nvPr/>
          </p:nvSpPr>
          <p:spPr>
            <a:xfrm>
              <a:off x="990720" y="396252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990720" y="365760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0720" y="3352680"/>
              <a:ext cx="16761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90720" y="304812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0720" y="274320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248520" y="2743200"/>
            <a:ext cx="1676160" cy="1371600"/>
            <a:chOff x="6248520" y="2743200"/>
            <a:chExt cx="1676160" cy="1371600"/>
          </a:xfrm>
        </p:grpSpPr>
        <p:sp>
          <p:nvSpPr>
            <p:cNvPr id="734" name=""/>
            <p:cNvSpPr/>
            <p:nvPr/>
          </p:nvSpPr>
          <p:spPr>
            <a:xfrm>
              <a:off x="6248520" y="396252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48520" y="365760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248520" y="3352680"/>
              <a:ext cx="16761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48520" y="304812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48520" y="2743200"/>
              <a:ext cx="1676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1143000" y="50292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60199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304920" y="4266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143000" y="4267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-3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114800" y="2895480"/>
            <a:ext cx="533520" cy="533520"/>
          </a:xfrm>
          <a:custGeom>
            <a:avLst/>
            <a:gdLst>
              <a:gd name="textAreaLeft" fmla="*/ 192240 w 533520"/>
              <a:gd name="textAreaRight" fmla="*/ 397080 w 533520"/>
              <a:gd name="textAreaTop" fmla="*/ 367200 h 533520"/>
              <a:gd name="textAreaBottom" fmla="*/ 3970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0398"/>
                </a:moveTo>
                <a:lnTo>
                  <a:pt x="14869" y="20398"/>
                </a:lnTo>
                <a:lnTo>
                  <a:pt x="14869" y="7779"/>
                </a:lnTo>
                <a:lnTo>
                  <a:pt x="9340" y="7779"/>
                </a:lnTo>
                <a:lnTo>
                  <a:pt x="15470" y="0"/>
                </a:lnTo>
                <a:lnTo>
                  <a:pt x="21600" y="7779"/>
                </a:lnTo>
                <a:lnTo>
                  <a:pt x="16071" y="7779"/>
                </a:lnTo>
                <a:lnTo>
                  <a:pt x="160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3352680"/>
            <a:ext cx="3808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352680" y="3352680"/>
            <a:ext cx="3812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rot="5400000">
            <a:off x="4343400" y="2438280"/>
            <a:ext cx="3808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rot="5400000">
            <a:off x="4343040" y="1904760"/>
            <a:ext cx="3812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95680" y="106668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10" stAng="10800000" swAng="5400000"/>
                <a:lnTo>
                  <a:pt x="12450" y="4650"/>
                </a:lnTo>
                <a:lnTo>
                  <a:pt x="12450" y="0"/>
                </a:lnTo>
                <a:lnTo>
                  <a:pt x="21600" y="6079"/>
                </a:lnTo>
                <a:lnTo>
                  <a:pt x="12450" y="12158"/>
                </a:lnTo>
                <a:lnTo>
                  <a:pt x="12450" y="7508"/>
                </a:lnTo>
                <a:lnTo>
                  <a:pt x="12427" y="7508"/>
                </a:lnTo>
                <a:arcTo wR="9569" hR="4652" stAng="16200000" swAng="-5400000"/>
                <a:lnTo>
                  <a:pt x="28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548640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4852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486400" y="8380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1523880" y="3591000"/>
            <a:ext cx="762120" cy="64764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7086600" y="1143000"/>
            <a:ext cx="619200" cy="5904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3"/>
          <a:stretch/>
        </p:blipFill>
        <p:spPr>
          <a:xfrm>
            <a:off x="304920" y="60948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2209680" y="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Моји су друг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7524720" y="5902200"/>
          <a:ext cx="1224000" cy="955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24720" y="5902200"/>
                    <a:ext cx="122400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0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7621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4104E-006 L 0.31528 0.00278 E">
                                      <p:cBhvr>
                                        <p:cTn id="638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528 0.00278 L 0.33889 -0.38543 E">
                                      <p:cBhvr>
                                        <p:cTn id="641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000"/>
                            </p:stCondLst>
                            <p:childTnLst>
                              <p:par>
                                <p:cTn id="6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89 -0.38543 L 0.57222 -0.38543 E">
                                      <p:cBhvr>
                                        <p:cTn id="644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000"/>
                            </p:stCondLst>
                            <p:childTnLst>
                              <p:par>
                                <p:cTn id="646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500"/>
                            </p:stCondLst>
                            <p:childTnLst>
                              <p:par>
                                <p:cTn id="6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7000"/>
                            </p:stCondLst>
                            <p:childTnLst>
                              <p:par>
                                <p:cTn id="6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4798E-006 L -0.00902 0.60323 E">
                                      <p:cBhvr>
                                        <p:cTn id="655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9000"/>
                            </p:stCondLst>
                            <p:childTnLst>
                              <p:par>
                                <p:cTn id="6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02 0.60323 L -0.72569 0.5926 E">
                                      <p:cBhvr>
                                        <p:cTn id="658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556000" y="1628640"/>
            <a:ext cx="3962160" cy="3505320"/>
            <a:chOff x="2556000" y="1628640"/>
            <a:chExt cx="3962160" cy="3505320"/>
          </a:xfrm>
        </p:grpSpPr>
        <p:sp>
          <p:nvSpPr>
            <p:cNvPr id="764" name=""/>
            <p:cNvSpPr/>
            <p:nvPr/>
          </p:nvSpPr>
          <p:spPr>
            <a:xfrm>
              <a:off x="2556000" y="1628640"/>
              <a:ext cx="3962160" cy="35053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36880" y="2771640"/>
              <a:ext cx="3352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Times New Roman"/>
                </a:rPr>
                <a:t>STOP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577600" y="301680"/>
            <a:ext cx="39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Основни појмо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90600" y="1441440"/>
            <a:ext cx="3658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лов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ловозна т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обраћајна т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ото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е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ешачки пре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7-Бицикл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8-Бициклистичка ст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52280" y="4127400"/>
            <a:ext cx="3505320" cy="22640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3313080" cy="2305080"/>
          </a:xfrm>
          <a:prstGeom prst="rect">
            <a:avLst/>
          </a:prstGeom>
          <a:ln w="0">
            <a:noFill/>
          </a:ln>
        </p:spPr>
      </p:pic>
      <p:grpSp>
        <p:nvGrpSpPr>
          <p:cNvPr id="451" name=""/>
          <p:cNvGrpSpPr/>
          <p:nvPr/>
        </p:nvGrpSpPr>
        <p:grpSpPr>
          <a:xfrm>
            <a:off x="2268360" y="1916280"/>
            <a:ext cx="216000" cy="276480"/>
            <a:chOff x="2268360" y="1916280"/>
            <a:chExt cx="216000" cy="276480"/>
          </a:xfrm>
        </p:grpSpPr>
        <p:sp>
          <p:nvSpPr>
            <p:cNvPr id="452" name=""/>
            <p:cNvSpPr/>
            <p:nvPr/>
          </p:nvSpPr>
          <p:spPr>
            <a:xfrm>
              <a:off x="2268360" y="1916280"/>
              <a:ext cx="216000" cy="23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68360" y="1916280"/>
              <a:ext cx="2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79640" y="2060640"/>
            <a:ext cx="216000" cy="276480"/>
            <a:chOff x="1979640" y="2060640"/>
            <a:chExt cx="216000" cy="276480"/>
          </a:xfrm>
        </p:grpSpPr>
        <p:sp>
          <p:nvSpPr>
            <p:cNvPr id="455" name=""/>
            <p:cNvSpPr/>
            <p:nvPr/>
          </p:nvSpPr>
          <p:spPr>
            <a:xfrm>
              <a:off x="1979640" y="2060640"/>
              <a:ext cx="216000" cy="23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79640" y="2060640"/>
              <a:ext cx="2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95280" y="2997360"/>
            <a:ext cx="216000" cy="276480"/>
            <a:chOff x="395280" y="2997360"/>
            <a:chExt cx="216000" cy="276480"/>
          </a:xfrm>
        </p:grpSpPr>
        <p:sp>
          <p:nvSpPr>
            <p:cNvPr id="458" name=""/>
            <p:cNvSpPr/>
            <p:nvPr/>
          </p:nvSpPr>
          <p:spPr>
            <a:xfrm>
              <a:off x="395280" y="2997360"/>
              <a:ext cx="216000" cy="23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5280" y="2997360"/>
              <a:ext cx="2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059280" y="2565360"/>
            <a:ext cx="215640" cy="276480"/>
            <a:chOff x="3059280" y="2565360"/>
            <a:chExt cx="215640" cy="276480"/>
          </a:xfrm>
        </p:grpSpPr>
        <p:sp>
          <p:nvSpPr>
            <p:cNvPr id="461" name=""/>
            <p:cNvSpPr/>
            <p:nvPr/>
          </p:nvSpPr>
          <p:spPr>
            <a:xfrm>
              <a:off x="3059280" y="2565360"/>
              <a:ext cx="215640" cy="23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59280" y="2565360"/>
              <a:ext cx="2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276720" y="2060640"/>
            <a:ext cx="215640" cy="276480"/>
            <a:chOff x="3276720" y="2060640"/>
            <a:chExt cx="215640" cy="276480"/>
          </a:xfrm>
        </p:grpSpPr>
        <p:sp>
          <p:nvSpPr>
            <p:cNvPr id="464" name=""/>
            <p:cNvSpPr/>
            <p:nvPr/>
          </p:nvSpPr>
          <p:spPr>
            <a:xfrm>
              <a:off x="3276720" y="2060640"/>
              <a:ext cx="215640" cy="23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76720" y="2060640"/>
              <a:ext cx="2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16360" y="1773360"/>
            <a:ext cx="215640" cy="276480"/>
            <a:chOff x="2916360" y="1773360"/>
            <a:chExt cx="215640" cy="276480"/>
          </a:xfrm>
        </p:grpSpPr>
        <p:sp>
          <p:nvSpPr>
            <p:cNvPr id="467" name=""/>
            <p:cNvSpPr/>
            <p:nvPr/>
          </p:nvSpPr>
          <p:spPr>
            <a:xfrm>
              <a:off x="2916360" y="1773360"/>
              <a:ext cx="215640" cy="23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6360" y="1773360"/>
              <a:ext cx="2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835280" y="2708280"/>
            <a:ext cx="215640" cy="276480"/>
            <a:chOff x="1835280" y="2708280"/>
            <a:chExt cx="215640" cy="276480"/>
          </a:xfrm>
        </p:grpSpPr>
        <p:sp>
          <p:nvSpPr>
            <p:cNvPr id="470" name=""/>
            <p:cNvSpPr/>
            <p:nvPr/>
          </p:nvSpPr>
          <p:spPr>
            <a:xfrm>
              <a:off x="1835280" y="2708280"/>
              <a:ext cx="215640" cy="23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835280" y="2708280"/>
              <a:ext cx="2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987640" y="5445000"/>
            <a:ext cx="216000" cy="276480"/>
            <a:chOff x="2987640" y="5445000"/>
            <a:chExt cx="216000" cy="276480"/>
          </a:xfrm>
        </p:grpSpPr>
        <p:sp>
          <p:nvSpPr>
            <p:cNvPr id="473" name=""/>
            <p:cNvSpPr/>
            <p:nvPr/>
          </p:nvSpPr>
          <p:spPr>
            <a:xfrm>
              <a:off x="2987640" y="5445000"/>
              <a:ext cx="216000" cy="23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87640" y="5445000"/>
              <a:ext cx="2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54338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990720" cy="676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3733920" y="1981080"/>
            <a:ext cx="2361960" cy="177192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5638680" y="1219320"/>
            <a:ext cx="3200400" cy="1295280"/>
            <a:chOff x="5638680" y="1219320"/>
            <a:chExt cx="3200400" cy="1295280"/>
          </a:xfrm>
        </p:grpSpPr>
        <p:sp>
          <p:nvSpPr>
            <p:cNvPr id="479" name=""/>
            <p:cNvSpPr/>
            <p:nvPr/>
          </p:nvSpPr>
          <p:spPr>
            <a:xfrm>
              <a:off x="5638680" y="1219320"/>
              <a:ext cx="3200400" cy="1295280"/>
            </a:xfrm>
            <a:prstGeom prst="cloudCallout">
              <a:avLst>
                <a:gd name="adj1" fmla="val -65027"/>
                <a:gd name="adj2" fmla="val 5318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943600" y="1371600"/>
              <a:ext cx="27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Times New Roman"/>
                </a:rPr>
                <a:t>Да ли постоје правила понашања у саобраћају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514600" y="1676520"/>
            <a:ext cx="1676520" cy="1143000"/>
            <a:chOff x="2514600" y="1676520"/>
            <a:chExt cx="1676520" cy="1143000"/>
          </a:xfrm>
        </p:grpSpPr>
        <p:sp>
          <p:nvSpPr>
            <p:cNvPr id="482" name=""/>
            <p:cNvSpPr/>
            <p:nvPr/>
          </p:nvSpPr>
          <p:spPr>
            <a:xfrm>
              <a:off x="2514600" y="1676520"/>
              <a:ext cx="1676520" cy="1143000"/>
            </a:xfrm>
            <a:prstGeom prst="cloudCallout">
              <a:avLst>
                <a:gd name="adj1" fmla="val 71402"/>
                <a:gd name="adj2" fmla="val 35694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66880" y="1905120"/>
              <a:ext cx="1447920" cy="6426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Times New Roman"/>
                </a:rPr>
                <a:t>Какав је ово хаос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914400" y="228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Регулисање друмског саобраћ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3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3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500"/>
                            </p:stCondLst>
                            <p:childTnLst>
                              <p:par>
                                <p:cTn id="75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гилисање друмског саобраћај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"/>
          <p:cNvSpPr/>
          <p:nvPr/>
        </p:nvSpPr>
        <p:spPr>
          <a:xfrm>
            <a:off x="1523880" y="12193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Зашто су битна правил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3200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Како регулишемо саобраћај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39840" y="2043000"/>
            <a:ext cx="903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аобраћајем управљамо да бисмо нег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тигли на најбржи и најбезбеднији</a:t>
            </a:r>
            <a:r>
              <a:rPr b="1" lang="sr-C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начин</a:t>
            </a:r>
            <a:r>
              <a:rPr b="0" lang="sr-C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52280" y="4038480"/>
            <a:ext cx="1981440" cy="2334240"/>
            <a:chOff x="152280" y="4038480"/>
            <a:chExt cx="1981440" cy="2334240"/>
          </a:xfrm>
        </p:grpSpPr>
        <p:grpSp>
          <p:nvGrpSpPr>
            <p:cNvPr id="490" name=""/>
            <p:cNvGrpSpPr/>
            <p:nvPr/>
          </p:nvGrpSpPr>
          <p:grpSpPr>
            <a:xfrm>
              <a:off x="457200" y="4038480"/>
              <a:ext cx="1162800" cy="1084320"/>
              <a:chOff x="457200" y="4038480"/>
              <a:chExt cx="1162800" cy="1084320"/>
            </a:xfrm>
          </p:grpSpPr>
          <p:pic>
            <p:nvPicPr>
              <p:cNvPr id="4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4038480"/>
                <a:ext cx="1142640" cy="108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1040040" y="476064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CS" sz="1200" spc="-1" strike="noStrike">
                    <a:solidFill>
                      <a:srgbClr val="ffffff"/>
                    </a:solidFill>
                    <a:latin typeface="Arial Black"/>
                  </a:rPr>
                  <a:t>ЗОБ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152280" y="5181480"/>
              <a:ext cx="198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Times New Roman"/>
                </a:rPr>
                <a:t>Законом о безбедности у саобраћај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286000" y="4191120"/>
            <a:ext cx="2286000" cy="1815840"/>
            <a:chOff x="2286000" y="4191120"/>
            <a:chExt cx="2286000" cy="1815840"/>
          </a:xfrm>
        </p:grpSpPr>
        <p:pic>
          <p:nvPicPr>
            <p:cNvPr id="495" name="" descr=""/>
            <p:cNvPicPr/>
            <p:nvPr/>
          </p:nvPicPr>
          <p:blipFill>
            <a:blip r:embed="rId2"/>
            <a:stretch/>
          </p:blipFill>
          <p:spPr>
            <a:xfrm>
              <a:off x="2743200" y="4191120"/>
              <a:ext cx="14382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228600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Times New Roman"/>
                </a:rPr>
                <a:t>Саобраћајним знаци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029200" y="3962520"/>
            <a:ext cx="2057400" cy="2120760"/>
            <a:chOff x="5029200" y="3962520"/>
            <a:chExt cx="2057400" cy="2120760"/>
          </a:xfrm>
        </p:grpSpPr>
        <p:pic>
          <p:nvPicPr>
            <p:cNvPr id="498" name="" descr=""/>
            <p:cNvPicPr/>
            <p:nvPr/>
          </p:nvPicPr>
          <p:blipFill>
            <a:blip r:embed="rId3"/>
            <a:stretch/>
          </p:blipFill>
          <p:spPr>
            <a:xfrm>
              <a:off x="6400800" y="3962520"/>
              <a:ext cx="37152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4"/>
            <a:stretch/>
          </p:blipFill>
          <p:spPr>
            <a:xfrm>
              <a:off x="5181480" y="4114800"/>
              <a:ext cx="6667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5029200" y="52578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Times New Roman"/>
                </a:rPr>
                <a:t>Светлосним сигнали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7010280" y="3962520"/>
            <a:ext cx="2133720" cy="2059920"/>
            <a:chOff x="7010280" y="3962520"/>
            <a:chExt cx="2133720" cy="2059920"/>
          </a:xfrm>
        </p:grpSpPr>
        <p:pic>
          <p:nvPicPr>
            <p:cNvPr id="502" name="" descr=""/>
            <p:cNvPicPr/>
            <p:nvPr/>
          </p:nvPicPr>
          <p:blipFill>
            <a:blip r:embed="rId5"/>
            <a:stretch/>
          </p:blipFill>
          <p:spPr>
            <a:xfrm>
              <a:off x="7848720" y="3962520"/>
              <a:ext cx="6109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7010280" y="5257800"/>
              <a:ext cx="21337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Times New Roman"/>
                </a:rPr>
                <a:t>Полицајац</a:t>
              </a: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</a:rPr>
                <a:t>овлашћено лице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16765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Из камиона узмите свако по један папирић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2209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ронађите другове са истим саобраћајним зна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42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Ви чините једну груп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4114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Име ваше групе је исто као назив саобраћајног знака на вашој цедуљиц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304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лагалица и глума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971800" y="1143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одела у гру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-1981080" y="5867280"/>
            <a:ext cx="3038400" cy="447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21" repeatCount="2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2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5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719 0.00069 L 1.12552 0.00069 E">
                                      <p:cBhvr>
                                        <p:cTn id="137" dur="5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датак је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проучите текст који сте добил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направите резиме од 20-30 реч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правит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ако је могућ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графичко-ликовне илустрације текста на бристолу који сте добил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ртајте на оној страни бристола која је означена да бисмо могли, на крају, да сложимо нашу слагалиц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змислите где ово примењујете у живот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покушајте да одглумите ситуаци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953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38 0.05966 C 0.09393 0.10659 0.2434 0.15353 0.37969 0.08717 C 0.51597 0.02081 0.69844 -0.26705 0.76215 -0.3378 E">
                                      <p:cBhvr>
                                        <p:cTn id="143" dur="5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6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34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82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14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3095640" cy="18795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219680" y="-14400"/>
            <a:ext cx="375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Кретање пеш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004360" y="3357720"/>
            <a:ext cx="28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По тротоа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004000" y="4149720"/>
            <a:ext cx="30139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По коловоз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ван насеља ( путем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у насељу ( улиц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078520" y="5589720"/>
            <a:ext cx="143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Ноћ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042920" y="3500280"/>
            <a:ext cx="3132360" cy="17100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4859280" y="1268280"/>
            <a:ext cx="2952720" cy="19018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3708360" y="4149720"/>
            <a:ext cx="503280" cy="574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3708360" y="4292640"/>
            <a:ext cx="503280" cy="360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743200" cy="19080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1979640" y="33336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835280" y="189000"/>
            <a:ext cx="61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лажење преко колов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708360" y="1341360"/>
            <a:ext cx="51055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оловоз се прелази на обележе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ешачком прелазу и то десном стра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ешачког прел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оже се прећи и ван пешачког прел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ко је најближи пешачки прелаз удаљен више од 100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00720" y="836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Важно прав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5435640" y="4437000"/>
            <a:ext cx="3024000" cy="17715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395280" y="4508640"/>
            <a:ext cx="2736720" cy="17064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0" y="3789360"/>
            <a:ext cx="79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лаз преко железничке пруге у нивоу п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4360" y="6453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безбеђен браниц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80000" y="645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обезбеђ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indefinite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96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1960"/>
                            </p:stCondLst>
                            <p:childTnLst>
                              <p:par>
                                <p:cTn id="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196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cp:keywords/>
  <dc:language>en-US</dc:language>
  <cp:lastModifiedBy>Billy</cp:lastModifiedBy>
  <dcterms:modified xsi:type="dcterms:W3CDTF">2015-01-21T22:19:10Z</dcterms:modified>
  <cp:revision>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