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176F-FEF8-4DD7-BA3E-34F72725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465-14F1-444A-9ABF-DA4B2D02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C23-976B-4405-BBF3-BBB4A5F7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101-6099-4803-B631-C82CEF65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D486-2358-4EB9-A178-1251C25B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FAAF-71DA-4E59-B015-DE8A45CF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EE48-3D4D-4EB0-8BA2-48CBB3D7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6E1E-DE26-45D9-B278-861C026B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2AAC-AAB2-4398-B3B6-74546CF3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3DD0-4B32-450B-A899-98290987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CF50-44D8-4792-8E87-A2F537B9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B5E-6A4F-40F0-A0AF-D259385D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B24F-CEEE-4833-8730-EB3879B2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3AB5-92BA-4C0E-8A45-307F9A98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68FB-92C3-415E-8346-D92EDA45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9E06-DCDD-489A-9C3A-14591762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FFBB-F232-49F1-9BD6-E850782C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5CB-2B03-439D-9582-A38DF6B8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89B-4FC9-44AD-8550-85FBE8E0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953-9B7B-440C-AE55-4617B1E6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742-F28D-424C-9CE0-D28495BF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27E-0C0E-4F16-A298-330E3DE2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E99-C4C7-4EE8-B819-8F0EEEDE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F1F-3A5E-4F28-A649-6B1D1ABD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6A84-C274-430A-A39E-01207FAA8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8114-3E67-4BC0-B69B-8AAFE6F1C7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4.wmf"/><Relationship Id="rId5" Type="http://schemas.openxmlformats.org/officeDocument/2006/relationships/package" Target="../embeddings/oleObject2.pptx"/><Relationship Id="rId6" Type="http://schemas.openxmlformats.org/officeDocument/2006/relationships/image" Target="../media/image5.wmf"/><Relationship Id="rId7" Type="http://schemas.openxmlformats.org/officeDocument/2006/relationships/package" Target="../embeddings/oleObject3.ppt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503280" cy="744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илена Дањец, Гордана Шесто, Слободанка Злати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Ш “ Велимир Маркићевић”  Мајданп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рпски јез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деж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систематизациј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140360" y="4941720"/>
          <a:ext cx="380880" cy="7146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941720"/>
                    <a:ext cx="3808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580000" y="4941720"/>
          <a:ext cx="381240" cy="71460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4941720"/>
                    <a:ext cx="38124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7236000" y="4941720"/>
          <a:ext cx="380880" cy="71460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6000" y="4941720"/>
                    <a:ext cx="3808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924360" y="5229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први ч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5229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други ч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52293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трећи ч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cp:keywords/>
  <dc:language>en-US</dc:language>
  <cp:lastModifiedBy>Billy</cp:lastModifiedBy>
  <dcterms:modified xsi:type="dcterms:W3CDTF">2015-01-21T22:25:20Z</dcterms:modified>
  <cp:revision>3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