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3.pptx" ContentType="application/vnd.openxmlformats-officedocument.presentationml.presentation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C1D3-190E-4387-9969-D096DE427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3342-BCB2-42E3-986F-9A8B2BC9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D496-B895-4825-8774-090AFE425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276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860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728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276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860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CFAB-2646-402F-ABC0-CA9976B39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136B-D914-42F6-866D-E226CA626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D168-AC17-4D06-B619-72633525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5173-FBDE-4FEC-8034-F1E41F0D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0E9A-E46D-4391-ACF5-A8E86170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3D9F-A0EA-466E-83B5-F9DDE7D0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864216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E444-5803-43AA-BD75-258F78FD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AB9A-9514-47DF-B2A2-8C3DC4C8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8E2E-C834-49F1-8F4C-3C599737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A293-AE0D-4CF2-AFC5-3589BF6D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12F3-A02E-406A-8BE8-53EBB7E5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BA7D-55C6-4D93-A018-4F2DD9B6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414C-E15A-444B-AABC-49CD8F52D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2276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860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8728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2276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860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F1A8-30AA-447F-919C-BDBD33971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083F-0FD3-4F98-8E33-0B80BB27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4759-8EEB-4D9F-B466-4D35BFD0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5ABF-C922-4979-BAEA-C7A2D3B8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864216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2BE1-562B-413B-8876-64244F26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57ED-EA5F-4593-BAAB-20736642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6F4F-0E0B-4A18-BF1B-FB77CB26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B307-0974-4E54-B427-B6E13B55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7800-87C6-4D5C-8F0D-FBEE169D4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6945-BE31-4951-8C78-1465475BE6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pptx"/><Relationship Id="rId4" Type="http://schemas.openxmlformats.org/officeDocument/2006/relationships/image" Target="../media/image4.wmf"/><Relationship Id="rId5" Type="http://schemas.openxmlformats.org/officeDocument/2006/relationships/package" Target="../embeddings/oleObject2.pptx"/><Relationship Id="rId6" Type="http://schemas.openxmlformats.org/officeDocument/2006/relationships/image" Target="../media/image5.wmf"/><Relationship Id="rId7" Type="http://schemas.openxmlformats.org/officeDocument/2006/relationships/package" Target="../embeddings/oleObject3.pptx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503280" cy="744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 Black"/>
              </a:rPr>
              <a:t>Завод за унапређивање образовања и васпит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8000" y="1341360"/>
            <a:ext cx="2879640" cy="3959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Аутори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Наставни предме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Тем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Узрас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59280" y="1341360"/>
            <a:ext cx="5976720" cy="3959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илена Дањец, Гордана Шесто, Слободанка Злати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Ш “ Велимир Маркићевић”  Мајданпе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рпски јез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дежи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(систематизациј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ети разр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140360" y="4941720"/>
          <a:ext cx="380880" cy="71460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4941720"/>
                    <a:ext cx="38088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5580000" y="4941720"/>
          <a:ext cx="381240" cy="71460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80000" y="4941720"/>
                    <a:ext cx="38124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7236000" y="4941720"/>
          <a:ext cx="380880" cy="71460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6000" y="4941720"/>
                    <a:ext cx="38088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3924360" y="52293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први ча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52293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други ча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48360" y="522936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трећи ча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8:24:37Z</dcterms:created>
  <dc:creator>Milos M.</dc:creator>
  <dc:description/>
  <cp:keywords/>
  <dc:language>en-US</dc:language>
  <cp:lastModifiedBy>Billy</cp:lastModifiedBy>
  <dcterms:modified xsi:type="dcterms:W3CDTF">2015-01-21T22:25:20Z</dcterms:modified>
  <cp:revision>3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31071033</vt:lpwstr>
  </property>
</Properties>
</file>