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DD2-6845-4D7E-8BD5-F4ABAB35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033-2B73-457E-A14B-4962F908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B5E09F-7FA2-40BC-ACBE-4C5FB0BA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955EAE-6139-44CB-AF0D-C0CE820B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63CE0-57E5-408F-ABE7-42C87824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C17AFB-6BE9-4C7F-BC58-6709EDEF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2315D7-FFFB-4DD5-ADA8-A9DE0ECD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BC9D5F-7A8B-4E4C-AF33-9F62728F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7EF8D-FF88-4CD1-8E1F-E7A06441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E02C4-DA07-4E15-8489-00E85B71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E5F965-03F1-4307-A64E-021691FA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4A937-A19F-4636-9EF7-D2F44469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A2C-ABF3-46AB-BCAF-D96BA1D5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855F5-31A9-4E38-93CF-B8757969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B7260-7225-448B-B244-E9F0ED59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11AD6-B101-45C7-BEFF-023B67EB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8CCE6-C36E-4B06-9018-D31E8E69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7D97E-606F-4E2E-809D-E00C4D74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F9B62-B3E1-4E19-A8CA-8C08FF69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FE244-306C-41BB-B3EE-173A82EC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24FCC-BE32-4BD7-AD49-E1A80549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880A1-F48A-4D55-A6FA-A79FC5CD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33C6B-E2E7-4CD3-9B84-3C39AE4C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317-5E26-4387-8D71-AA8AA9FA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69D16-5EEB-4433-A677-B4EA4318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3B036E-9D85-4AC5-843A-990F0564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B98551-1B82-417D-8488-6E9F3A93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C3D45D-3054-4C2D-A5BC-3AF21FB8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8493C0-EE4F-4F62-B17A-6C62832A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B65ECE-529A-463C-A811-382D2099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158164-3EA8-4EBA-93DF-1210AC38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1D5AD2-1FD5-48CD-932A-DD16CBC6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57AE66-EB2F-4825-B041-E599B10F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F11D08-ECE9-434D-B05D-9AEAE87E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5CB1-F1F6-4527-B36E-5266F6BC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0DE60A-48EB-41BF-A955-BEA147C0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DF0241-6844-4851-A1E9-092EB599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BBF85D-D037-4BB8-B180-A31BAAB6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629D6-B7B2-4DD4-BEE3-1FD1A5CA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95DDA-DA85-44FF-82CE-83860207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109D9-2F15-46D7-8CC2-2A295B9D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7051E-334F-4D52-8945-FE27E64B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0B42B-6AB0-4A91-B8B3-C02EA826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687AB-ABF9-4589-9283-FCDDF061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F1089-6890-4578-946E-1C5BC08D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7042-2965-4003-8FBF-521C358A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96068-A6DC-4EE4-B57B-2F5F96A7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B7EA0-4404-42B4-9FAC-48DB60E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2540E-D7AA-4426-BE0A-834E248A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287FB-7C40-4D82-85BA-E5C7F04E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E16D6-2955-4432-AFF4-C35401E3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4AE3-054C-4B0B-99C0-6EA83957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CC82-9246-402E-B8D3-6827A7B0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1110-5B8C-4D86-9651-E24D98F7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4C2C-84FE-49DC-886E-9FF73F24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F935-FC25-4405-A723-C7D4C9A1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2EF-B494-44AC-81FC-D52D9DE4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03A8-A7DA-4055-A775-BF71B512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024B-128B-4624-92EA-A72A2559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0EAF-B9BF-4D40-A902-F512DC09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A132-31BB-4292-BD6B-3AA61566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EF6D-AB80-40B0-9C75-C354C5DB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E5C6-74E1-400C-AE2A-95013A57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ED14-5529-4511-9441-23825673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177F-3542-466E-968F-18F47AE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CA16-515D-4B5C-9A0F-E189B11E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EC6B-13D9-4F1A-B281-23FAD2F8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48C-0D5D-4CE7-AEBC-6BDED33C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500C4-4AC0-4CAD-A171-18893014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27E7E-AC2D-4F3E-864B-C4C7CB64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93A48-FD20-4E8E-9FBD-58B63985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4E27-7F06-47DD-9C49-B66B03EF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90288-1C45-496D-82A6-60D4D3FA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EAA5C-0AD5-4283-A7A7-A7DC4283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E57B9-C1CB-40F7-A979-AE4D4BBA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1B0D-5CC5-4C0C-BB52-1D756107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EC83C-B932-42FD-B929-FFD1B98D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ADA0-AF26-4111-89A2-C61D2243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A32-1D42-4A9C-8099-18C94932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AA00-5222-4F1E-8FED-5539F706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70FA-DB8C-4A02-A59D-DFC03462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1326C-1236-4CCA-A4D9-8FA8670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4D87D-0AA3-4CC5-BE2C-65B1502C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83872-9861-460C-8C6E-DAD32459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0FE00-849D-4977-9045-61C7996F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4B5DD-4BE4-4DDB-B487-53B4ED55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8CADD-66B2-4191-8CE3-EEAD216C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D80F-F0AD-40B6-B59D-9659CE80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766E0-28EB-47D7-B8FC-C1D334B2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1E5-AA0D-4A8B-A67C-07A787DD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59A72-2AB2-4804-ADB0-12228750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9AEFE-2A0D-4DF4-87F9-BE2019AC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50317-A9F3-4F8B-892F-F1B2547A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68C2F-7DC3-48BE-A426-AC324B0F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68D8-59B2-4297-AB50-624D329A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4B1D-1C4B-44B8-9739-01A99190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B4A2B-E925-47D0-8F75-973A8A4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E2E8F-C47D-42F7-BA52-1A36348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47EF7-3004-47B8-8B91-2A284B82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13725-D828-485B-B4D7-81E5A317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9DA-24C6-4793-B38B-56D18828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D9AE5-0ED0-4589-AF89-C7806C36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35765-8325-45CC-8DE9-1262FA45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D393B-5E26-46C0-865D-BD043BBF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C6FC8-AB66-48BE-94F9-F9E7C546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C7572-ED46-4342-9C96-56182BC3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8C53B-2F6E-4AA0-A7D5-474A7C79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A586E-18A6-41D9-84E3-71075A0E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16B64-FDC9-452A-A5AA-161D5C53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A8234-47B3-4B77-97F2-2908BBD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CB11-41D9-4E8D-BFD4-BA114678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E61-BA1E-4426-B9D1-B0EE645C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B375F-B2BA-4B4C-AD06-33A58477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C471C-5E33-45E5-B240-2D7A91B9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555BD-DB1B-4FD7-9B43-FE97733E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045ED-2D1F-48EC-965C-515A6EF5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54665-F431-45BD-9335-32B82A79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16AE3-17AB-4B9C-B70A-2C3086EC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1FEC2-A017-491A-91C3-49FB2ECF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7088B-51FD-4179-A90C-10664B82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2A69B-E220-4F4C-A1A6-0338D68B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A4EA1-1BAD-42FB-8741-521569AF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EDA-E145-4E90-AE47-2F70DEB4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413B1-04E6-47C9-8209-ADB383D3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220CC-41BE-4880-9E73-3A157802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167EA-524F-487C-9866-1BEDA56C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7CA18-D16F-41F6-A6F1-2BE85676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D7FE0-6FA1-4D50-91FA-234B920D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2C17E-AA2D-4917-A553-C6F8A4DD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18AA1-A685-4A2B-8D81-75A7C8AD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C22C1-4078-469A-A50C-2C92B9E2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F9A2B-9478-4076-84B8-14D7D28F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E49A2-9E6A-4B71-AABF-39F0A308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D99-3B97-4C3E-B6F2-6ED23083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E0ADE-8B13-4F97-88C0-5F5BBF20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690A8-6760-4A57-939E-273AC3FE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5299F-59FB-4DD8-9C6D-3D449894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82AE1-727F-48A8-9D1E-993915DD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96FC7-2903-412D-89C9-527F1DBD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3AC4B-9A43-4132-9656-4589B02D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BA590-E3C6-4F8E-9EB8-4CDDA74A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C108CF-4844-41B9-A253-4E2FD22B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D3FEB0-E652-4C09-A2E3-9B65EDD0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B9A032-DD0C-4639-B316-5289FF26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AC0B-5B35-4B90-99AE-03199B8AB8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7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7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C32A-0852-493E-8D05-CA93B0B861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B5BD-3D5C-440B-BCCC-8BCAE1A6CA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7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7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5669-F889-46C5-B6FC-353D87AB6E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84E-2905-40B0-B085-C0E93DA2B1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CA98-60BD-442F-87CC-EDF3D442975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AAF1-1FAC-4BBB-B567-0661DB8BBF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96EE-EF44-460E-B864-C3BF173E10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8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9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805D-DD16-4022-ACDF-24F197684F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8D48-7350-4CA1-BFB1-A90DDD2654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D536-EEA6-44FB-810D-22545691D4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24B1-B6DE-4777-B6F2-C5AC5E5792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2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2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1295280" y="380880"/>
            <a:ext cx="7489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1752480"/>
            <a:ext cx="28796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00400" y="1752480"/>
            <a:ext cx="5748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вна Голић-Терек, Гордана Видић, Предраг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јагић, Драган Прп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 “Свети Сава”, Бачка Пала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пски јез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ен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590400" y="678240"/>
            <a:ext cx="7962840" cy="5501160"/>
            <a:chOff x="590400" y="678240"/>
            <a:chExt cx="7962840" cy="5501160"/>
          </a:xfrm>
        </p:grpSpPr>
        <p:sp>
          <p:nvSpPr>
            <p:cNvPr id="679" name="_s53262"/>
            <p:cNvSpPr/>
            <p:nvPr/>
          </p:nvSpPr>
          <p:spPr>
            <a:xfrm flipH="1">
              <a:off x="2581200" y="3428640"/>
              <a:ext cx="995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_s53261"/>
            <p:cNvSpPr/>
            <p:nvPr/>
          </p:nvSpPr>
          <p:spPr>
            <a:xfrm>
              <a:off x="590400" y="2741040"/>
              <a:ext cx="1990440" cy="1375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тела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_s53260"/>
            <p:cNvSpPr/>
            <p:nvPr/>
          </p:nvSpPr>
          <p:spPr>
            <a:xfrm>
              <a:off x="4571640" y="4116240"/>
              <a:ext cx="0" cy="687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_s53259"/>
            <p:cNvSpPr/>
            <p:nvPr/>
          </p:nvSpPr>
          <p:spPr>
            <a:xfrm>
              <a:off x="3576240" y="4803840"/>
              <a:ext cx="1990440" cy="13755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јагња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_s53258"/>
            <p:cNvSpPr/>
            <p:nvPr/>
          </p:nvSpPr>
          <p:spPr>
            <a:xfrm>
              <a:off x="5567040" y="3428640"/>
              <a:ext cx="995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_s53257"/>
            <p:cNvSpPr/>
            <p:nvPr/>
          </p:nvSpPr>
          <p:spPr>
            <a:xfrm>
              <a:off x="6562080" y="2741040"/>
              <a:ext cx="1991160" cy="1375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цвећ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_s53256"/>
            <p:cNvSpPr/>
            <p:nvPr/>
          </p:nvSpPr>
          <p:spPr>
            <a:xfrm flipV="1">
              <a:off x="4571640" y="2053440"/>
              <a:ext cx="0" cy="687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_s53255"/>
            <p:cNvSpPr/>
            <p:nvPr/>
          </p:nvSpPr>
          <p:spPr>
            <a:xfrm>
              <a:off x="3576240" y="678240"/>
              <a:ext cx="1990440" cy="1375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пила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_s53254"/>
            <p:cNvSpPr/>
            <p:nvPr/>
          </p:nvSpPr>
          <p:spPr>
            <a:xfrm>
              <a:off x="3576240" y="2741040"/>
              <a:ext cx="1990440" cy="1375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ЗБИРН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ИМЕНИЦ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ahoma"/>
              </a:rPr>
              <a:t>Збир</a:t>
            </a: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н</a:t>
            </a:r>
            <a:r>
              <a:rPr b="1" lang="sr-CS" sz="4400" spc="-1" strike="noStrike">
                <a:solidFill>
                  <a:srgbClr val="ffffcc"/>
                </a:solidFill>
                <a:latin typeface="Tahoma"/>
              </a:rPr>
              <a:t>е имениц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означавају мноштво бића или предмета који се налазе у неком зби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обликом једнине означавају множину - немају облике за множи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91" name=""/>
          <p:cNvGrpSpPr/>
          <p:nvPr/>
        </p:nvGrpSpPr>
        <p:grpSpPr>
          <a:xfrm>
            <a:off x="609480" y="1938240"/>
            <a:ext cx="8076240" cy="3699360"/>
            <a:chOff x="609480" y="1938240"/>
            <a:chExt cx="8076240" cy="3699360"/>
          </a:xfrm>
        </p:grpSpPr>
        <p:cxnSp>
          <p:nvCxnSpPr>
            <p:cNvPr id="692" name="_s54315"/>
            <p:cNvCxnSpPr>
              <a:stCxn id="693" idx="0"/>
              <a:endCxn id="694" idx="2"/>
            </p:cNvCxnSpPr>
            <p:nvPr/>
          </p:nvCxnSpPr>
          <p:spPr>
            <a:xfrm flipV="1" rot="16200000">
              <a:off x="5364720" y="2700000"/>
              <a:ext cx="740520" cy="2174400"/>
            </a:xfrm>
            <a:prstGeom prst="bentConnector3">
              <a:avLst>
                <a:gd name="adj1" fmla="val 154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5" name="_s54313"/>
            <p:cNvCxnSpPr>
              <a:stCxn id="696" idx="0"/>
              <a:endCxn id="694" idx="2"/>
            </p:cNvCxnSpPr>
            <p:nvPr/>
          </p:nvCxnSpPr>
          <p:spPr>
            <a:xfrm flipH="1" flipV="1" rot="5400000">
              <a:off x="3190320" y="2699640"/>
              <a:ext cx="740520" cy="2175480"/>
            </a:xfrm>
            <a:prstGeom prst="bentConnector3">
              <a:avLst>
                <a:gd name="adj1" fmla="val 154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94" name="_s54309"/>
            <p:cNvSpPr/>
            <p:nvPr/>
          </p:nvSpPr>
          <p:spPr>
            <a:xfrm>
              <a:off x="2784240" y="1938240"/>
              <a:ext cx="3727440" cy="147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3100" spc="-1" strike="noStrike">
                  <a:solidFill>
                    <a:srgbClr val="ffffff"/>
                  </a:solidFill>
                  <a:latin typeface="Times Roman Cirilica"/>
                </a:rPr>
                <a:t>ГРАДИВН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3100" spc="-1" strike="noStrike">
                  <a:solidFill>
                    <a:srgbClr val="ffffff"/>
                  </a:solidFill>
                  <a:latin typeface="Times Roman Cirilica"/>
                </a:rPr>
                <a:t>ИМЕНИЦ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_s54310"/>
            <p:cNvSpPr/>
            <p:nvPr/>
          </p:nvSpPr>
          <p:spPr>
            <a:xfrm>
              <a:off x="609480" y="4158000"/>
              <a:ext cx="3727440" cy="147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3100" spc="-1" strike="noStrike">
                  <a:solidFill>
                    <a:srgbClr val="ffffff"/>
                  </a:solidFill>
                  <a:latin typeface="Times Roman Cirilica"/>
                </a:rPr>
                <a:t>млеко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_s54312"/>
            <p:cNvSpPr/>
            <p:nvPr/>
          </p:nvSpPr>
          <p:spPr>
            <a:xfrm>
              <a:off x="4958280" y="4158000"/>
              <a:ext cx="3727440" cy="147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3100" spc="-1" strike="noStrike">
                  <a:solidFill>
                    <a:srgbClr val="ffffff"/>
                  </a:solidFill>
                  <a:latin typeface="Times Roman Cirilica"/>
                </a:rPr>
                <a:t>злато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Градивне имениц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означавају неку матери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немају облике множ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Имају облике множине кад означавају различите врсте исте материје, нп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Са свих страна навирале су в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4114800"/>
            <a:ext cx="30456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Times Roman Cirilica"/>
              </a:rPr>
              <a:t>МИСАОНЕ (АПСТРАКТНЕ) ИМЕНИЦ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1066680"/>
            <a:ext cx="1523880" cy="1371600"/>
          </a:xfrm>
          <a:custGeom>
            <a:avLst/>
            <a:gdLst>
              <a:gd name="textAreaLeft" fmla="*/ 358200 w 1523880"/>
              <a:gd name="textAreaRight" fmla="*/ 1164600 w 1523880"/>
              <a:gd name="textAreaTop" fmla="*/ 161280 h 1371600"/>
              <a:gd name="textAreaBottom" fmla="*/ 860400 h 1371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0880" y="1295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ston Cirilica"/>
              </a:rPr>
              <a:t>љуб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295280" y="2743200"/>
            <a:ext cx="1600200" cy="1523880"/>
          </a:xfrm>
          <a:prstGeom prst="smileyFace">
            <a:avLst>
              <a:gd name="adj" fmla="val -465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600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ston Cirilica"/>
              </a:rPr>
              <a:t>бри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4343400"/>
            <a:ext cx="2133720" cy="1981080"/>
          </a:xfrm>
          <a:custGeom>
            <a:avLst/>
            <a:gdLst>
              <a:gd name="textAreaLeft" fmla="*/ 758520 w 2133720"/>
              <a:gd name="textAreaRight" fmla="*/ 1375200 w 2133720"/>
              <a:gd name="textAreaTop" fmla="*/ 704160 h 1981080"/>
              <a:gd name="textAreaBottom" fmla="*/ 1276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78" y="7678"/>
                </a:lnTo>
                <a:lnTo>
                  <a:pt x="10800" y="0"/>
                </a:lnTo>
                <a:lnTo>
                  <a:pt x="13922" y="7678"/>
                </a:lnTo>
                <a:lnTo>
                  <a:pt x="21600" y="10800"/>
                </a:lnTo>
                <a:lnTo>
                  <a:pt x="13922" y="13922"/>
                </a:lnTo>
                <a:lnTo>
                  <a:pt x="10800" y="21600"/>
                </a:lnTo>
                <a:lnTo>
                  <a:pt x="7678" y="13922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ston Cirilica"/>
              </a:rPr>
              <a:t>леп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09880" y="1523880"/>
            <a:ext cx="51055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означавају нешто неопипљиво, што се замишља или осећа, односно уочава ка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осећање  (туга, радост, чежња, бол, страх, над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особина  (младост, лепота, снага, старост, брзина, даљина, свежи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радња или стањ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3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3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3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3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Times Roman Cirilica"/>
              </a:rPr>
              <a:t>ГЛАГОЛСКЕ ИМЕНИЦ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419720" y="19047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означавају име радње и стањ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читати – чит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причати – прич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помагати - помаг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258480" y="2148840"/>
            <a:ext cx="3827160" cy="3664440"/>
            <a:chOff x="258480" y="2148840"/>
            <a:chExt cx="3827160" cy="3664440"/>
          </a:xfrm>
        </p:grpSpPr>
        <p:sp>
          <p:nvSpPr>
            <p:cNvPr id="712" name="_s701450"/>
            <p:cNvSpPr/>
            <p:nvPr/>
          </p:nvSpPr>
          <p:spPr>
            <a:xfrm>
              <a:off x="1063440" y="2148840"/>
              <a:ext cx="2215800" cy="2606760"/>
            </a:xfrm>
            <a:custGeom>
              <a:avLst/>
              <a:gdLst>
                <a:gd name="textAreaLeft" fmla="*/ 0 w 2215800"/>
                <a:gd name="textAreaRight" fmla="*/ 2215800 w 2215800"/>
                <a:gd name="textAreaTop" fmla="*/ 0 h 2606760"/>
                <a:gd name="textAreaBottom" fmla="*/ 2607120 h 260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_s701451"/>
            <p:cNvSpPr/>
            <p:nvPr/>
          </p:nvSpPr>
          <p:spPr>
            <a:xfrm rot="7200000">
              <a:off x="1171080" y="2959200"/>
              <a:ext cx="2606760" cy="2215800"/>
            </a:xfrm>
            <a:custGeom>
              <a:avLst/>
              <a:gdLst>
                <a:gd name="textAreaLeft" fmla="*/ 0 w 2606760"/>
                <a:gd name="textAreaRight" fmla="*/ 2607120 w 2606760"/>
                <a:gd name="textAreaTop" fmla="*/ 0 h 2215800"/>
                <a:gd name="textAreaBottom" fmla="*/ 2215800 h 22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_s701453"/>
            <p:cNvSpPr/>
            <p:nvPr/>
          </p:nvSpPr>
          <p:spPr>
            <a:xfrm rot="14400000">
              <a:off x="565920" y="2960640"/>
              <a:ext cx="2607120" cy="221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_s701448"/>
            <p:cNvSpPr/>
            <p:nvPr/>
          </p:nvSpPr>
          <p:spPr>
            <a:xfrm>
              <a:off x="2779560" y="2626200"/>
              <a:ext cx="8881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ston Cirilica"/>
                </a:rPr>
                <a:t>помагањ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_s701449"/>
            <p:cNvSpPr/>
            <p:nvPr/>
          </p:nvSpPr>
          <p:spPr>
            <a:xfrm>
              <a:off x="1728000" y="4768560"/>
              <a:ext cx="8881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ston Cirilica"/>
                </a:rPr>
                <a:t>причањ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_s701452"/>
            <p:cNvSpPr/>
            <p:nvPr/>
          </p:nvSpPr>
          <p:spPr>
            <a:xfrm>
              <a:off x="676800" y="2628000"/>
              <a:ext cx="8881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ston Cirilica"/>
                </a:rPr>
                <a:t>читањ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Times Roman Cirilica"/>
              </a:rPr>
              <a:t>БРОЈНЕ  ИМЕНИЦ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9" name=""/>
          <p:cNvSpPr/>
          <p:nvPr/>
        </p:nvSpPr>
        <p:spPr>
          <a:xfrm>
            <a:off x="609480" y="3962520"/>
            <a:ext cx="1524240" cy="457200"/>
          </a:xfrm>
          <a:prstGeom prst="flowChartTermina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81080" y="2743200"/>
            <a:ext cx="1524240" cy="457200"/>
          </a:xfrm>
          <a:prstGeom prst="flowChartTermina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752480" y="5257800"/>
            <a:ext cx="1600200" cy="457200"/>
          </a:xfrm>
          <a:prstGeom prst="flowChartTermina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62120" y="39625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ston Cirilica"/>
              </a:rPr>
              <a:t>пет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057400" y="2743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ston Cirilica"/>
              </a:rPr>
              <a:t>двој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05120" y="5257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ston Cirilica"/>
              </a:rPr>
              <a:t>сто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038480" y="1752480"/>
            <a:ext cx="472464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sto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означавај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број мушких особа (петорица, дванаесториц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називе оцена (двојка, јединица, осмиц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хиљада, стотина, милион, милијар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2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2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2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20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Tahoma"/>
              </a:rPr>
              <a:t>Научи и ово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6934320" y="3352680"/>
          <a:ext cx="22096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352680"/>
                    <a:ext cx="2209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1752480" y="1447920"/>
            <a:ext cx="2133720" cy="1143000"/>
          </a:xfrm>
          <a:prstGeom prst="wedgeRoundRectCallout">
            <a:avLst>
              <a:gd name="adj1" fmla="val -45310"/>
              <a:gd name="adj2" fmla="val 101250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Roman Cirilica"/>
              </a:rPr>
              <a:t>Знаш ли да постоје именице које имају само облик множин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638680" y="1295280"/>
            <a:ext cx="1447920" cy="1219320"/>
          </a:xfrm>
          <a:prstGeom prst="cloudCallout">
            <a:avLst>
              <a:gd name="adj1" fmla="val 106907"/>
              <a:gd name="adj2" fmla="val 11041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?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38280" y="2743200"/>
            <a:ext cx="2057400" cy="1295280"/>
          </a:xfrm>
          <a:prstGeom prst="wedgeRoundRectCallout">
            <a:avLst>
              <a:gd name="adj1" fmla="val -69444"/>
              <a:gd name="adj2" fmla="val 49754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Roman Cirilica"/>
              </a:rPr>
              <a:t>Па да! Нпр. панталоне, маказе,  новине, Карловци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76920" y="2514600"/>
            <a:ext cx="2361960" cy="1600200"/>
          </a:xfrm>
          <a:prstGeom prst="wedgeEllipseCallout">
            <a:avLst>
              <a:gd name="adj1" fmla="val 52287"/>
              <a:gd name="adj2" fmla="val 4226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Roman Cirilica"/>
              </a:rPr>
              <a:t>Аха! А постоје ли именице које имају само једнину?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514600" y="2590920"/>
            <a:ext cx="1981080" cy="380880"/>
          </a:xfrm>
          <a:prstGeom prst="wedgeRoundRectCallout">
            <a:avLst>
              <a:gd name="adj1" fmla="val -79087"/>
              <a:gd name="adj2" fmla="val 202916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Roman Cirilica"/>
              </a:rPr>
              <a:t>Наравн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2209680" cy="3429000"/>
          </a:xfrm>
          <a:prstGeom prst="rect">
            <a:avLst/>
          </a:prstGeom>
          <a:ln cap="rnd" w="9360">
            <a:solidFill>
              <a:srgbClr val="8c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1000" autoRev="1" fill="hold"/>
                                        <p:tgtEl>
                                          <p:spTgt spid="7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1000" autoRev="1" fill="hold"/>
                                        <p:tgtEl>
                                          <p:spTgt spid="7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3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3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3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3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Times Roman Cirilica"/>
              </a:rPr>
              <a:t>НАУЧИ И ОВО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именице које имају само облик множине, али њиме исказују једнину зову се </a:t>
            </a:r>
            <a:r>
              <a:rPr b="1" lang="en-US" sz="2400" spc="-1" strike="noStrike">
                <a:solidFill>
                  <a:srgbClr val="ffffff"/>
                </a:solidFill>
                <a:latin typeface="Times Roman Cirilica"/>
              </a:rPr>
              <a:t>pluralia tantum</a:t>
            </a: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, то с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имена градова: Сремски Карлов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именице: груди, резанци, леђа, прса, јасле, дес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495320" y="15238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именице које имају само облик  једнине зову се </a:t>
            </a:r>
            <a:r>
              <a:rPr b="1" lang="en-US" sz="2400" spc="-1" strike="noStrike">
                <a:solidFill>
                  <a:srgbClr val="ffffff"/>
                </a:solidFill>
                <a:latin typeface="Times Roman Cirilica"/>
              </a:rPr>
              <a:t>singularia tantum</a:t>
            </a: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, то с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лична имена: Ана, Ј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нека географска имена: Београд, Загре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збирне именице које завршавају на суфиксе    –ад и –је: пилад, цве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Roman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апстрактне именице: плач, радост, трч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Врсте имени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власти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заједнич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збир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градив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мисаоне (апстрактн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глаголс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број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200"/>
                            </p:stCondLst>
                            <p:childTnLst>
                              <p:par>
                                <p:cTn id="4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600"/>
                            </p:stCondLst>
                            <p:childTnLst>
                              <p:par>
                                <p:cTn id="42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400"/>
                            </p:stCondLst>
                            <p:childTnLst>
                              <p:par>
                                <p:cTn id="4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400"/>
                            </p:stCondLst>
                            <p:childTnLst>
                              <p:par>
                                <p:cTn id="4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7800"/>
                            </p:stCondLst>
                            <p:childTnLst>
                              <p:par>
                                <p:cTn id="4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3400"/>
                            </p:stCondLst>
                            <p:childTnLst>
                              <p:par>
                                <p:cTn id="4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700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5400" spc="-1" strike="noStrike">
                <a:solidFill>
                  <a:srgbClr val="ffffcc"/>
                </a:solidFill>
                <a:latin typeface="Times New Roman"/>
              </a:rPr>
              <a:t>ИМЕНИЦЕ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4114800" y="5410080"/>
          <a:ext cx="91440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100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2819520" y="5410080"/>
          <a:ext cx="914400" cy="71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54100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33520" y="5410080"/>
          <a:ext cx="914400" cy="71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4100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5334120" y="5410080"/>
          <a:ext cx="914400" cy="714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4100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1676520" y="5410080"/>
          <a:ext cx="914400" cy="714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54100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4920" y="2819520"/>
            <a:ext cx="815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ФУНКЦИЈА ИМЕНИЦА У РЕЧЕН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Подвуци субјекте у следећим реченицам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Ана Ристић живи у Новом Сад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Њена бака Јела живи у Бачком Петровом Сел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Љубав и брига за баку довели су Ану на се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Comic Sans MS"/>
              </a:rPr>
              <a:t>Ана ужива у лепоти сеоског домаћинства и у помагању баки.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Уз шољу млека унука и бака уживају у читању и           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причању дуго у ноћ посматрајући месец и звезд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Ана је бакино злат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одвуци предикате у следећим реченицама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Успешан је ђак и вредна девојчиц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Ана је бакино злат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двуци објекте у следећим реченицам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Гаји пилад, телад, јагњад и негује цвећ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а ужива у лепоти сеоског домаћинства и у помагању бак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з шољу млека унука и бака уживају у читању и причању дуго у ноћ посматрајући месец и звезд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двуци прилошке одред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а Ристић живи у Новом Сад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Њена бака Јела живи у Бачком Петровом Селу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Љубав и брига за баку довели су Ану на сел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з шољу млека унука и бака уживају у читању и причању дуго у ноћ посматрајући месец и звезд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ЗАКЉУЧИ</a:t>
            </a:r>
            <a:r>
              <a:rPr b="0" lang="sr-CS" sz="3200" spc="-1" strike="noStrike">
                <a:solidFill>
                  <a:srgbClr val="ffffcc"/>
                </a:solidFill>
                <a:latin typeface="Times Roman Cirilic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Именице могу бити у функциј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субј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именског предик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обј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Roman Cirilica"/>
              </a:rPr>
              <a:t>прилошке одред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4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4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4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4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14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696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Именице могу имати и следеће функциј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АТРИБ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Бакино цвеће </a:t>
            </a: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из баште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најлепше мири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Цвркут </a:t>
            </a: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птиц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је налепша пес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АПОЗИ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Њена </a:t>
            </a: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бак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Јела живи у Бачком Петровом Се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Roman Cirilica"/>
              </a:rPr>
              <a:t>Девојчиц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Ана је бакино зла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4" dur="2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9" dur="2000"/>
                                        <p:tgtEl>
                                          <p:spTgt spid="7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2000"/>
                                        <p:tgtEl>
                                          <p:spTgt spid="7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АТРИБУ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Посматрај природу око себе. Опиши је у неколико реченица тако што ћеш употребити именицу у служби атрибу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Волим да слушам цвркут ________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Милују ме зраци _______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Под ногама осећам шуштање _______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Гране ______ њишу се у ритму песме ______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АПОЗИ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Допиши апозиције у следећим реченица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У Сремским Карловцима, ________________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налази се чувена Карловачка гимназиј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Овог лета посетићемо Париз, _______________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Београд, __________________ , налази се на ушћу Саве у Дуна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Times Roman Cirilica"/>
              </a:rPr>
              <a:t>ПРАВОПИ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Великим почетним словом пишу се: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властита имена, презимена и надим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топоно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имена народа, нација и станов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имена небеских тела и њихових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имена установа, предузећа, друштава, организација и с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имена праз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наденута имена животи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називи књижевних дела, часописа, нов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- имена грађевина, објеката, предмета, уопште појединих примерака нечега</a:t>
            </a:r>
            <a:r>
              <a:rPr b="1" lang="sr-CS" sz="24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Карактеристике имени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промењива врста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именују предмете, бића, појаве, географске и уопштене појмо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самосталне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род – мушки и жен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број – једнина и множ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Roman Cirilica"/>
              </a:rPr>
              <a:t>паде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228600" y="762120"/>
            <a:ext cx="876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Прочитај следећи тек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Ана Ристић живи у Новом Саду. Успешан је ђак и вредна девојчица. Њена бака Јела живи у Бачком Петровом Селу. Гаји пилад, телад, јагњад и негује цвеће. Љубав и брига за баку довели су Ану на село. Ана ужива у лепоти сеоског домаћинства и у помагању баки. Уз шољу млека унука и бака уживају у читању и причању дуго у ноћ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Девојчица Ана је бакино зла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Задат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Подвуци све именице у текс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457200" y="457200"/>
            <a:ext cx="8458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ston Cirilica"/>
              </a:rPr>
              <a:t>	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Ана Ристић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живи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Новом Сад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 Успешан 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ђак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вредн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девојчиц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Њен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ак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Јел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живи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ачком Петровом Сел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 Гај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пилад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,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телад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,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јагњад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негу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цвеће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Љубав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риг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з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ак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довели с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Ан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н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село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Ан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ужива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лепоти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сеоског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домаћинств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помагањ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аки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 Уз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шољ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млек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унук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бак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уживају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читањ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причању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дуго у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ноћ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Девојчиц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Ана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 је бакин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Roman Cirilica"/>
              </a:rPr>
              <a:t>злато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Задат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Подвучене именице разврстај према врстама име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457200" y="846000"/>
            <a:ext cx="8228880" cy="5193720"/>
            <a:chOff x="457200" y="846000"/>
            <a:chExt cx="8228880" cy="5193720"/>
          </a:xfrm>
        </p:grpSpPr>
        <p:sp>
          <p:nvSpPr>
            <p:cNvPr id="641" name="_s6172"/>
            <p:cNvSpPr/>
            <p:nvPr/>
          </p:nvSpPr>
          <p:spPr>
            <a:xfrm flipH="1">
              <a:off x="2513880" y="3443040"/>
              <a:ext cx="1028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6171"/>
            <p:cNvSpPr/>
            <p:nvPr/>
          </p:nvSpPr>
          <p:spPr>
            <a:xfrm>
              <a:off x="457200" y="2793960"/>
              <a:ext cx="2056680" cy="12981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Нови Са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6156"/>
            <p:cNvSpPr/>
            <p:nvPr/>
          </p:nvSpPr>
          <p:spPr>
            <a:xfrm>
              <a:off x="4571640" y="4092120"/>
              <a:ext cx="0" cy="64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6155"/>
            <p:cNvSpPr/>
            <p:nvPr/>
          </p:nvSpPr>
          <p:spPr>
            <a:xfrm>
              <a:off x="3543120" y="4741200"/>
              <a:ext cx="2056680" cy="12985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Бачко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Петров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 </a:t>
              </a: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Сел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6154"/>
            <p:cNvSpPr/>
            <p:nvPr/>
          </p:nvSpPr>
          <p:spPr>
            <a:xfrm>
              <a:off x="5600160" y="3443040"/>
              <a:ext cx="1028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6153"/>
            <p:cNvSpPr/>
            <p:nvPr/>
          </p:nvSpPr>
          <p:spPr>
            <a:xfrm>
              <a:off x="6629400" y="2793960"/>
              <a:ext cx="2056680" cy="12981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Times Roman Cirilica"/>
                </a:rPr>
                <a:t>Је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6152"/>
            <p:cNvSpPr/>
            <p:nvPr/>
          </p:nvSpPr>
          <p:spPr>
            <a:xfrm flipV="1">
              <a:off x="4571640" y="2144160"/>
              <a:ext cx="0" cy="64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6151"/>
            <p:cNvSpPr/>
            <p:nvPr/>
          </p:nvSpPr>
          <p:spPr>
            <a:xfrm>
              <a:off x="3543120" y="846000"/>
              <a:ext cx="2056680" cy="12981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900" spc="-1" strike="noStrike">
                  <a:solidFill>
                    <a:srgbClr val="ffffff"/>
                  </a:solidFill>
                  <a:latin typeface="Times Roman Cirilica"/>
                </a:rPr>
                <a:t>Ана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900" spc="-1" strike="noStrike">
                  <a:solidFill>
                    <a:srgbClr val="ffffff"/>
                  </a:solidFill>
                  <a:latin typeface="Times Roman Cirilica"/>
                </a:rPr>
                <a:t>Ристић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6150"/>
            <p:cNvSpPr/>
            <p:nvPr/>
          </p:nvSpPr>
          <p:spPr>
            <a:xfrm>
              <a:off x="3543120" y="2793960"/>
              <a:ext cx="2056680" cy="12981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500" spc="-1" strike="noStrike">
                  <a:solidFill>
                    <a:srgbClr val="ffffff"/>
                  </a:solidFill>
                  <a:latin typeface="Times Roman Cirilica"/>
                </a:rPr>
                <a:t>ВЛАСТИТЕ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500" spc="-1" strike="noStrike">
                  <a:solidFill>
                    <a:srgbClr val="ffffff"/>
                  </a:solidFill>
                  <a:latin typeface="Times Roman Cirilica"/>
                </a:rPr>
                <a:t> </a:t>
              </a:r>
              <a:r>
                <a:rPr b="1" lang="sr-CS" sz="2500" spc="-1" strike="noStrike">
                  <a:solidFill>
                    <a:srgbClr val="ffffff"/>
                  </a:solidFill>
                  <a:latin typeface="Times Roman Cirilica"/>
                </a:rPr>
                <a:t>ИМЕНИЦЕ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Властите имениц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означавају имена и надимке људи, имена животиња, различита географска имена и имена небеских те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немају множин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Множину имају само</a:t>
            </a:r>
            <a:r>
              <a:rPr b="1" lang="en-US" sz="2800" spc="-1" strike="noStrike">
                <a:solidFill>
                  <a:srgbClr val="ffffff"/>
                </a:solidFill>
                <a:latin typeface="Times Roman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следећим примерим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Време је пролазило, Мораве су тек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Сање су се појави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Много је Ајнштајна, али мало је прав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>
            <a:off x="457200" y="4114800"/>
            <a:ext cx="304920" cy="38088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538560" y="604080"/>
            <a:ext cx="7992360" cy="5569200"/>
            <a:chOff x="538560" y="604080"/>
            <a:chExt cx="7992360" cy="5569200"/>
          </a:xfrm>
        </p:grpSpPr>
        <p:sp>
          <p:nvSpPr>
            <p:cNvPr id="654" name="_s4123"/>
            <p:cNvSpPr/>
            <p:nvPr/>
          </p:nvSpPr>
          <p:spPr>
            <a:xfrm flipV="1">
              <a:off x="4533480" y="1720080"/>
              <a:ext cx="0" cy="111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_s4122"/>
            <p:cNvSpPr/>
            <p:nvPr/>
          </p:nvSpPr>
          <p:spPr>
            <a:xfrm>
              <a:off x="3700080" y="604080"/>
              <a:ext cx="166680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ђа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_s4121"/>
            <p:cNvSpPr/>
            <p:nvPr/>
          </p:nvSpPr>
          <p:spPr>
            <a:xfrm flipV="1">
              <a:off x="5023440" y="2037600"/>
              <a:ext cx="973440" cy="90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_s4120"/>
            <p:cNvSpPr/>
            <p:nvPr/>
          </p:nvSpPr>
          <p:spPr>
            <a:xfrm>
              <a:off x="5655960" y="1027440"/>
              <a:ext cx="166752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уну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_s4119"/>
            <p:cNvSpPr/>
            <p:nvPr/>
          </p:nvSpPr>
          <p:spPr>
            <a:xfrm flipV="1">
              <a:off x="5324760" y="2871000"/>
              <a:ext cx="1578600" cy="34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_s4118"/>
            <p:cNvSpPr/>
            <p:nvPr/>
          </p:nvSpPr>
          <p:spPr>
            <a:xfrm>
              <a:off x="6864120" y="2142000"/>
              <a:ext cx="166680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шољ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_s4117"/>
            <p:cNvSpPr/>
            <p:nvPr/>
          </p:nvSpPr>
          <p:spPr>
            <a:xfrm>
              <a:off x="5324760" y="3561480"/>
              <a:ext cx="1581840" cy="34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_s4116"/>
            <p:cNvSpPr/>
            <p:nvPr/>
          </p:nvSpPr>
          <p:spPr>
            <a:xfrm>
              <a:off x="6864120" y="3519000"/>
              <a:ext cx="166680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сел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_s4115"/>
            <p:cNvSpPr/>
            <p:nvPr/>
          </p:nvSpPr>
          <p:spPr>
            <a:xfrm>
              <a:off x="5020560" y="3838680"/>
              <a:ext cx="982440" cy="89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_s4114"/>
            <p:cNvSpPr/>
            <p:nvPr/>
          </p:nvSpPr>
          <p:spPr>
            <a:xfrm>
              <a:off x="5655960" y="4631400"/>
              <a:ext cx="166752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ба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_s4127"/>
            <p:cNvSpPr/>
            <p:nvPr/>
          </p:nvSpPr>
          <p:spPr>
            <a:xfrm>
              <a:off x="4533480" y="3944520"/>
              <a:ext cx="6120" cy="111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_s4126"/>
            <p:cNvSpPr/>
            <p:nvPr/>
          </p:nvSpPr>
          <p:spPr>
            <a:xfrm>
              <a:off x="3702600" y="5056920"/>
              <a:ext cx="1667520" cy="1116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ноћ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_s4125"/>
            <p:cNvSpPr/>
            <p:nvPr/>
          </p:nvSpPr>
          <p:spPr>
            <a:xfrm flipH="1">
              <a:off x="3072960" y="3838680"/>
              <a:ext cx="973440" cy="90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_s4124"/>
            <p:cNvSpPr/>
            <p:nvPr/>
          </p:nvSpPr>
          <p:spPr>
            <a:xfrm>
              <a:off x="1746720" y="4633200"/>
              <a:ext cx="166680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домаћин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ств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_s4131"/>
            <p:cNvSpPr/>
            <p:nvPr/>
          </p:nvSpPr>
          <p:spPr>
            <a:xfrm flipH="1">
              <a:off x="2165760" y="3559680"/>
              <a:ext cx="1579320" cy="34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_s4130"/>
            <p:cNvSpPr/>
            <p:nvPr/>
          </p:nvSpPr>
          <p:spPr>
            <a:xfrm>
              <a:off x="538560" y="3519000"/>
              <a:ext cx="166752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звезд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_s4129"/>
            <p:cNvSpPr/>
            <p:nvPr/>
          </p:nvSpPr>
          <p:spPr>
            <a:xfrm flipH="1" flipV="1">
              <a:off x="2163240" y="2874600"/>
              <a:ext cx="1581840" cy="34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_s4128"/>
            <p:cNvSpPr/>
            <p:nvPr/>
          </p:nvSpPr>
          <p:spPr>
            <a:xfrm>
              <a:off x="538560" y="2142000"/>
              <a:ext cx="166752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месе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_s4113"/>
            <p:cNvSpPr/>
            <p:nvPr/>
          </p:nvSpPr>
          <p:spPr>
            <a:xfrm flipH="1" flipV="1">
              <a:off x="3066840" y="2039400"/>
              <a:ext cx="982440" cy="89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_s4112"/>
            <p:cNvSpPr/>
            <p:nvPr/>
          </p:nvSpPr>
          <p:spPr>
            <a:xfrm>
              <a:off x="1746720" y="1029240"/>
              <a:ext cx="1666800" cy="1116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девојчиц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_s4111"/>
            <p:cNvSpPr/>
            <p:nvPr/>
          </p:nvSpPr>
          <p:spPr>
            <a:xfrm>
              <a:off x="3700080" y="2832480"/>
              <a:ext cx="1666800" cy="1116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ЗАЈЕДНИЧКЕ</a:t>
              </a:r>
              <a:r>
                <a:rPr b="0" lang="sr-CS" sz="1500" spc="-1" strike="noStrike">
                  <a:solidFill>
                    <a:srgbClr val="ffffff"/>
                  </a:solidFill>
                  <a:latin typeface="Times Roman Cirilic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Times Roman Cirilica"/>
                </a:rPr>
                <a:t>ИМЕНИЦ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imes Roman Cirilica"/>
              </a:rPr>
              <a:t>Заједничке имениц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означавају имена бића, предмета и појава са заједничким особин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имају оба граматичка броја – једнину и множи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Неке заједничке именице немају правилну множину, а неке имају и облик збирне именице, нпр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дете – де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Roman Cirilica"/>
              </a:rPr>
              <a:t>лист – листови - лишћ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533520" y="3886200"/>
            <a:ext cx="304560" cy="3808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cap="rnd" w="9360">
            <a:solidFill>
              <a:srgbClr val="8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18:43:21Z</dcterms:created>
  <dc:creator>PC</dc:creator>
  <dc:description/>
  <dc:language>en-US</dc:language>
  <cp:lastModifiedBy>Billy</cp:lastModifiedBy>
  <dcterms:modified xsi:type="dcterms:W3CDTF">2015-01-21T22:24:52Z</dcterms:modified>
  <cp:revision>28</cp:revision>
  <dc:subject/>
  <dc:title>I  M  E  N  I  C  E</dc:title>
</cp:coreProperties>
</file>