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BF5-0F1C-4DEF-9511-7032E3BF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724-76DC-442B-AF78-5244F93E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60DE48-318C-4D8C-97B5-DB56FB85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216E0-B185-4BEA-BA5A-1DEF287C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E50C9-5D0E-4A89-A695-66DB8B8A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4AAB6-DFFC-4D49-AC31-09FF795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29EEB0-5E1C-44F4-9151-76C058B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7ACB30-C30E-41A8-ACFC-F7C9EF4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F65431-62FD-4D9A-83AD-9C3AD38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97330-2623-4AA9-A262-81927B86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4F74C-5DF8-49E3-AC8B-FB9D2946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07F7E-1901-450A-A5F4-07A20EC1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9CB-D40C-4FEC-A121-AB7A7562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4291F-849B-4657-A4E8-AD19390B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70998-6A8F-46CC-B80C-791A2D34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40F17-3B44-4296-83E5-94582D7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0E28B-6F85-43D7-BEC7-24E5A2AA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A68E7-8AF6-47C7-BDEE-87927261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997F9-30DA-4926-BFEE-6672133F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B8D3B-2FA3-4BB8-90F3-FD1D52C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1F81B-0F1E-475F-A18E-C97DD56F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67517-AFF8-433B-A7C9-27F67FA5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44384-41EC-43A1-AA92-72EF8A71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A41-C7DF-4D53-AD56-751496FE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1F9A7-550D-4291-AF25-56807646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88CC31-110F-4D57-A67B-DA5B0992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35C734-6237-4D32-9551-CE4F9198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D5EAD0-952F-4320-A1B9-24FE647F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C0B072-5222-42E2-B678-5BE9120E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2E52C8-2291-4B3F-97C0-E72C3E17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4743B9-BAF4-456C-878A-2A2B14AB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1D5E2A-B48E-48CC-884F-BA6D7776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910539-4C84-40D5-B49A-153703BB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54713B-D641-4C3D-BC7B-AE289C24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27F3-7DB7-48E5-9018-11A3510B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EA0FE8-847C-479F-A50C-33816E84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30C74-FE9B-4BE3-9302-92ABA5AE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B5F126-6898-4EFB-970D-EE9E7940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EA96C-C154-4733-B64A-14060AF1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892EC-35FD-4FED-AAA6-518B73DF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64218-FF95-46CC-AFC8-E85DD42D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4644B-886C-46D0-BCC4-468DA2EF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8F1F2-F0EF-4BA4-8EA1-22F93513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85DA8-7F60-43A2-B8D1-BB99FB0C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27B07-16A7-46C0-A798-B1031C5E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BA18-D87C-4DBE-926B-1999903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61983-A8B5-4FF7-81A5-0228048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FFB7C-3F8C-44D2-BE96-FACB0064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F196C-C723-4B9D-B56A-7424CC2C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EC095-EB3B-456E-9554-2B6ACCDA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99BE0-8815-468F-80C5-6A1BAF71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2387-6C9E-4C96-AE6A-69B857EB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B7F0-BE78-4DFE-83B0-0D9A1EFC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AD57-2F27-468E-83B4-C8E18BF3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A918-C38A-411C-9B24-27A85AA0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7E1D-3D9E-4D0C-80F5-1F01C9B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336-F661-4075-BA35-CDE35FFB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D263-6242-41EC-AC2B-665894E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4DB5-4EC1-449F-B6EF-13217331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5E03-3DAA-4295-B4D8-D680FD41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93B5-5972-4059-8619-457A54DD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FD1D-31B3-43CB-836C-B3803861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3EB8-FFFD-4FAA-9F39-305EA609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C136-FA7C-4DB2-BB6B-F8D3CD07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A045-18AD-4259-A6A8-F05BA424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969F-B2FF-4644-B67E-50C769C7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A5EB-4ACB-49EE-AFEF-02FC5FEE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2F5-ECB9-4325-8014-DFE90E0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591A-9ACB-4266-9673-8B810483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E6B4-4F70-4C90-99EC-33FAB89D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6661-B2B8-40A1-9D0C-AEDB3E3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F44C-22B0-43F2-A04B-E016874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18F9-73DB-4E6D-ACB2-5F7515E0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BD4E-F116-4DBF-8EBC-7F1C7DB9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2197-9399-40B1-8C64-7493A4F2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6D77D-A70D-4F39-BC5F-4F38D807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97025-B5A2-4B9B-B6D4-674B24A6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40B7-EF17-4CC9-A252-30BD96E1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A0D-6226-4C93-A9E8-CEBB568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D1F4-821B-4505-8E9E-9359ACD6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DD96-86B9-47C7-9062-7D041CD4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6B5E-E997-4FB0-B05D-81BD5DC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2341-17AB-45BC-B4D6-28B6678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C3BC-B141-492D-9351-56F166AE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6CA86-05E4-4051-B6D2-92BB4C9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38C8-8FB5-4101-9BF7-B1013B75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3A04-FFEF-47EC-A4C1-26E19F9A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29AE-28AC-463C-B128-9C3827F4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5DC2-14E7-4B7C-B99E-5A816194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B81-CC6C-4D0E-932A-F4F947B9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A7FA-B625-442A-B845-C3632600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E8F85-A1F9-4A93-905B-77BAAE6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BB69-6496-48BF-92E3-C32C6F5B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4F7EC-B2E5-4203-924D-5D2FE3A9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60C2-FC40-4044-AE94-F60ACB6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4F78-266E-4F2F-BA6A-F64C4D4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5DA6E-27D2-4CF2-B511-BE50D9A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AC09B-6886-4ED9-B6D6-5E30D33B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EE78A-6BA6-445E-BA7F-BF937D2F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8D5A7-3C22-4BB6-B24F-C7B31287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7A6-BB96-4E31-81AB-2580FA7C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FA9F-91C7-4434-94F2-3698FB62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6B4F-05CC-482A-8401-9370643A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56873-FDCA-48F0-B881-F0FA3669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FC1E3-1274-442E-A39E-50D1EDDF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A8AA-EDD5-42DD-A391-3F90A4A7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3333-536F-4372-A485-CA225D9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B6208-BDB8-4861-BA32-52CC0160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BD9A-2342-4719-B497-BF342A9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E191-B3DC-4AF2-9E31-11D678E8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470C0-7F05-4FF3-AF91-995EF1E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AEF-BC16-46C0-9929-47B07BBE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A9F4-5EA4-4386-8B03-9C5357FF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93F3-E7F5-4017-8A83-C5599418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46B59-7D59-4E83-BD3A-2C9028C8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33D3C-0F67-4A23-81C2-41AAD63E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1E0A-06BC-4ACB-B1ED-C51CFD48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E0F6-E545-412B-9922-4742F564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F002-0893-4D58-AC68-2E85479C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604F-E9F7-4BD8-9BC8-CCCAFEF8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B8EF2-93D3-43E4-A9D2-E45A6BB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FFFD-AFF0-4794-AE44-037E9658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97F-0416-4987-BAB6-AB47FBDC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79525-F791-41B0-8F45-E7E789CF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0005-0D7A-41A7-ABEC-0380CED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6E6D-A21D-433E-875A-4CC2F794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3067-49E2-490A-A1AF-EB75E21E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83E42-3CA5-45AA-A829-9475BEBF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D36D2-A0D8-4E0A-8CEE-9011FC8D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AC3CB-CA12-40F0-B383-0A8F1C59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FBB8-60E2-4389-A4D2-9ADBC43B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FE66F-DB50-4892-8278-CD4C2552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E47DD-D906-4120-A96C-7BD322CD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894-6796-4CD9-905D-2770733E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D16CB-361C-4DE4-ACDB-67F6FF3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48B02-96D7-4B39-940D-0D54001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57E3B-5F17-4861-8BA6-8E755C7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3E4B3-E130-4609-90F2-78AF7D2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03F01-D7B0-4FD0-B4B3-0D979AA8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FBD97-F518-4FDB-AACE-4D830993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5357B-0435-41E0-86CB-22476423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BDAA72-1E7F-4048-9D20-B99B0FC7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A992B-F880-4CAB-9AB8-F9466C61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7C8423-AB6C-417D-B696-5FC4F328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F6A9-A40D-441D-A863-119AEBCC10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7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BAF-720F-4BBD-B2B1-72074D8AD7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6E85-2D99-4503-AA8B-A1CCD3E4A2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7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7EF9-9C83-4EE1-99EA-F1B7DE4165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EE61-DF74-46AF-A1CF-6C9A1EDEB5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43A3-94A2-4715-BBBE-311F697D84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A0EF-9BA9-4AEA-8255-2903373720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BDC3-DBB6-487D-93C0-847F7319FC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F3F5-FFB5-4420-BA26-CE124E308C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5E7D-BF29-40A5-96FA-1EA483333A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6017-94D2-4063-A92F-2ADBD92E0E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EDA0-E569-4C30-9E20-60C96BE458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295280" y="380880"/>
            <a:ext cx="7489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1752480"/>
            <a:ext cx="28796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00400" y="1752480"/>
            <a:ext cx="5748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вна Голић-Терек, Гордана Видић, Предраг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јагић, Драган Прп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 “Свети Сава”, Бачка Пала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пски јез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ен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590400" y="678240"/>
            <a:ext cx="7962840" cy="5501160"/>
            <a:chOff x="590400" y="678240"/>
            <a:chExt cx="7962840" cy="5501160"/>
          </a:xfrm>
        </p:grpSpPr>
        <p:sp>
          <p:nvSpPr>
            <p:cNvPr id="679" name="_s53262"/>
            <p:cNvSpPr/>
            <p:nvPr/>
          </p:nvSpPr>
          <p:spPr>
            <a:xfrm flipH="1">
              <a:off x="2581200" y="3428640"/>
              <a:ext cx="995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53261"/>
            <p:cNvSpPr/>
            <p:nvPr/>
          </p:nvSpPr>
          <p:spPr>
            <a:xfrm>
              <a:off x="590400" y="2741040"/>
              <a:ext cx="1990440" cy="1375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тела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_s53260"/>
            <p:cNvSpPr/>
            <p:nvPr/>
          </p:nvSpPr>
          <p:spPr>
            <a:xfrm>
              <a:off x="4571640" y="4116240"/>
              <a:ext cx="0" cy="687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53259"/>
            <p:cNvSpPr/>
            <p:nvPr/>
          </p:nvSpPr>
          <p:spPr>
            <a:xfrm>
              <a:off x="3576240" y="4803840"/>
              <a:ext cx="1990440" cy="1375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јагња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_s53258"/>
            <p:cNvSpPr/>
            <p:nvPr/>
          </p:nvSpPr>
          <p:spPr>
            <a:xfrm>
              <a:off x="5567040" y="3428640"/>
              <a:ext cx="995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53257"/>
            <p:cNvSpPr/>
            <p:nvPr/>
          </p:nvSpPr>
          <p:spPr>
            <a:xfrm>
              <a:off x="6562080" y="2741040"/>
              <a:ext cx="1991160" cy="1375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цвећ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_s53256"/>
            <p:cNvSpPr/>
            <p:nvPr/>
          </p:nvSpPr>
          <p:spPr>
            <a:xfrm flipV="1">
              <a:off x="4571640" y="2053440"/>
              <a:ext cx="0" cy="687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_s53255"/>
            <p:cNvSpPr/>
            <p:nvPr/>
          </p:nvSpPr>
          <p:spPr>
            <a:xfrm>
              <a:off x="3576240" y="678240"/>
              <a:ext cx="1990440" cy="1375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пила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_s53254"/>
            <p:cNvSpPr/>
            <p:nvPr/>
          </p:nvSpPr>
          <p:spPr>
            <a:xfrm>
              <a:off x="3576240" y="2741040"/>
              <a:ext cx="1990440" cy="1375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ЗБИРН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ИМЕНИЦ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ahoma"/>
              </a:rPr>
              <a:t>Збир</a:t>
            </a: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н</a:t>
            </a:r>
            <a:r>
              <a:rPr b="1" lang="sr-CS" sz="4400" spc="-1" strike="noStrike">
                <a:solidFill>
                  <a:srgbClr val="ffffcc"/>
                </a:solidFill>
                <a:latin typeface="Tahoma"/>
              </a:rPr>
              <a:t>е имени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означавају мноштво бића или предмета који се налазе у неком зби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обликом једнине означавају множину - немају облике за множи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91" name=""/>
          <p:cNvGrpSpPr/>
          <p:nvPr/>
        </p:nvGrpSpPr>
        <p:grpSpPr>
          <a:xfrm>
            <a:off x="609480" y="1938240"/>
            <a:ext cx="8076240" cy="3699360"/>
            <a:chOff x="609480" y="1938240"/>
            <a:chExt cx="8076240" cy="3699360"/>
          </a:xfrm>
        </p:grpSpPr>
        <p:cxnSp>
          <p:nvCxnSpPr>
            <p:cNvPr id="692" name="_s54315"/>
            <p:cNvCxnSpPr>
              <a:stCxn id="693" idx="0"/>
              <a:endCxn id="694" idx="2"/>
            </p:cNvCxnSpPr>
            <p:nvPr/>
          </p:nvCxnSpPr>
          <p:spPr>
            <a:xfrm flipV="1" rot="16200000">
              <a:off x="5364720" y="2700000"/>
              <a:ext cx="740520" cy="2174400"/>
            </a:xfrm>
            <a:prstGeom prst="bentConnector3">
              <a:avLst>
                <a:gd name="adj1" fmla="val 154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5" name="_s54313"/>
            <p:cNvCxnSpPr>
              <a:stCxn id="696" idx="0"/>
              <a:endCxn id="694" idx="2"/>
            </p:cNvCxnSpPr>
            <p:nvPr/>
          </p:nvCxnSpPr>
          <p:spPr>
            <a:xfrm flipH="1" flipV="1" rot="5400000">
              <a:off x="3190320" y="2699640"/>
              <a:ext cx="740520" cy="2175480"/>
            </a:xfrm>
            <a:prstGeom prst="bentConnector3">
              <a:avLst>
                <a:gd name="adj1" fmla="val 154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94" name="_s54309"/>
            <p:cNvSpPr/>
            <p:nvPr/>
          </p:nvSpPr>
          <p:spPr>
            <a:xfrm>
              <a:off x="2784240" y="1938240"/>
              <a:ext cx="3727440" cy="147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100" spc="-1" strike="noStrike">
                  <a:solidFill>
                    <a:srgbClr val="ffffff"/>
                  </a:solidFill>
                  <a:latin typeface="Times Roman Cirilica"/>
                </a:rPr>
                <a:t>ГРАДИВН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100" spc="-1" strike="noStrike">
                  <a:solidFill>
                    <a:srgbClr val="ffffff"/>
                  </a:solidFill>
                  <a:latin typeface="Times Roman Cirilica"/>
                </a:rPr>
                <a:t>ИМЕНИЦ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_s54310"/>
            <p:cNvSpPr/>
            <p:nvPr/>
          </p:nvSpPr>
          <p:spPr>
            <a:xfrm>
              <a:off x="609480" y="4158000"/>
              <a:ext cx="3727440" cy="147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100" spc="-1" strike="noStrike">
                  <a:solidFill>
                    <a:srgbClr val="ffffff"/>
                  </a:solidFill>
                  <a:latin typeface="Times Roman Cirilica"/>
                </a:rPr>
                <a:t>млеко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54312"/>
            <p:cNvSpPr/>
            <p:nvPr/>
          </p:nvSpPr>
          <p:spPr>
            <a:xfrm>
              <a:off x="4958280" y="4158000"/>
              <a:ext cx="3727440" cy="147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100" spc="-1" strike="noStrike">
                  <a:solidFill>
                    <a:srgbClr val="ffffff"/>
                  </a:solidFill>
                  <a:latin typeface="Times Roman Cirilica"/>
                </a:rPr>
                <a:t>злато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Градивне имени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означавају неку матери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немају облике множ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Имају облике множине кад означавају различите врсте исте материје, нп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Са свих страна навирале су в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4114800"/>
            <a:ext cx="30456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Times Roman Cirilica"/>
              </a:rPr>
              <a:t>МИСАОНЕ (АПСТРАКТНЕ) ИМЕНИЦ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1066680"/>
            <a:ext cx="1523880" cy="1371600"/>
          </a:xfrm>
          <a:custGeom>
            <a:avLst/>
            <a:gdLst>
              <a:gd name="textAreaLeft" fmla="*/ 358200 w 1523880"/>
              <a:gd name="textAreaRight" fmla="*/ 1164600 w 1523880"/>
              <a:gd name="textAreaTop" fmla="*/ 161280 h 1371600"/>
              <a:gd name="textAreaBottom" fmla="*/ 860400 h 1371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880" y="1295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ston Cirilica"/>
              </a:rPr>
              <a:t>љуб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95280" y="2743200"/>
            <a:ext cx="1600200" cy="1523880"/>
          </a:xfrm>
          <a:prstGeom prst="smileyFace">
            <a:avLst>
              <a:gd name="adj" fmla="val -465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600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ston Cirilica"/>
              </a:rPr>
              <a:t>бри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4343400"/>
            <a:ext cx="2133720" cy="1981080"/>
          </a:xfrm>
          <a:custGeom>
            <a:avLst/>
            <a:gdLst>
              <a:gd name="textAreaLeft" fmla="*/ 758520 w 2133720"/>
              <a:gd name="textAreaRight" fmla="*/ 1375200 w 2133720"/>
              <a:gd name="textAreaTop" fmla="*/ 704160 h 1981080"/>
              <a:gd name="textAreaBottom" fmla="*/ 1276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78" y="7678"/>
                </a:lnTo>
                <a:lnTo>
                  <a:pt x="10800" y="0"/>
                </a:lnTo>
                <a:lnTo>
                  <a:pt x="13922" y="7678"/>
                </a:lnTo>
                <a:lnTo>
                  <a:pt x="21600" y="10800"/>
                </a:lnTo>
                <a:lnTo>
                  <a:pt x="13922" y="13922"/>
                </a:lnTo>
                <a:lnTo>
                  <a:pt x="10800" y="21600"/>
                </a:lnTo>
                <a:lnTo>
                  <a:pt x="7678" y="13922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ston Cirilica"/>
              </a:rPr>
              <a:t>леп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1523880"/>
            <a:ext cx="51055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 нешто неопипљиво, што се замишља или осећа, односно уочава ка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осећање  (туга, радост, чежња, бол, страх, над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особина  (младост, лепота, снага, старост, брзина, даљина, свежи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радња или ст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3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3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3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Times Roman Cirilica"/>
              </a:rPr>
              <a:t>ГЛАГОЛСКЕ ИМЕНИЦ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19720" y="19047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 име радње и стањ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читати – чит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ричати – прич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омагати - помаг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58480" y="2148840"/>
            <a:ext cx="3827160" cy="3664440"/>
            <a:chOff x="258480" y="2148840"/>
            <a:chExt cx="3827160" cy="3664440"/>
          </a:xfrm>
        </p:grpSpPr>
        <p:sp>
          <p:nvSpPr>
            <p:cNvPr id="712" name="_s701450"/>
            <p:cNvSpPr/>
            <p:nvPr/>
          </p:nvSpPr>
          <p:spPr>
            <a:xfrm>
              <a:off x="1063440" y="2148840"/>
              <a:ext cx="2215800" cy="2606760"/>
            </a:xfrm>
            <a:custGeom>
              <a:avLst/>
              <a:gdLst>
                <a:gd name="textAreaLeft" fmla="*/ 0 w 2215800"/>
                <a:gd name="textAreaRight" fmla="*/ 2215800 w 2215800"/>
                <a:gd name="textAreaTop" fmla="*/ 0 h 2606760"/>
                <a:gd name="textAreaBottom" fmla="*/ 2607120 h 260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1451"/>
            <p:cNvSpPr/>
            <p:nvPr/>
          </p:nvSpPr>
          <p:spPr>
            <a:xfrm rot="7200000">
              <a:off x="1171080" y="2959200"/>
              <a:ext cx="2606760" cy="2215800"/>
            </a:xfrm>
            <a:custGeom>
              <a:avLst/>
              <a:gdLst>
                <a:gd name="textAreaLeft" fmla="*/ 0 w 2606760"/>
                <a:gd name="textAreaRight" fmla="*/ 2607120 w 2606760"/>
                <a:gd name="textAreaTop" fmla="*/ 0 h 2215800"/>
                <a:gd name="textAreaBottom" fmla="*/ 2215800 h 22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_s701453"/>
            <p:cNvSpPr/>
            <p:nvPr/>
          </p:nvSpPr>
          <p:spPr>
            <a:xfrm rot="14400000">
              <a:off x="565920" y="2960640"/>
              <a:ext cx="2607120" cy="221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_s701448"/>
            <p:cNvSpPr/>
            <p:nvPr/>
          </p:nvSpPr>
          <p:spPr>
            <a:xfrm>
              <a:off x="2779560" y="2626200"/>
              <a:ext cx="8881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ston Cirilica"/>
                </a:rPr>
                <a:t>помагањ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1449"/>
            <p:cNvSpPr/>
            <p:nvPr/>
          </p:nvSpPr>
          <p:spPr>
            <a:xfrm>
              <a:off x="1728000" y="4768560"/>
              <a:ext cx="8881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ston Cirilica"/>
                </a:rPr>
                <a:t>причањ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_s701452"/>
            <p:cNvSpPr/>
            <p:nvPr/>
          </p:nvSpPr>
          <p:spPr>
            <a:xfrm>
              <a:off x="676800" y="2628000"/>
              <a:ext cx="8881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ston Cirilica"/>
                </a:rPr>
                <a:t>читањ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Times Roman Cirilica"/>
              </a:rPr>
              <a:t>БРОЈНЕ  ИМЕНИЦ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9" name=""/>
          <p:cNvSpPr/>
          <p:nvPr/>
        </p:nvSpPr>
        <p:spPr>
          <a:xfrm>
            <a:off x="609480" y="3962520"/>
            <a:ext cx="1524240" cy="457200"/>
          </a:xfrm>
          <a:prstGeom prst="flowChartTermina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2743200"/>
            <a:ext cx="1524240" cy="457200"/>
          </a:xfrm>
          <a:prstGeom prst="flowChartTermina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52480" y="5257800"/>
            <a:ext cx="1600200" cy="457200"/>
          </a:xfrm>
          <a:prstGeom prst="flowChartTermina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62120" y="39625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ston Cirilica"/>
              </a:rPr>
              <a:t>пет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57400" y="2743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ston Cirilica"/>
              </a:rPr>
              <a:t>двој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0512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ston Cirilica"/>
              </a:rPr>
              <a:t>сто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038480" y="1752480"/>
            <a:ext cx="472464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sto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број мушких особа (петорица, дванаесториц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називе оцена (двојка, јединица, осмиц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хиљада, стотина, милион, милијар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2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2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20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ahoma"/>
              </a:rPr>
              <a:t>Научи и ово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6934320" y="3352680"/>
          <a:ext cx="22096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352680"/>
                    <a:ext cx="2209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752480" y="1447920"/>
            <a:ext cx="2133720" cy="1143000"/>
          </a:xfrm>
          <a:prstGeom prst="wedgeRoundRectCallout">
            <a:avLst>
              <a:gd name="adj1" fmla="val -45310"/>
              <a:gd name="adj2" fmla="val 101250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Roman Cirilica"/>
              </a:rPr>
              <a:t>Знаш ли да постоје именице које имају само облик множин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638680" y="1295280"/>
            <a:ext cx="1447920" cy="1219320"/>
          </a:xfrm>
          <a:prstGeom prst="cloudCallout">
            <a:avLst>
              <a:gd name="adj1" fmla="val 106907"/>
              <a:gd name="adj2" fmla="val 11041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?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38280" y="2743200"/>
            <a:ext cx="2057400" cy="1295280"/>
          </a:xfrm>
          <a:prstGeom prst="wedgeRoundRectCallout">
            <a:avLst>
              <a:gd name="adj1" fmla="val -69444"/>
              <a:gd name="adj2" fmla="val 49754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Roman Cirilica"/>
              </a:rPr>
              <a:t>Па да! Нпр. панталоне, маказе,  новине, Карловци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76920" y="2514600"/>
            <a:ext cx="2361960" cy="1600200"/>
          </a:xfrm>
          <a:prstGeom prst="wedgeEllipseCallout">
            <a:avLst>
              <a:gd name="adj1" fmla="val 52287"/>
              <a:gd name="adj2" fmla="val 4226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Roman Cirilica"/>
              </a:rPr>
              <a:t>Аха! А постоје ли именице које имају само једнину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514600" y="2590920"/>
            <a:ext cx="1981080" cy="380880"/>
          </a:xfrm>
          <a:prstGeom prst="wedgeRoundRectCallout">
            <a:avLst>
              <a:gd name="adj1" fmla="val -79087"/>
              <a:gd name="adj2" fmla="val 202916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Roman Cirilica"/>
              </a:rPr>
              <a:t>Наравн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2209680" cy="3429000"/>
          </a:xfrm>
          <a:prstGeom prst="rect">
            <a:avLst/>
          </a:prstGeom>
          <a:ln cap="rnd" w="9360">
            <a:solidFill>
              <a:srgbClr val="8c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1000" autoRev="1" fill="hold"/>
                                        <p:tgtEl>
                                          <p:spTgt spid="7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1000" autoRev="1" fill="hold"/>
                                        <p:tgtEl>
                                          <p:spTgt spid="7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3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3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3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imes Roman Cirilica"/>
              </a:rPr>
              <a:t>НАУЧИ И ОВО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именице које имају само облик множине, али њиме исказују једнину зову се </a:t>
            </a:r>
            <a:r>
              <a:rPr b="1" lang="en-US" sz="2400" spc="-1" strike="noStrike">
                <a:solidFill>
                  <a:srgbClr val="ffffff"/>
                </a:solidFill>
                <a:latin typeface="Times Roman Cirilica"/>
              </a:rPr>
              <a:t>pluralia tantum</a:t>
            </a: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, то 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имена градова: Сремски Карлов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именице: груди, резанци, леђа, прса, јасле, д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495320" y="15238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именице које имају само облик  једнине зову се </a:t>
            </a:r>
            <a:r>
              <a:rPr b="1" lang="en-US" sz="2400" spc="-1" strike="noStrike">
                <a:solidFill>
                  <a:srgbClr val="ffffff"/>
                </a:solidFill>
                <a:latin typeface="Times Roman Cirilica"/>
              </a:rPr>
              <a:t>singularia tantum</a:t>
            </a: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, то 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лична имена: Ана, Ј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нека географска имена: Београд, Загре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збирне именице које завршавају на суфиксе    –ад и –је: пилад, цве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апстрактне именице: плач, радост, трч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Врсте имен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власти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заједнич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збир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градив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мисаоне (апстрактн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глаголс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број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200"/>
                            </p:stCondLst>
                            <p:childTnLst>
                              <p:par>
                                <p:cTn id="4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600"/>
                            </p:stCondLst>
                            <p:childTnLst>
                              <p:par>
                                <p:cTn id="4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400"/>
                            </p:stCondLst>
                            <p:childTnLst>
                              <p:par>
                                <p:cTn id="4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4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78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34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70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5400" spc="-1" strike="noStrike">
                <a:solidFill>
                  <a:srgbClr val="ffffcc"/>
                </a:solidFill>
                <a:latin typeface="Times New Roman"/>
              </a:rPr>
              <a:t>ИМЕНИЦЕ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4114800" y="541008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2819520" y="5410080"/>
          <a:ext cx="914400" cy="71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33520" y="5410080"/>
          <a:ext cx="914400" cy="71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5334120" y="5410080"/>
          <a:ext cx="914400" cy="714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676520" y="5410080"/>
          <a:ext cx="914400" cy="714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4920" y="281952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ФУНКЦИЈА ИМЕНИЦА У РЕЧЕН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Подвуци субјекте у следећим реченицам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Ана Ристић живи у Новом Сад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Њена бака Јела живи у Бачком Петровом Сел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Љубав и брига за баку довели су Ану на се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Comic Sans MS"/>
              </a:rPr>
              <a:t>Ана ужива у лепоти сеоског домаћинства и у помагању баки.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Уз шољу млека унука и бака уживају у читању и          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причању дуго у ноћ посматрајући месец и звез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Ана је бакино злат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одвуци предикате у следећим реченицама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Успешан је ђак и вредна девојчиц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на је бакино зла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двуци објекте у следећим реченица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Гаји пилад, телад, јагњад и негује цвећ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а ужива у лепоти сеоског домаћинства и у помагању бак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з шољу млека унука и бака уживају у читању и причању дуго у ноћ посматрајући месец и звезд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двуци прилошке одред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а Ристић живи у Новом Сад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Њена бака Јела живи у Бачком Петровом Селу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Љубав и брига за баку довели су Ану на сел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з шољу млека унука и бака уживају у читању и причању дуго у ноћ посматрајући месец и звезд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ЗАКЉУЧИ</a:t>
            </a:r>
            <a:r>
              <a:rPr b="0" lang="sr-CS" sz="3200" spc="-1" strike="noStrike">
                <a:solidFill>
                  <a:srgbClr val="ffffcc"/>
                </a:solidFill>
                <a:latin typeface="Times Roman Cirilic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Именице могу бити у функциј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субј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именског предик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обј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прилошке одред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4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4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4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4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14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696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Именице могу имати и следеће функциј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АТРИБ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Бакино цвеће </a:t>
            </a: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из баште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најлепше мири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Цвркут </a:t>
            </a: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птиц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је налепша пес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АПОЗИ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Њена </a:t>
            </a: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ба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Јела живи у Бачком Петровом Се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Девојчиц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Ана је бакино зла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2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2000"/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ТРИБУ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Посматрај природу око себе. Опиши је у неколико реченица тако што ћеш употребити именицу у служби атрибу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Волим да слушам цвркут __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Милују ме зраци _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Под ногама осећам шуштање _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Гране ______ њишу се у ритму песме 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ПОЗИ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Допиши апозиције у следећим реченица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У Сремским Карловцима, ________________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налази се чувена Карловачка гимназиј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Овог лета посетићемо Париз, _________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Београд, __________________ , налази се на ушћу Саве у Дуна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imes Roman Cirilica"/>
              </a:rPr>
              <a:t>ПРАВОПИ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Великим почетним словом пишу се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властита имена, презимена и надим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топоно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народа, нација и станов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небеских тела и њихових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установа, предузећа, друштава, организација и с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праз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наденута имена животи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називи књижевних дела, часописа, нов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грађевина, објеката, предмета, уопште појединих примерака нечега</a:t>
            </a: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Карактеристике имен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промењива врста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именују предмете, бића, појаве, географске и уопштене појмо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самосталне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род – мушки и жен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број – једнина и множ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паде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228600" y="76212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рочитај следећи тек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Ана Ристић живи у Новом Саду. Успешан је ђак и вредна девојчица. Њена бака Јела живи у Бачком Петровом Селу. Гаји пилад, телад, јагњад и негује цвеће. Љубав и брига за баку довели су Ану на село. Ана ужива у лепоти сеоског домаћинства и у помагању баки. Уз шољу млека унука и бака уживају у читању и причању дуго у ноћ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Девојчица Ана је бакино зла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Задат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одвуци све именице у текс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457200" y="457200"/>
            <a:ext cx="8458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ston Cirilica"/>
              </a:rPr>
              <a:t>	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Ана Ристић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живи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Новом Сад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Успешан 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ђак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вредн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девојчиц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Њен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Јел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живи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чком Петровом Сел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Гај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пилад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,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телад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,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јагњад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негу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цвеће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Љубав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риг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з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к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довели с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Ан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н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село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Ан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ужива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лепоти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сеоског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домаћинств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помагањ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ки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Уз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шољ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мле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уну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уживају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читањ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причањ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дуго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ноћ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Девојчиц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Ан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је баки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злато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Задат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одвучене именице разврстај према врстама име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457200" y="846000"/>
            <a:ext cx="8228880" cy="5193720"/>
            <a:chOff x="457200" y="846000"/>
            <a:chExt cx="8228880" cy="5193720"/>
          </a:xfrm>
        </p:grpSpPr>
        <p:sp>
          <p:nvSpPr>
            <p:cNvPr id="641" name="_s6172"/>
            <p:cNvSpPr/>
            <p:nvPr/>
          </p:nvSpPr>
          <p:spPr>
            <a:xfrm flipH="1">
              <a:off x="2513880" y="3443040"/>
              <a:ext cx="1028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6171"/>
            <p:cNvSpPr/>
            <p:nvPr/>
          </p:nvSpPr>
          <p:spPr>
            <a:xfrm>
              <a:off x="457200" y="2793960"/>
              <a:ext cx="2056680" cy="12981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Нови Са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156"/>
            <p:cNvSpPr/>
            <p:nvPr/>
          </p:nvSpPr>
          <p:spPr>
            <a:xfrm>
              <a:off x="4571640" y="4092120"/>
              <a:ext cx="0" cy="64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6155"/>
            <p:cNvSpPr/>
            <p:nvPr/>
          </p:nvSpPr>
          <p:spPr>
            <a:xfrm>
              <a:off x="3543120" y="4741200"/>
              <a:ext cx="2056680" cy="12985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Бачко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Петров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 </a:t>
              </a: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Сел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6154"/>
            <p:cNvSpPr/>
            <p:nvPr/>
          </p:nvSpPr>
          <p:spPr>
            <a:xfrm>
              <a:off x="5600160" y="3443040"/>
              <a:ext cx="1028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153"/>
            <p:cNvSpPr/>
            <p:nvPr/>
          </p:nvSpPr>
          <p:spPr>
            <a:xfrm>
              <a:off x="6629400" y="2793960"/>
              <a:ext cx="2056680" cy="12981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Је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6152"/>
            <p:cNvSpPr/>
            <p:nvPr/>
          </p:nvSpPr>
          <p:spPr>
            <a:xfrm flipV="1">
              <a:off x="4571640" y="2144160"/>
              <a:ext cx="0" cy="64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151"/>
            <p:cNvSpPr/>
            <p:nvPr/>
          </p:nvSpPr>
          <p:spPr>
            <a:xfrm>
              <a:off x="3543120" y="846000"/>
              <a:ext cx="2056680" cy="12981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900" spc="-1" strike="noStrike">
                  <a:solidFill>
                    <a:srgbClr val="ffffff"/>
                  </a:solidFill>
                  <a:latin typeface="Times Roman Cirilica"/>
                </a:rPr>
                <a:t>Ана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900" spc="-1" strike="noStrike">
                  <a:solidFill>
                    <a:srgbClr val="ffffff"/>
                  </a:solidFill>
                  <a:latin typeface="Times Roman Cirilica"/>
                </a:rPr>
                <a:t>Ристић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6150"/>
            <p:cNvSpPr/>
            <p:nvPr/>
          </p:nvSpPr>
          <p:spPr>
            <a:xfrm>
              <a:off x="3543120" y="2793960"/>
              <a:ext cx="2056680" cy="12981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500" spc="-1" strike="noStrike">
                  <a:solidFill>
                    <a:srgbClr val="ffffff"/>
                  </a:solidFill>
                  <a:latin typeface="Times Roman Cirilica"/>
                </a:rPr>
                <a:t>ВЛАСТИТ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500" spc="-1" strike="noStrike">
                  <a:solidFill>
                    <a:srgbClr val="ffffff"/>
                  </a:solidFill>
                  <a:latin typeface="Times Roman Cirilica"/>
                </a:rPr>
                <a:t> </a:t>
              </a:r>
              <a:r>
                <a:rPr b="1" lang="sr-CS" sz="2500" spc="-1" strike="noStrike">
                  <a:solidFill>
                    <a:srgbClr val="ffffff"/>
                  </a:solidFill>
                  <a:latin typeface="Times Roman Cirilica"/>
                </a:rPr>
                <a:t>ИМЕНИЦ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Властите имени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 имена и надимке људи, имена животиња, различита географска имена и имена небеских те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немају множин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Множину имају само</a:t>
            </a:r>
            <a:r>
              <a:rPr b="1" lang="en-U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следећим примерим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Време је пролазило, Мораве су тек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Сање су се појави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Много је Ајнштајна, али мало је прав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" y="4114800"/>
            <a:ext cx="304920" cy="38088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538560" y="604080"/>
            <a:ext cx="7992360" cy="5569200"/>
            <a:chOff x="538560" y="604080"/>
            <a:chExt cx="7992360" cy="5569200"/>
          </a:xfrm>
        </p:grpSpPr>
        <p:sp>
          <p:nvSpPr>
            <p:cNvPr id="654" name="_s4123"/>
            <p:cNvSpPr/>
            <p:nvPr/>
          </p:nvSpPr>
          <p:spPr>
            <a:xfrm flipV="1">
              <a:off x="4533480" y="1720080"/>
              <a:ext cx="0" cy="111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4122"/>
            <p:cNvSpPr/>
            <p:nvPr/>
          </p:nvSpPr>
          <p:spPr>
            <a:xfrm>
              <a:off x="3700080" y="60408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ђа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_s4121"/>
            <p:cNvSpPr/>
            <p:nvPr/>
          </p:nvSpPr>
          <p:spPr>
            <a:xfrm flipV="1">
              <a:off x="5023440" y="2037600"/>
              <a:ext cx="973440" cy="9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_s4120"/>
            <p:cNvSpPr/>
            <p:nvPr/>
          </p:nvSpPr>
          <p:spPr>
            <a:xfrm>
              <a:off x="5655960" y="1027440"/>
              <a:ext cx="166752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уну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4119"/>
            <p:cNvSpPr/>
            <p:nvPr/>
          </p:nvSpPr>
          <p:spPr>
            <a:xfrm flipV="1">
              <a:off x="5324760" y="2871000"/>
              <a:ext cx="1578600" cy="34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_s4118"/>
            <p:cNvSpPr/>
            <p:nvPr/>
          </p:nvSpPr>
          <p:spPr>
            <a:xfrm>
              <a:off x="6864120" y="214200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шољ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4117"/>
            <p:cNvSpPr/>
            <p:nvPr/>
          </p:nvSpPr>
          <p:spPr>
            <a:xfrm>
              <a:off x="5324760" y="3561480"/>
              <a:ext cx="1581840" cy="34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_s4116"/>
            <p:cNvSpPr/>
            <p:nvPr/>
          </p:nvSpPr>
          <p:spPr>
            <a:xfrm>
              <a:off x="6864120" y="351900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сел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4115"/>
            <p:cNvSpPr/>
            <p:nvPr/>
          </p:nvSpPr>
          <p:spPr>
            <a:xfrm>
              <a:off x="5020560" y="3838680"/>
              <a:ext cx="982440" cy="89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_s4114"/>
            <p:cNvSpPr/>
            <p:nvPr/>
          </p:nvSpPr>
          <p:spPr>
            <a:xfrm>
              <a:off x="5655960" y="4631400"/>
              <a:ext cx="166752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ба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_s4127"/>
            <p:cNvSpPr/>
            <p:nvPr/>
          </p:nvSpPr>
          <p:spPr>
            <a:xfrm>
              <a:off x="4533480" y="3944520"/>
              <a:ext cx="6120" cy="111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_s4126"/>
            <p:cNvSpPr/>
            <p:nvPr/>
          </p:nvSpPr>
          <p:spPr>
            <a:xfrm>
              <a:off x="3702600" y="5056920"/>
              <a:ext cx="1667520" cy="1116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но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4125"/>
            <p:cNvSpPr/>
            <p:nvPr/>
          </p:nvSpPr>
          <p:spPr>
            <a:xfrm flipH="1">
              <a:off x="3072960" y="3838680"/>
              <a:ext cx="973440" cy="9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_s4124"/>
            <p:cNvSpPr/>
            <p:nvPr/>
          </p:nvSpPr>
          <p:spPr>
            <a:xfrm>
              <a:off x="1746720" y="463320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домаћин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_s4131"/>
            <p:cNvSpPr/>
            <p:nvPr/>
          </p:nvSpPr>
          <p:spPr>
            <a:xfrm flipH="1">
              <a:off x="2165760" y="3559680"/>
              <a:ext cx="1579320" cy="34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4130"/>
            <p:cNvSpPr/>
            <p:nvPr/>
          </p:nvSpPr>
          <p:spPr>
            <a:xfrm>
              <a:off x="538560" y="3519000"/>
              <a:ext cx="166752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звезд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_s4129"/>
            <p:cNvSpPr/>
            <p:nvPr/>
          </p:nvSpPr>
          <p:spPr>
            <a:xfrm flipH="1" flipV="1">
              <a:off x="2163240" y="2874600"/>
              <a:ext cx="1581840" cy="34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4128"/>
            <p:cNvSpPr/>
            <p:nvPr/>
          </p:nvSpPr>
          <p:spPr>
            <a:xfrm>
              <a:off x="538560" y="2142000"/>
              <a:ext cx="166752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месе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_s4113"/>
            <p:cNvSpPr/>
            <p:nvPr/>
          </p:nvSpPr>
          <p:spPr>
            <a:xfrm flipH="1" flipV="1">
              <a:off x="3066840" y="2039400"/>
              <a:ext cx="982440" cy="89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4112"/>
            <p:cNvSpPr/>
            <p:nvPr/>
          </p:nvSpPr>
          <p:spPr>
            <a:xfrm>
              <a:off x="1746720" y="1029240"/>
              <a:ext cx="1666800" cy="1116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девојчиц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_s4111"/>
            <p:cNvSpPr/>
            <p:nvPr/>
          </p:nvSpPr>
          <p:spPr>
            <a:xfrm>
              <a:off x="3700080" y="283248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ЗАЈЕДНИЧКЕ</a:t>
              </a:r>
              <a:r>
                <a:rPr b="0" lang="sr-CS" sz="1500" spc="-1" strike="noStrike">
                  <a:solidFill>
                    <a:srgbClr val="ffffff"/>
                  </a:solidFill>
                  <a:latin typeface="Times Roman Cirilic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ИМЕНИЦ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Заједничке имени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 имена бића, предмета и појава са заједничким особин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имају оба граматичка броја – једнину и множ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Неке заједничке именице немају правилну множину, а неке имају и облик збирне именице, нпр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дете – де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лист – листови - лишћ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3886200"/>
            <a:ext cx="304560" cy="3808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cap="rnd" w="9360">
            <a:solidFill>
              <a:srgbClr val="8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8:43:21Z</dcterms:created>
  <dc:creator>PC</dc:creator>
  <dc:description/>
  <dc:language>en-US</dc:language>
  <cp:lastModifiedBy>Billy</cp:lastModifiedBy>
  <dcterms:modified xsi:type="dcterms:W3CDTF">2015-01-21T22:24:52Z</dcterms:modified>
  <cp:revision>28</cp:revision>
  <dc:subject/>
  <dc:title>I  M  E  N  I  C  E</dc:title>
</cp:coreProperties>
</file>