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.jpeg" ContentType="image/jpeg"/>
  <Override PartName="/ppt/media/image47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35.wmf" ContentType="image/x-wmf"/>
  <Override PartName="/ppt/media/image5.png" ContentType="image/png"/>
  <Override PartName="/ppt/media/image36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4.wmf" ContentType="image/x-wmf"/>
  <Override PartName="/ppt/media/image9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A30-9ECE-435B-8A8F-22EF405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771-16C7-4C5F-8E79-E72334C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A11-C3F5-4C2E-8A81-752765DA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861-905F-427B-9E89-154AA18E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2E26-4656-4DD5-8450-FC7B14EE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9EF1-C9BB-4F08-A54A-200CBF3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D998-2167-4449-AAE5-0504E840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C964-48FD-488C-80C5-BDADB59D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FE6D1-F9D5-4375-BF30-177A47F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32282-483B-40A6-80B3-366E2F2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F57C5-26B5-43C5-A1B9-FB7F171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E5E-626E-4BA4-B849-6C0EB03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62772-A589-4D2C-AA60-FB4975C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E595-542D-4811-A93D-28154C5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76FCF-F6C5-4CB9-90FB-236495B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7E3A-1398-4144-AA3D-E3609D8E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2CED-EFA3-4419-B1BE-7B15CE75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840-5A7C-43E6-9171-20068459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70A-DDE7-4C14-9551-C1D1C8D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742-C6E3-43AD-865E-52639225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E29-80ED-4903-BE88-23F8234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F3C-FE62-4A50-A1C6-64D7C68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0DA-5B5C-40D4-8BB0-7EAF856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8E8-276D-483D-BAE6-E990B0C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B60-D093-4F5B-AEF9-2CEF849F3F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E69-71BE-449B-B6BA-4AB6A3F7F7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cb75"/>
                </a:solidFill>
                <a:latin typeface="Palatino Linotype"/>
              </a:rPr>
              <a:t>Завод за унапређивање образовања и васпита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006b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Palatino Linotype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006b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Александра Јовано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Слободанка Лазарев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Зоран Ден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Скуповне операц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Palatino Linotype"/>
              </a:rPr>
              <a:t>Пети раз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244476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127" name=""/>
          <p:cNvGraphicFramePr/>
          <p:nvPr/>
        </p:nvGraphicFramePr>
        <p:xfrm>
          <a:off x="1371600" y="5638680"/>
          <a:ext cx="11430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5638680"/>
                    <a:ext cx="1143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3657600" cy="241452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130" name=""/>
          <p:cNvGraphicFramePr/>
          <p:nvPr/>
        </p:nvGraphicFramePr>
        <p:xfrm>
          <a:off x="6477120" y="5562720"/>
          <a:ext cx="11430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77120" y="5562720"/>
                    <a:ext cx="1143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600200" y="304920"/>
            <a:ext cx="6400800" cy="2286000"/>
          </a:xfrm>
          <a:prstGeom prst="cloudCallout">
            <a:avLst>
              <a:gd name="adj1" fmla="val -6847"/>
              <a:gd name="adj2" fmla="val 78055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1600" y="68580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523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5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ДАТИ СУ СКУП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4114800"/>
          <a:ext cx="525780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14800"/>
                    <a:ext cx="52578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400800" y="4070520"/>
          <a:ext cx="27432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4070520"/>
                    <a:ext cx="27432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28800" y="228600"/>
            <a:ext cx="6172200" cy="1905120"/>
          </a:xfrm>
          <a:prstGeom prst="cloudCallout">
            <a:avLst>
              <a:gd name="adj1" fmla="val -282"/>
              <a:gd name="adj2" fmla="val 8675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1652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8600" y="3994200"/>
            <a:ext cx="714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240660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0040" y="3124080"/>
            <a:ext cx="2759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ДРЕД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92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192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192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192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92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92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192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192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5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09680" y="2895480"/>
          <a:ext cx="327672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895480"/>
                    <a:ext cx="32767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676520" y="352440"/>
            <a:ext cx="5257800" cy="1981080"/>
          </a:xfrm>
          <a:prstGeom prst="cloudCallout">
            <a:avLst>
              <a:gd name="adj1" fmla="val -17087"/>
              <a:gd name="adj2" fmla="val 7219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0720" y="53964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9160" y="1371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3676680"/>
          <a:ext cx="342900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676680"/>
                    <a:ext cx="3429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23880" y="4648320"/>
          <a:ext cx="5943600" cy="80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4648320"/>
                    <a:ext cx="59436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676520" y="5410080"/>
          <a:ext cx="33526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410080"/>
                    <a:ext cx="3352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5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657600" cy="322740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600200" y="304920"/>
            <a:ext cx="5486400" cy="1752480"/>
          </a:xfrm>
          <a:prstGeom prst="cloudCallout">
            <a:avLst>
              <a:gd name="adj1" fmla="val -1995"/>
              <a:gd name="adj2" fmla="val 83513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0720" y="7207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4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66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НА ВЕНОВОМ ДИЈАГРА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4572000"/>
          <a:ext cx="3048120" cy="9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72000"/>
                    <a:ext cx="30481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92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1925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7" dur="192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9" dur="192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92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1925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192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192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5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715000" y="5334120"/>
          <a:ext cx="1523880" cy="119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5334120"/>
                    <a:ext cx="15238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181480" y="3886200"/>
          <a:ext cx="251460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886200"/>
                    <a:ext cx="2514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0"/>
            <a:ext cx="6019920" cy="1981080"/>
          </a:xfrm>
          <a:prstGeom prst="cloudCallout">
            <a:avLst>
              <a:gd name="adj1" fmla="val -129"/>
              <a:gd name="adj2" fmla="val 8269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520" y="263520"/>
            <a:ext cx="37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</a:t>
            </a:r>
            <a:r>
              <a:rPr b="0" lang="sr-CS" sz="4400" spc="-1" strike="noStrike">
                <a:solidFill>
                  <a:srgbClr val="c1cb75"/>
                </a:solidFill>
                <a:latin typeface="Palatino Linotype"/>
              </a:rPr>
              <a:t> 4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24520" y="10666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1295280" y="2971800"/>
            <a:ext cx="3632400" cy="329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5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5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295280" y="5410080"/>
          <a:ext cx="236232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410080"/>
                    <a:ext cx="2362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95160" y="5315040"/>
            <a:ext cx="8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)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Б)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029200"/>
            <a:ext cx="4876920" cy="18288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ДОМАЋИ ЗАДАТ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БИРКА ЗАДАТАКА „КРУГ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ТРАНА:   4. И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АДАЦИ:     23, 24, 26,  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-152280"/>
            <a:ext cx="8458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ПИТАЊА И ЗАДАТАК ЗА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 </a:t>
            </a: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Impact"/>
              </a:rPr>
              <a:t>ПОНАВЉАЊЕ И УТВРЂИВАЊ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УНИЈА ДВА СКУП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УНИЈ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ПРЕСЕК ДВА СКУП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ПРЕСЕ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НА СКУПОВИМА  А=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{a,b,c,1,2}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 B={b,c,d,2,3,4}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ПРОВЕРИ ДА ЛИ 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4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38080" y="4876920"/>
          <a:ext cx="274644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876920"/>
                    <a:ext cx="274644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04920" y="0"/>
            <a:ext cx="8610480" cy="182880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РАЗЛИКА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828800"/>
            <a:ext cx="3962160" cy="457200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РАЗЛИКА СКУ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 КОЈИ 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АСТОЈИ ОД СВ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А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КОЈИ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2133720"/>
          <a:ext cx="3960720" cy="22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2133720"/>
                    <a:ext cx="3960720" cy="222228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1" dur="5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2286000"/>
            <a:ext cx="4496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ЗА СКУПОВЕ  А=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{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, </a:t>
            </a:r>
            <a:r>
              <a:rPr b="0" i="1" lang="sr-C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и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B</a:t>
            </a:r>
            <a:r>
              <a:rPr b="0" i="1" lang="en-US" sz="4000" spc="-1" strike="noStrike">
                <a:solidFill>
                  <a:srgbClr val="ffffff"/>
                </a:solidFill>
                <a:latin typeface="Palatino Linotype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{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,     ,      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ОДРЕ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124080" y="4876920"/>
          <a:ext cx="129564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4876920"/>
                    <a:ext cx="1295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124080" y="5638680"/>
          <a:ext cx="1295640" cy="64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38680"/>
                    <a:ext cx="1295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429000" y="3048120"/>
            <a:ext cx="304920" cy="30456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30481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8120"/>
            <a:ext cx="380880" cy="38088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657600"/>
            <a:ext cx="380880" cy="38088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3657600"/>
            <a:ext cx="381240" cy="380880"/>
          </a:xfrm>
          <a:custGeom>
            <a:avLst/>
            <a:gdLst>
              <a:gd name="textAreaLeft" fmla="*/ 89640 w 381240"/>
              <a:gd name="textAreaRight" fmla="*/ 291600 w 38124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581280"/>
            <a:ext cx="609840" cy="53352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52280"/>
            <a:ext cx="6400800" cy="1828800"/>
          </a:xfrm>
          <a:prstGeom prst="cloudCallout">
            <a:avLst>
              <a:gd name="adj1" fmla="val -1736"/>
              <a:gd name="adj2" fmla="val 58421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808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34360" y="48769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92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9" dur="192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1" dur="192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3" dur="192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92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1925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192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192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3" dur="5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5" dur="5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7" dur="5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9" dur="5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5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3" dur="5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5" dur="5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193680"/>
            <a:ext cx="5791320" cy="1981080"/>
          </a:xfrm>
          <a:prstGeom prst="cloudCallout">
            <a:avLst>
              <a:gd name="adj1" fmla="val 1097"/>
              <a:gd name="adj2" fmla="val 92226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49480" y="380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7920" y="12128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809880"/>
            <a:ext cx="4267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А</a:t>
            </a: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  B={    ,     ,     }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B  A={    </a:t>
            </a:r>
            <a:r>
              <a:rPr b="0" lang="sr-CS" sz="4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Palatino Linotype"/>
              </a:rPr>
              <a:t>,      }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666880" y="3886200"/>
          <a:ext cx="5223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038480" y="4038480"/>
            <a:ext cx="304920" cy="3049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40384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66880" y="4648320"/>
          <a:ext cx="522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464832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114800" y="4800600"/>
            <a:ext cx="380880" cy="380880"/>
          </a:xfrm>
          <a:custGeom>
            <a:avLst/>
            <a:gdLst>
              <a:gd name="textAreaLeft" fmla="*/ 89280 w 380880"/>
              <a:gd name="textAreaRight" fmla="*/ 291240 w 38088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724280"/>
            <a:ext cx="609480" cy="53352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1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5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7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9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590920"/>
            <a:ext cx="4419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СКУПОВИ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ДАТИ СУ ВЕНОВИМ ДИЈАГРАМ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67624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graphicFrame>
        <p:nvGraphicFramePr>
          <p:cNvPr id="212" name=""/>
          <p:cNvGraphicFramePr/>
          <p:nvPr/>
        </p:nvGraphicFramePr>
        <p:xfrm>
          <a:off x="7620120" y="2610000"/>
          <a:ext cx="1295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10000"/>
                    <a:ext cx="1295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38880" y="3219480"/>
          <a:ext cx="1295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219480"/>
                    <a:ext cx="1295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905120" y="0"/>
            <a:ext cx="5105160" cy="1752480"/>
          </a:xfrm>
          <a:prstGeom prst="cloudCallout">
            <a:avLst>
              <a:gd name="adj1" fmla="val -1337"/>
              <a:gd name="adj2" fmla="val 7681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36360" y="380880"/>
            <a:ext cx="34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59880" y="25909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77360" y="31240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92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1925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192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192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925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6" dur="1925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8" dur="192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0" dur="192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1" dur="5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53352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 Linotype"/>
              </a:rPr>
              <a:t>СКУПОВНЕ ОПЕРАЦИЈ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 Linotype"/>
              <a:ea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3276720"/>
            <a:ext cx="6476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УНИЈА И ПРЕСЕК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5029200"/>
            <a:ext cx="7010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РАЗЛИКА ДВА СКУПА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447920" y="5638680"/>
          <a:ext cx="990360" cy="6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638680"/>
                    <a:ext cx="990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781680" y="5638680"/>
          <a:ext cx="99072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638680"/>
                    <a:ext cx="990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438280" y="0"/>
            <a:ext cx="4419720" cy="1828800"/>
          </a:xfrm>
          <a:prstGeom prst="cloudCallout">
            <a:avLst>
              <a:gd name="adj1" fmla="val -1722"/>
              <a:gd name="adj2" fmla="val 91925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64600" y="3808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76800" y="106668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28600" y="2743200"/>
            <a:ext cx="4114800" cy="2606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876920" y="2743200"/>
            <a:ext cx="4038480" cy="26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9" dur="5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2514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ДАТИ СУ СКУП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880" y="4038480"/>
          <a:ext cx="3733920" cy="26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038480"/>
                    <a:ext cx="373392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447920" y="0"/>
            <a:ext cx="5790960" cy="2100240"/>
          </a:xfrm>
          <a:prstGeom prst="cloudCallout">
            <a:avLst>
              <a:gd name="adj1" fmla="val 1564"/>
              <a:gd name="adj2" fmla="val 89907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7808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1320" y="4724280"/>
          <a:ext cx="3352680" cy="77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4724280"/>
                    <a:ext cx="3352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715000" y="3962520"/>
          <a:ext cx="342900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962520"/>
                    <a:ext cx="3429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029200" y="39434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4724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7432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ДРЕД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92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7" dur="192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9" dur="192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1" dur="192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92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925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8" dur="192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0" dur="192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7" dur="5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149560" y="3168720"/>
          <a:ext cx="5470560" cy="14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9560" y="3168720"/>
                    <a:ext cx="54705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312920" y="304812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0" y="5029200"/>
          <a:ext cx="3962520" cy="13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029200"/>
                    <a:ext cx="3962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371600" y="5024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422280"/>
            <a:ext cx="5486400" cy="1828800"/>
          </a:xfrm>
          <a:prstGeom prst="cloudCallout">
            <a:avLst>
              <a:gd name="adj1" fmla="val -203"/>
              <a:gd name="adj2" fmla="val 8637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27760" y="128916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1600" y="6094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3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9" dur="5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3048120"/>
            <a:ext cx="4191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00"/>
              </a:buClr>
              <a:buSzPct val="12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НА ВЕНОВОМ ДИЈАГРА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3733920"/>
          <a:ext cx="2286000" cy="7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733920"/>
                    <a:ext cx="2286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3505320" cy="3092400"/>
          </a:xfrm>
          <a:prstGeom prst="rect">
            <a:avLst/>
          </a:prstGeom>
          <a:ln w="38160">
            <a:solidFill>
              <a:srgbClr val="04080c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2057400" y="147600"/>
            <a:ext cx="5715000" cy="1833480"/>
          </a:xfrm>
          <a:prstGeom prst="cloudCallout">
            <a:avLst>
              <a:gd name="adj1" fmla="val -7805"/>
              <a:gd name="adj2" fmla="val 117273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533520"/>
            <a:ext cx="38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4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92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1925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192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192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92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1925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192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192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3" dur="5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191120" y="5410080"/>
          <a:ext cx="160020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410080"/>
                    <a:ext cx="16002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05520" y="3733920"/>
          <a:ext cx="281916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733920"/>
                    <a:ext cx="28191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438280" y="0"/>
            <a:ext cx="5410440" cy="1981080"/>
          </a:xfrm>
          <a:prstGeom prst="cloudCallout">
            <a:avLst>
              <a:gd name="adj1" fmla="val -907"/>
              <a:gd name="adj2" fmla="val 9607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68800" y="33984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</a:t>
            </a:r>
            <a:r>
              <a:rPr b="0" lang="en-US" sz="5400" spc="-1" strike="noStrike">
                <a:solidFill>
                  <a:srgbClr val="c1cb75"/>
                </a:solidFill>
                <a:latin typeface="Palatino Linotype"/>
              </a:rPr>
              <a:t>4</a:t>
            </a: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84960" y="10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365760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7" dur="5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228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76720" y="3276720"/>
          <a:ext cx="260964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276720"/>
                    <a:ext cx="2609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600200" y="5105520"/>
          <a:ext cx="1600200" cy="12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5105520"/>
                    <a:ext cx="160020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84360" y="5010120"/>
            <a:ext cx="79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Б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4800600"/>
            <a:ext cx="4952880" cy="20574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ДОМАЋИ ЗАДА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БИРКА ЗАДАТАКА „КРУГ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ТРАНА:    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АДАЦИ :    30, 31, 33, 3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ИТАЊА И ЗАДАТАК ЗА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 </a:t>
            </a: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ПОНАВЉАЊЕ И УТВРЂИВАЊЕ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1337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ТА ЈЕ РАЗЛИКА СКУПОВА А И 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ЈИ ЈЕ СИМБОЛ ЗА РАЗЛИ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ДА ЛИ 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НЕКА ЈЕ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{1,2,4} 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Palatino Linotype"/>
              </a:rPr>
              <a:t>N={1,2}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ОДРЕД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4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4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9" dur="5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304920"/>
            <a:ext cx="7848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СКУП ПРИРОДНИХ</a:t>
            </a:r>
            <a:endParaRPr b="1" lang="en-US" sz="3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 </a:t>
            </a:r>
            <a:r>
              <a:rPr b="1" lang="en-US" sz="3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БРОЈЕВА </a:t>
            </a:r>
            <a:endParaRPr b="1" lang="en-US" sz="3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133720"/>
            <a:ext cx="7620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ВРШИМО РАЧУНСКЕ ОПЕРАЦИЈ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СНОВНЕ РАЧУНСКЕ ОПЕРАЦИЈЕ: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САБИРА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ДУЗИМА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МНОЖЕ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ДЕЉЕЊЕ</a:t>
            </a:r>
            <a:endParaRPr b="1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5029200"/>
            <a:ext cx="62388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ЗБИР ИЛИ ПРОИЗВОД ДВА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ПРИРОДНА БРОЈА ЈЕ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 </a:t>
            </a:r>
            <a:r>
              <a:rPr b="0" lang="en-US" sz="32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ТАКОЂЕ ПРИРОДАН БРОЈ</a:t>
            </a:r>
            <a:endParaRPr b="0" lang="en-US" sz="32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72072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92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92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192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24855E-007 L 0.7191 0.41849 L 0.80799 -0.3933 L -0.02847 -0.39746 L -1.94444E-006 9.24855E-007 Z">
                                      <p:cBhvr>
                                        <p:cTn id="8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276720"/>
            <a:ext cx="876312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СКУПОВНЕ ОПЕРАЦИЈЕ КОЈЕ ЋЕМ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ОБРАДИТИ У ОСНОВНОЈ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ШКОЛИ СУ: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УНИЈ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   ПРЕСЕК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Palatino Linotype"/>
              </a:rPr>
              <a:t>   РАЗ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920"/>
            <a:ext cx="7315200" cy="2819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СА СКУПОВИМА МОЖЕМ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ДА ВРШИМО ОПЕРАЦ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006b80"/>
                </a:solidFill>
                <a:latin typeface="Palatino Linotype"/>
              </a:rPr>
              <a:t>КОЈЕ СЕ ЗОВ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6b80"/>
                </a:solidFill>
                <a:latin typeface="Palatino Linotype"/>
              </a:rPr>
              <a:t>СКУПОВНЕ ОПЕРАЦ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600200" y="4648320"/>
            <a:ext cx="1461960" cy="18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896160" y="4419720"/>
            <a:ext cx="10285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4952880"/>
          <a:ext cx="43434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4343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" y="0"/>
            <a:ext cx="7620120" cy="19051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УНИЈА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981080"/>
            <a:ext cx="3657600" cy="44960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УНИЈА  СКУ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ЈЕ СК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КОЈИ СЕ САСТ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ОД СВ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 К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Б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ЈЕДНОМ ОД 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ДВА СК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286000"/>
          <a:ext cx="4191120" cy="23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86000"/>
                    <a:ext cx="4191120" cy="235116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4952880"/>
          <a:ext cx="349236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34923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09480" y="152280"/>
            <a:ext cx="7696440" cy="175284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6b80"/>
                </a:solidFill>
                <a:latin typeface="Palatino Linotype"/>
              </a:rPr>
              <a:t>ПРЕСЕК ДВА СКУ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1981080"/>
            <a:ext cx="3657600" cy="419112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ЕСЕК  СКУП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3600" spc="-1" strike="noStrike">
                <a:solidFill>
                  <a:srgbClr val="006b8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ЈЕ СК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КОЈИ СЕ САСТ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ОД СВ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ЕЛЕМЕНАТА КО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ПРИПАДАЈУ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 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b80"/>
                </a:solidFill>
                <a:latin typeface="Palatino Linotype"/>
              </a:rPr>
              <a:t>СКУПУ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2362320"/>
          <a:ext cx="3962520" cy="22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362320"/>
                    <a:ext cx="3962520" cy="2222280"/>
                  </a:xfrm>
                  <a:prstGeom prst="rect">
                    <a:avLst/>
                  </a:prstGeom>
                  <a:ln w="38160">
                    <a:solidFill>
                      <a:srgbClr val="04080c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0"/>
            <a:ext cx="6781680" cy="1981080"/>
          </a:xfrm>
          <a:prstGeom prst="cloudCallout">
            <a:avLst>
              <a:gd name="adj1" fmla="val 2740"/>
              <a:gd name="adj2" fmla="val 9094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0720" y="5335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</a:t>
            </a:r>
            <a:r>
              <a:rPr b="0" lang="en-US" sz="5400" spc="-1" strike="noStrike">
                <a:solidFill>
                  <a:srgbClr val="c1cb75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8960" y="27428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ЗА СКУПОВЕ  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{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a, b, c, d, e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{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c, e, f, g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}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ОДРЕДИ ЊИХОВУ УНИЈУ И ПРЕС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92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92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92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92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92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192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228600"/>
            <a:ext cx="7010280" cy="2209680"/>
          </a:xfrm>
          <a:prstGeom prst="cloudCallout">
            <a:avLst>
              <a:gd name="adj1" fmla="val -69"/>
              <a:gd name="adj2" fmla="val 92814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6520" y="5335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1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Palatino Linotype"/>
              </a:rPr>
              <a:t>РЕШЕЊ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3498840"/>
          <a:ext cx="6553440" cy="19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98840"/>
                    <a:ext cx="65534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5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0"/>
            <a:ext cx="6019920" cy="1981080"/>
          </a:xfrm>
          <a:prstGeom prst="cloudCallout">
            <a:avLst>
              <a:gd name="adj1" fmla="val 5671"/>
              <a:gd name="adj2" fmla="val 82050"/>
            </a:avLst>
          </a:prstGeom>
          <a:solidFill>
            <a:srgbClr val="006b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2120" y="45720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1cb75"/>
                </a:solidFill>
                <a:latin typeface="Palatino Linotype"/>
              </a:rPr>
              <a:t>ПРИМЕР 2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514600"/>
            <a:ext cx="4267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СКУПОВИ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 ДАТИ СУ ВЕНОВИМ ДИЈАГРАМОМ ОСЕН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5334120"/>
          <a:ext cx="1752480" cy="69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4120"/>
                    <a:ext cx="17524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62120" y="5410080"/>
            <a:ext cx="6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Palatino Linotype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657600" cy="229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124" name=""/>
          <p:cNvGraphicFramePr/>
          <p:nvPr/>
        </p:nvGraphicFramePr>
        <p:xfrm>
          <a:off x="3352680" y="4721400"/>
          <a:ext cx="152424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721400"/>
                    <a:ext cx="15242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92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192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92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192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1:33:43Z</dcterms:created>
  <dc:creator>Zoran Denic</dc:creator>
  <dc:description/>
  <dc:language>en-US</dc:language>
  <cp:lastModifiedBy>Billy</cp:lastModifiedBy>
  <dcterms:modified xsi:type="dcterms:W3CDTF">2015-01-21T22:23:11Z</dcterms:modified>
  <cp:revision>104</cp:revision>
  <dc:subject/>
  <dc:title>СКУПОВНЕ ОПЕРАЦИЈЕ</dc:title>
</cp:coreProperties>
</file>