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1A0-8D31-4670-8C67-9CD75619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2D3-2AE6-48B8-8701-E983BA4D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157-26D2-4DAF-8269-9AA69BBC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6D7-8A4E-4B3B-A8FB-CD837CA5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1476-8487-422B-9073-447E8091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EE40-8FED-49E5-B983-20E228A7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9630-29D4-4D22-B829-B58E3EDD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6FDD-287E-4853-8A35-01F830CA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B1CC-16C5-4222-BBEF-A86A357D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A46D-7306-4F9D-9D5C-DF307FF4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EA85-326B-4025-BB8C-0FE0C79E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6A6-7150-4818-BC31-18AEFA77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55A5-7499-4404-875C-524279A7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227A-146D-4233-86D1-0D72A09F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B674-15E0-4CE2-B491-80C8064B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F7CB-73B9-40BE-B133-5DA4DFD7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64B1-B95B-4D4C-B059-48A22D38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0DE-DE6D-4CAF-A33E-C1E03BB1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6508-01EA-4905-8118-2165DF4A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AA0-5804-465E-B00C-60FF98F1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778-20E1-4E7E-984C-ADC78909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112-A244-4862-BBAF-E44BFFB7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025-5BCB-4996-98D7-002F4C7C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33F-F505-4814-B2D7-F28D9F16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AF5A-37F3-412E-A3A5-EB2369194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E9C3-20D4-42CD-812C-5F21B2B0C6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503280" cy="744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41360"/>
            <a:ext cx="248436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1341360"/>
            <a:ext cx="67165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лександар Симовић, ОШ “Стеван Чоловић” Ариљ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ица Вукотић, ОШ “Стеван Чоловић” Ариљ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ван Марковић, ОШ “Стеван Чоловић” Ари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. час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абирање разлом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. час – Особине сабирања разлом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тврђивање / вежб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1557360"/>
            <a:ext cx="6778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ЈЕ ПОЈЕО ЈЕДНУ ШЕСТИНУ ЧОКОЛАДЕ А ВЕРИЦА ЈЕДНУ ТРЕЋИНУ ЧОКОЛАДЕ. КОЛИКИ ДЕО  ЧОКОЛАДЕ СУ ПОЈ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6200000">
            <a:off x="2434320" y="3909240"/>
            <a:ext cx="182592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3196800" y="438444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3196800" y="409716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197160" y="380808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196800" y="352080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3196800" y="323352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3197160" y="4673160"/>
            <a:ext cx="30780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84360" y="2708280"/>
            <a:ext cx="180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99"/>
                </a:solidFill>
                <a:latin typeface="Arial"/>
              </a:rPr>
              <a:t>МИЛОШЕВ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4450320" y="3909240"/>
            <a:ext cx="182592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5059440" y="3943080"/>
            <a:ext cx="6159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5086440" y="3360240"/>
            <a:ext cx="5619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5078520" y="4538160"/>
            <a:ext cx="57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00720" y="2708280"/>
            <a:ext cx="180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ВЕРИЧИН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94360" y="2646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13440" y="4149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3440" y="5589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2000" y="551664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33800" y="582948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219640" y="5516640"/>
            <a:ext cx="358920" cy="657000"/>
            <a:chOff x="5219640" y="5516640"/>
            <a:chExt cx="358920" cy="657000"/>
          </a:xfrm>
        </p:grpSpPr>
        <p:sp>
          <p:nvSpPr>
            <p:cNvPr id="279" name=""/>
            <p:cNvSpPr/>
            <p:nvPr/>
          </p:nvSpPr>
          <p:spPr>
            <a:xfrm>
              <a:off x="5219640" y="5516640"/>
              <a:ext cx="35892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21440" y="5829480"/>
              <a:ext cx="345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374160" y="25639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4160" y="4149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02520" y="5516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96360" y="544500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7800" y="57578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64360" y="2492280"/>
            <a:ext cx="1008000" cy="649440"/>
          </a:xfrm>
          <a:custGeom>
            <a:avLst/>
            <a:gdLst>
              <a:gd name="textAreaLeft" fmla="*/ 236880 w 1008000"/>
              <a:gd name="textAreaRight" fmla="*/ 770400 w 1008000"/>
              <a:gd name="textAreaTop" fmla="*/ 76320 h 649440"/>
              <a:gd name="textAreaBottom" fmla="*/ 407520 h 64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6858720" y="386424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7621560" y="433980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7621560" y="405252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7621200" y="376380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7621560" y="3476160"/>
            <a:ext cx="3078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7621560" y="3188880"/>
            <a:ext cx="3078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7621200" y="462888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7621200" y="4628880"/>
            <a:ext cx="30816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7621560" y="433980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7621560" y="405252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5213160" y="4091040"/>
            <a:ext cx="30816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5221080" y="4676400"/>
            <a:ext cx="28908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5228280" y="3499200"/>
            <a:ext cx="2811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91200" y="5506920"/>
            <a:ext cx="392040" cy="657360"/>
            <a:chOff x="5191200" y="5506920"/>
            <a:chExt cx="392040" cy="657360"/>
          </a:xfrm>
        </p:grpSpPr>
        <p:sp>
          <p:nvSpPr>
            <p:cNvPr id="301" name=""/>
            <p:cNvSpPr/>
            <p:nvPr/>
          </p:nvSpPr>
          <p:spPr>
            <a:xfrm>
              <a:off x="5224680" y="5506920"/>
              <a:ext cx="3585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91200" y="5844960"/>
              <a:ext cx="3459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8" dur="20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79640" y="1557360"/>
            <a:ext cx="677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ЈЕ ПОЈЕО ЈЕДНУ  ПОЛОВИНУ ЧОКОЛАДЕ А ВЕРИЦА ЈЕДНУ ТРЕЋИНУ ЧОКОЛА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2434320" y="418824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2937240" y="3772440"/>
            <a:ext cx="82728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2892240" y="4648320"/>
            <a:ext cx="920880" cy="93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84360" y="2987640"/>
            <a:ext cx="180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99"/>
                </a:solidFill>
                <a:latin typeface="Arial"/>
              </a:rPr>
              <a:t>МИЛОШЕВ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4450320" y="418824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5059440" y="4222440"/>
            <a:ext cx="6159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5086440" y="3639600"/>
            <a:ext cx="5619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5078160" y="4817880"/>
            <a:ext cx="57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00720" y="2987640"/>
            <a:ext cx="180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ВЕРИЧИН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94360" y="2925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13440" y="4429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13440" y="5869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2000" y="579600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61088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219640" y="5796000"/>
            <a:ext cx="358920" cy="657000"/>
            <a:chOff x="5219640" y="5796000"/>
            <a:chExt cx="358920" cy="657000"/>
          </a:xfrm>
        </p:grpSpPr>
        <p:sp>
          <p:nvSpPr>
            <p:cNvPr id="320" name=""/>
            <p:cNvSpPr/>
            <p:nvPr/>
          </p:nvSpPr>
          <p:spPr>
            <a:xfrm>
              <a:off x="5219640" y="5796000"/>
              <a:ext cx="35892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21440" y="6108840"/>
              <a:ext cx="345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374160" y="2843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74160" y="4429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02520" y="5796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96360" y="572436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97800" y="603720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164360" y="2771640"/>
            <a:ext cx="1008000" cy="649440"/>
          </a:xfrm>
          <a:custGeom>
            <a:avLst/>
            <a:gdLst>
              <a:gd name="textAreaLeft" fmla="*/ 236880 w 1008000"/>
              <a:gd name="textAreaRight" fmla="*/ 770400 w 1008000"/>
              <a:gd name="textAreaTop" fmla="*/ 76320 h 649440"/>
              <a:gd name="textAreaBottom" fmla="*/ 407520 h 64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6858720" y="414360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7621200" y="404316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7486560" y="3603240"/>
            <a:ext cx="5778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7621560" y="490824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7340400" y="4627440"/>
            <a:ext cx="86976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79640" y="2349360"/>
            <a:ext cx="6778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СТАВИМО ДЕЛОВЕ СЛ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79640" y="2349360"/>
            <a:ext cx="6778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 ЈЕ ВЕЋИ ДЕО ЧОКОЛАДЕ ПОЈЕ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95640" y="4365720"/>
            <a:ext cx="720720" cy="57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85" y="0"/>
                </a:lnTo>
                <a:lnTo>
                  <a:pt x="21600" y="10800"/>
                </a:lnTo>
                <a:lnTo>
                  <a:pt x="3485" y="21600"/>
                </a:lnTo>
                <a:lnTo>
                  <a:pt x="0" y="21600"/>
                </a:lnTo>
                <a:lnTo>
                  <a:pt x="18115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2349360"/>
            <a:ext cx="6778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ЛИКИ ДЕО ЧОКОЛАДЕ СУ ЗАЈЕДНО ПОЈ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07960" y="3495600"/>
            <a:ext cx="28584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3209760" y="4039920"/>
            <a:ext cx="2826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3203280" y="4335120"/>
            <a:ext cx="300240" cy="93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3199320" y="4945320"/>
            <a:ext cx="306360" cy="93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5224320" y="3499920"/>
            <a:ext cx="2826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5227560" y="4061880"/>
            <a:ext cx="2826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5226120" y="4673160"/>
            <a:ext cx="2826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33800" y="580068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35240" y="611352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219640" y="5805360"/>
            <a:ext cx="358560" cy="657360"/>
            <a:chOff x="5219640" y="5805360"/>
            <a:chExt cx="358560" cy="657360"/>
          </a:xfrm>
        </p:grpSpPr>
        <p:sp>
          <p:nvSpPr>
            <p:cNvPr id="347" name=""/>
            <p:cNvSpPr/>
            <p:nvPr/>
          </p:nvSpPr>
          <p:spPr>
            <a:xfrm>
              <a:off x="5219640" y="5805360"/>
              <a:ext cx="3585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21080" y="6118200"/>
              <a:ext cx="346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 rot="16200000">
            <a:off x="7634160" y="3460320"/>
            <a:ext cx="2826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7633440" y="4913640"/>
            <a:ext cx="29052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7635960" y="4333680"/>
            <a:ext cx="28224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1320" y="571968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593120" y="603252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9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79640" y="1557360"/>
            <a:ext cx="677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ЈЕ ПОЈЕО ЈЕДНУ  ПОЛОВИНУ ЧОКОЛАДЕ А ВЕРИЦА ДВЕ ТРЕЋИНЕ ЧОКОЛА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642320" y="4188240"/>
            <a:ext cx="182556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2145240" y="3772440"/>
            <a:ext cx="82728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2100240" y="4648320"/>
            <a:ext cx="920880" cy="93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92360" y="2987640"/>
            <a:ext cx="180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99"/>
                </a:solidFill>
                <a:latin typeface="Arial"/>
              </a:rPr>
              <a:t>МИЛОШЕВ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3874320" y="4188240"/>
            <a:ext cx="182556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4483080" y="4222440"/>
            <a:ext cx="6159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4506840" y="3627000"/>
            <a:ext cx="5619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4501800" y="4817880"/>
            <a:ext cx="57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24360" y="2987640"/>
            <a:ext cx="180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ВЕРИЧИН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94520" y="2925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513600" y="4429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13600" y="5869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340000" y="579600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41440" y="610884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643280" y="5796000"/>
            <a:ext cx="358920" cy="657000"/>
            <a:chOff x="4643280" y="5796000"/>
            <a:chExt cx="358920" cy="657000"/>
          </a:xfrm>
        </p:grpSpPr>
        <p:sp>
          <p:nvSpPr>
            <p:cNvPr id="371" name=""/>
            <p:cNvSpPr/>
            <p:nvPr/>
          </p:nvSpPr>
          <p:spPr>
            <a:xfrm>
              <a:off x="4643280" y="5796000"/>
              <a:ext cx="35892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45080" y="6108840"/>
              <a:ext cx="345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797800" y="2843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97800" y="4429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029440" y="428472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031240" y="461016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6066360" y="496440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6694560" y="4725720"/>
            <a:ext cx="5778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6829200" y="572904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6548400" y="5447880"/>
            <a:ext cx="87012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50920" y="2205000"/>
            <a:ext cx="6778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ЛИКИ ДЕО ЧОКОЛАДЕ СУ ЗАЈЕДНО ПОЈ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6200000">
            <a:off x="2417760" y="3505320"/>
            <a:ext cx="28584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2419200" y="4049280"/>
            <a:ext cx="2826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2409840" y="4340160"/>
            <a:ext cx="300240" cy="9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2405880" y="4950360"/>
            <a:ext cx="306360" cy="92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6200000">
            <a:off x="4648320" y="4959000"/>
            <a:ext cx="2826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43240" y="611352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6842160" y="4866840"/>
            <a:ext cx="2826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6838200" y="5733000"/>
            <a:ext cx="29052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6840360" y="5152680"/>
            <a:ext cx="282600" cy="933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26560" y="460548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6200000">
            <a:off x="6066360" y="318492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6829200" y="394956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6110280" y="3230280"/>
            <a:ext cx="17463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6687360" y="4143960"/>
            <a:ext cx="59184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94600" y="4600440"/>
            <a:ext cx="1446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6200000">
            <a:off x="6118920" y="5274360"/>
            <a:ext cx="16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ПРВА ЧОКОЛ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16200000">
            <a:off x="4648320" y="4384440"/>
            <a:ext cx="2826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16200000">
            <a:off x="6838200" y="3110400"/>
            <a:ext cx="29052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16200000">
            <a:off x="6843600" y="2503080"/>
            <a:ext cx="2826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6838200" y="3697560"/>
            <a:ext cx="29052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6118920" y="3464640"/>
            <a:ext cx="16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ДРУГА ЧОКОЛ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4680" y="578628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362320" y="609912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363760" y="610380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643280" y="5805360"/>
            <a:ext cx="358920" cy="657000"/>
            <a:chOff x="4643280" y="5805360"/>
            <a:chExt cx="358920" cy="657000"/>
          </a:xfrm>
        </p:grpSpPr>
        <p:sp>
          <p:nvSpPr>
            <p:cNvPr id="407" name=""/>
            <p:cNvSpPr/>
            <p:nvPr/>
          </p:nvSpPr>
          <p:spPr>
            <a:xfrm>
              <a:off x="4643280" y="5805360"/>
              <a:ext cx="35892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45080" y="6118200"/>
              <a:ext cx="345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330280" y="609588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4648320" y="3771360"/>
            <a:ext cx="2826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20000" y="2852640"/>
            <a:ext cx="1008000" cy="649440"/>
          </a:xfrm>
          <a:custGeom>
            <a:avLst/>
            <a:gdLst>
              <a:gd name="textAreaLeft" fmla="*/ 236880 w 1008000"/>
              <a:gd name="textAreaRight" fmla="*/ 770400 w 1008000"/>
              <a:gd name="textAreaTop" fmla="*/ 76320 h 649440"/>
              <a:gd name="textAreaBottom" fmla="*/ 407520 h 64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448320" y="3789360"/>
            <a:ext cx="2084400" cy="1827000"/>
            <a:chOff x="6448320" y="3789360"/>
            <a:chExt cx="2084400" cy="1827000"/>
          </a:xfrm>
        </p:grpSpPr>
        <p:sp>
          <p:nvSpPr>
            <p:cNvPr id="413" name=""/>
            <p:cNvSpPr/>
            <p:nvPr/>
          </p:nvSpPr>
          <p:spPr>
            <a:xfrm rot="16200000">
              <a:off x="6039360" y="4199400"/>
              <a:ext cx="1825560" cy="1008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6200000">
              <a:off x="6667200" y="3960720"/>
              <a:ext cx="577800" cy="933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6200000">
              <a:off x="6802200" y="4964400"/>
              <a:ext cx="308160" cy="93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6521040" y="4682880"/>
              <a:ext cx="870120" cy="933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6200000">
              <a:off x="6814800" y="4101840"/>
              <a:ext cx="282600" cy="933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6200000">
              <a:off x="6810840" y="4968000"/>
              <a:ext cx="290520" cy="933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6200000">
              <a:off x="6813360" y="4387680"/>
              <a:ext cx="282600" cy="933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6200000">
              <a:off x="6804000" y="3522960"/>
              <a:ext cx="304560" cy="933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6200000">
              <a:off x="6091920" y="4509360"/>
              <a:ext cx="164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РВА ЧОКОЛА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6200000">
              <a:off x="7115760" y="4198320"/>
              <a:ext cx="1825920" cy="1008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6200000">
              <a:off x="7878600" y="4962240"/>
              <a:ext cx="30780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6200000">
              <a:off x="7159320" y="4243320"/>
              <a:ext cx="174600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7887240" y="4123440"/>
              <a:ext cx="2905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7893000" y="3516120"/>
              <a:ext cx="282600" cy="933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7887240" y="4710600"/>
              <a:ext cx="2905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126200" y="4519080"/>
              <a:ext cx="173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ДРУГА ЧОКОЛА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203880" y="580536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205680" y="613080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200640" y="612612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56600" y="580536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58040" y="613080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353360" y="612612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605800" y="580068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607600" y="612612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602560" y="612144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50360" y="58626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956720" y="58723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66160" y="5877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0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0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6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cc0000"/>
                </a:solidFill>
                <a:uFillTx/>
                <a:latin typeface="Arial"/>
              </a:rPr>
              <a:t>ПРАВИЛО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03280" y="1268280"/>
            <a:ext cx="74883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ВА РАЗЛОМКА СА РАЗЛИЧИТИМ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МЕНИОЦИМА СЕ САБИРАЈУ ТАКО ШТО 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НАЂЕ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b,d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ЗА КОЈЕ ЈЕ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=pb</a:t>
            </a: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=qd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ВИ РАЗЛОМАК ПРОШИРИМО С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А ДРУГИ РАЗЛОМАК С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АДА САБЕРЕМО РАЗЛОМКЕ СА ИСТИМ ИМЕНИОЦ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495520" y="3978360"/>
                <a:ext cx="4956120" cy="25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1403280" y="3789360"/>
            <a:ext cx="6778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У ОШТЕМ СЛУЧАЈУ ВАЖ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8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3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cc0000"/>
                </a:solidFill>
                <a:uFillTx/>
                <a:latin typeface="Arial"/>
              </a:rPr>
              <a:t>Домаћи 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24000" y="2709720"/>
            <a:ext cx="6480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ОСМИСЛИТИ ПО ТРИ ЗАДАТКА О САБИРАЊУ РАЗЛОМАКА СА ИСТИМ И РАЗЛОЧИТИМ ИМЕНИОЦИМ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042560" y="2133360"/>
            <a:ext cx="7921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2. Ч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Особине сабирања разлом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- утврђивање / вежбањ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908000" y="2637000"/>
            <a:ext cx="640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ШТА ЈЕ БИЛО СА ЧОКОЛАДОМ СА ПРОШЛОГ ЧА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550880" y="1181160"/>
            <a:ext cx="6981840" cy="463536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979640" y="2852640"/>
            <a:ext cx="640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7200" spc="-1" strike="noStrike" u="sng">
                <a:solidFill>
                  <a:srgbClr val="000000"/>
                </a:solidFill>
                <a:uFillTx/>
                <a:latin typeface="Arial"/>
              </a:rPr>
              <a:t>ПОЈЕДЕНА!!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собине разлом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08000" y="1916280"/>
            <a:ext cx="6409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908000" y="12682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79640" y="1557360"/>
            <a:ext cx="6778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ЈЕ ПОЈЕО ДВА ДЕЛА ЧОКОЛАДЕ А ВЕРИЦА ТРИ ДЕЛА ЧОКОЛАДЕ. ДА ЈЕ МИЛОШ ПОЈЕО ТРИ ДЕЛА А ВЕРИЦА ДВА ДЕЛА ДА ЛИ БИ ИСТО ПОЈЕЛИ ЧОКОЛА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133800" y="328464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35240" y="359712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357800" y="328464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359240" y="359712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709440" y="34797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77800" y="34797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797440" y="328464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99240" y="359712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1440" y="328464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023240" y="359712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373440" y="34797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57800" y="429264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359240" y="460548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77800" y="44877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797440" y="429264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799240" y="460548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собине разлом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908000" y="1916280"/>
            <a:ext cx="6409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8000" y="12682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1700280"/>
            <a:ext cx="6778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КО СЕ ЗОВЕ ОВА ОСОБИНА САБИРАЊА РАЗЛОМА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76360" y="2924280"/>
            <a:ext cx="7210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0000"/>
                </a:solidFill>
                <a:latin typeface="Arial"/>
              </a:rPr>
              <a:t>КОМУТАТИВНИ ЗАК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cc"/>
                </a:solidFill>
                <a:latin typeface="Arial"/>
              </a:rPr>
              <a:t>- ЗАМЕНА МЕСТА САБИРАКА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собине разлом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908000" y="1916280"/>
            <a:ext cx="6409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08000" y="12682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79640" y="1557360"/>
            <a:ext cx="67784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ЈЕ ПОЈЕО ЈЕДАН ДЕО ЧОКОЛАДЕ ПРЕ ПОЛАСКА У ШКОЛУ. КАД СЕ ВРАТИО ИЗ ШКОЛЕ ПОЈЕО ЈЕ ЈОШ ДВА ДЕЛА ЧОКОЛАДЕ А  ВЕРИЦА ТРИ ДЕЛА ЧОКОЛАДЕ. ДА ЈЕ МИЛОШ ПОЈЕО ПРВО ЈЕДАН ПА ДВА ДЕЛА ЧОКОЛАДЕ ПРЕ ШКОЛЕ А ВЕРИЦА ТРИ  ДЕЛА ПОСЛЕ ШКОЛЕ ДА ЛИ БИ ИСТО ПОЈЕЛИ ЧОКОЛА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33800" y="378000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35240" y="409248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357800" y="378000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359240" y="409248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09440" y="3975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077800" y="3975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48640" y="378000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0080" y="409248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885080" y="385128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886880" y="416412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495560" y="3975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357800" y="579600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359240" y="61088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077800" y="5991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97440" y="579600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9240" y="61088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836720" y="378000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38160" y="409248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412360" y="3975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24640" y="380988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26080" y="412272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00280" y="4005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771640" y="3789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716360" y="3789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92720" y="3789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207200" y="3789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132000" y="479736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133800" y="51102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56000" y="479736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57800" y="51102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08000" y="49928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077800" y="4941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476712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805440" y="507996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580000" y="479736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581800" y="51102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155640" y="49928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908000" y="2636640"/>
            <a:ext cx="65534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1. Ч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Сабирање разлом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- обрад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собине разлом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908000" y="1916280"/>
            <a:ext cx="6409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908000" y="12682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79640" y="1700280"/>
            <a:ext cx="6778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КО СЕ ЗОВЕ ОВА ОСОБИНА САБИРАЊА РАЗЛОМА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76360" y="2924280"/>
            <a:ext cx="7210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0000"/>
                </a:solidFill>
                <a:latin typeface="Arial"/>
              </a:rPr>
              <a:t>АСОЦИЈАТИНИ ЗАК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cc"/>
                </a:solidFill>
                <a:latin typeface="Arial"/>
              </a:rPr>
              <a:t>- ГРУПИСАЊЕ САБИРАКА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собине разлом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1916280"/>
            <a:ext cx="6409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908000" y="12682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79640" y="1557360"/>
            <a:ext cx="6778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ЈЕ ПОЈЕО ДВА ДЕО ЧОКОЛАДЕ ПРЕ ПОЛАСКА У ШКОЛУ. КАД СЕ ВРАТИО ИЗ ШКОЛЕ НИЈЕ ПОЈЕО НИ ЈЕДАН ДЕО ЧОКОЛАДЕ. КОЛИКО ЈЕ ДЕЛОВА ЧОКОЛАДЕ МИЛОШ ПОЈЕ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33800" y="378000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135240" y="409248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357800" y="378000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59240" y="409248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709440" y="3975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077800" y="3975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624640" y="380988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26080" y="412272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86160" y="378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8" dur="indefinite" restart="never" nodeType="tmRoot">
          <p:childTnLst>
            <p:seq>
              <p:cTn id="1589" dur="indefinite" nodeType="mainSeq">
                <p:childTnLst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1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1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собине разлом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08000" y="1916280"/>
            <a:ext cx="6409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908000" y="12682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79640" y="1773360"/>
            <a:ext cx="6778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КО СЕ ЗОВЕ ОВА ОСОБИНА САБИРАЊА РАЗЛОМА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76360" y="2924280"/>
            <a:ext cx="7210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0000"/>
                </a:solidFill>
                <a:latin typeface="Arial"/>
              </a:rPr>
              <a:t>НЕУТРАЛНИ ЕЛЕ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cc"/>
                </a:solidFill>
                <a:latin typeface="Arial"/>
              </a:rPr>
              <a:t>- НУЛА КАО САБИРАК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908000" y="596880"/>
            <a:ext cx="640908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собине разломака</a:t>
            </a:r>
            <a:br>
              <a:rPr sz="3200"/>
            </a:b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79640" y="1844640"/>
            <a:ext cx="677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КОМУТА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556000" y="2276640"/>
                <a:ext cx="15843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556000" y="3573360"/>
                <a:ext cx="3014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556000" y="4869000"/>
                <a:ext cx="10778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>
            <a:off x="1979640" y="3141720"/>
            <a:ext cx="677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АСОЦИЈА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08000" y="4437000"/>
            <a:ext cx="6778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НЕУТРАЛНИ ЕЛ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4" dur="indefinite" restart="never" nodeType="tmRoot">
          <p:childTnLst>
            <p:seq>
              <p:cTn id="1645" dur="indefinite" nodeType="mainSeq">
                <p:childTnLst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79640" y="1773360"/>
            <a:ext cx="6408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ОВЕРИТЕ ТАЧНОСТ ДАТИХ ЈЕДНАК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08000" y="285264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986920" y="2952000"/>
            <a:ext cx="4039200" cy="2302200"/>
            <a:chOff x="2986920" y="2952000"/>
            <a:chExt cx="4039200" cy="2302200"/>
          </a:xfrm>
        </p:grpSpPr>
        <p:sp>
          <p:nvSpPr>
            <p:cNvPr id="551" name=""/>
            <p:cNvSpPr/>
            <p:nvPr/>
          </p:nvSpPr>
          <p:spPr>
            <a:xfrm>
              <a:off x="3543840" y="3373200"/>
              <a:ext cx="201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66200" y="3373200"/>
              <a:ext cx="197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20600" y="3373200"/>
              <a:ext cx="197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36840" y="3373200"/>
              <a:ext cx="202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7640" y="4794480"/>
              <a:ext cx="202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07680" y="4794480"/>
              <a:ext cx="18180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09880" y="4794480"/>
              <a:ext cx="202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82880" y="4794480"/>
              <a:ext cx="202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05240" y="4794480"/>
              <a:ext cx="182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764760" y="4794480"/>
              <a:ext cx="202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53320" y="48423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848640" y="43732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84440" y="48423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79760" y="43732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672880" y="48423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66400" y="43732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98440" y="48423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93760" y="43732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86880" y="48423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282200" y="43732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16560" y="48423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11880" y="43732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60080" y="45828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26840" y="342144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26840" y="295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04120" y="342144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01240" y="295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50080" y="342144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47200" y="295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633840" y="342144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33840" y="295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175560" y="31618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06360" y="45439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38600" y="45720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38600" y="4842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38600" y="435888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18800" y="45720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18800" y="4842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518800" y="435888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48280" y="45439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16400" y="454392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61960" y="45720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61960" y="4842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61960" y="435888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143600" y="45720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43600" y="4842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43600" y="435888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51480" y="45439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93760" y="45439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979880" y="312300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09640" y="312300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909240" y="312300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86920" y="45828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CS" sz="2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96280" y="31618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CS" sz="2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979640" y="1773360"/>
            <a:ext cx="6408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ЗАМЕНИ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БРОЈЕМ, ТАКО ДА ЈЕДНАКОСТ БУДЕ ТАЧ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197080" y="2637000"/>
                <a:ext cx="25732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49640" y="3632040"/>
                <a:ext cx="20350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268360" y="4581360"/>
                <a:ext cx="2006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6805440" y="2876400"/>
                <a:ext cx="790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6832440" y="386064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6905520" y="4797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5280120" y="2938320"/>
            <a:ext cx="1224000" cy="358920"/>
          </a:xfrm>
          <a:prstGeom prst="rightArrow">
            <a:avLst>
              <a:gd name="adj1" fmla="val 50000"/>
              <a:gd name="adj2" fmla="val 852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292720" y="3933720"/>
            <a:ext cx="1224000" cy="358920"/>
          </a:xfrm>
          <a:prstGeom prst="rightArrow">
            <a:avLst>
              <a:gd name="adj1" fmla="val 50000"/>
              <a:gd name="adj2" fmla="val 852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292720" y="4869000"/>
            <a:ext cx="1224000" cy="358560"/>
          </a:xfrm>
          <a:prstGeom prst="rightArrow">
            <a:avLst>
              <a:gd name="adj1" fmla="val 50000"/>
              <a:gd name="adj2" fmla="val 853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692360" y="4149720"/>
            <a:ext cx="6408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ЈЕО ЈЕ ЦЕЛУ ЧОКОЛАДУ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979640" y="1773360"/>
            <a:ext cx="64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ЈЕ ПОЈЕО ПРОГ ДАНА ПОЛА ЧОКОЛАДЕ, ПА ДРУГОГ ДАНА ЧЕТВРТИНУ ЧОКОЛАДЕ А ТРЕЋЕГ И ЧЕТВРТОГ ДАНА ПО ОСМИНУ ЧОКОЛАДЕ. ДА ЛИ ЈЕ МИЛОШ ПОЈЕО ЦЕЛУ ЧОКОЛАДУ? ДОКА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908000" y="285264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979640" y="406728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81080" y="437976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312640" y="4211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629080" y="406728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630520" y="437976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031560" y="4211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348000" y="406728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349800" y="437976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709440" y="4211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025880" y="406728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027320" y="437976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501800" y="42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30840" y="407664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832280" y="438948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163480" y="42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79920" y="407664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1720" y="438948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882760" y="42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199200" y="407664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200640" y="438948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60640" y="42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877080" y="407664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78520" y="438948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338600" y="42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667640" y="407664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669080" y="438948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597800" y="4076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2411280" y="3008160"/>
            <a:ext cx="5400720" cy="358632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2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9" dur="2000" fill="hold"/>
                                        <p:tgtEl>
                                          <p:spTgt spid="6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4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4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4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6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6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6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0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0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0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0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31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7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1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cc0000"/>
                </a:solidFill>
                <a:uFillTx/>
                <a:latin typeface="Arial"/>
              </a:rPr>
              <a:t>Домаћи 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124000" y="2565360"/>
            <a:ext cx="6480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ОСМИСЛИТИ ПО ДВА ЗАДАТКА ЗА СВАКУ ОСОБИНУ САБИРАЊА РАЗЛОМАКА И УРАДИТ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570720" y="490680"/>
            <a:ext cx="2381040" cy="1581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63960" y="488880"/>
            <a:ext cx="2381400" cy="1581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349280" y="48888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1349280" y="2217600"/>
            <a:ext cx="2381400" cy="1571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1349280" y="3944880"/>
            <a:ext cx="2381400" cy="1581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4192560" y="5415120"/>
            <a:ext cx="1905120" cy="1038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4192560" y="397512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3963960" y="2217600"/>
            <a:ext cx="2381400" cy="1581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6568920" y="3944880"/>
            <a:ext cx="2381400" cy="1571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6568920" y="2217600"/>
            <a:ext cx="238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7640" y="596520"/>
            <a:ext cx="64090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ојам разломк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5560" y="1701720"/>
            <a:ext cx="6778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АЗЛОМАК – БРОЈ КОЈИ ПРЕДСТАВЉА ДЕО ЦЕ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4511520"/>
            <a:ext cx="276120" cy="573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68560" y="4511520"/>
            <a:ext cx="276120" cy="573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4680" y="4511520"/>
            <a:ext cx="276480" cy="573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19360" y="4511520"/>
            <a:ext cx="276480" cy="573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8120" y="4511520"/>
            <a:ext cx="276120" cy="573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4240" y="4511520"/>
            <a:ext cx="276120" cy="573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25920" y="4511520"/>
            <a:ext cx="287640" cy="573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3560" y="4511520"/>
            <a:ext cx="287280" cy="573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02280" y="4511520"/>
            <a:ext cx="287280" cy="573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8640" y="4511520"/>
            <a:ext cx="287280" cy="573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9040" y="4511520"/>
            <a:ext cx="277920" cy="573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39040" y="4511520"/>
            <a:ext cx="277920" cy="573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17920" y="4437000"/>
            <a:ext cx="2232000" cy="72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53200" y="4438800"/>
            <a:ext cx="2449440" cy="72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5560" y="2852640"/>
            <a:ext cx="2021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ЗНАКА 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97200" y="2708280"/>
            <a:ext cx="5122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БРОЈИЛАЦ, БРОЈИ ИСТЕ ДЕ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ИМЕНИЛАЦ, ИМЕНУЈЕ ДЕ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56610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5560" y="4005360"/>
            <a:ext cx="6778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ЛИКО ДЕЛОВА ЧОКОЛАДЕ ИМА НА СЛИКА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5300640"/>
            <a:ext cx="43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566100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5300640"/>
            <a:ext cx="4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56610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5300640"/>
            <a:ext cx="43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56610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5300640"/>
            <a:ext cx="43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6000" y="56610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6000" y="5300640"/>
            <a:ext cx="43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30686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14640" y="2349360"/>
            <a:ext cx="677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КИЦОМ ПРЕДСТАВИ РАЗЛОМ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19400" y="39006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19400" y="3540240"/>
            <a:ext cx="4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16480" y="390060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16480" y="3540240"/>
            <a:ext cx="4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65600" y="4502160"/>
            <a:ext cx="895320" cy="642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8720" y="4535640"/>
            <a:ext cx="276120" cy="57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66920" y="4535640"/>
            <a:ext cx="276480" cy="57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43400" y="4535640"/>
            <a:ext cx="276120" cy="57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02320" y="4514760"/>
            <a:ext cx="1165320" cy="642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35800" y="4548240"/>
            <a:ext cx="27612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04000" y="4548240"/>
            <a:ext cx="27612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80120" y="4548240"/>
            <a:ext cx="27648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54800" y="4548240"/>
            <a:ext cx="27648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35400" y="4514760"/>
            <a:ext cx="1165320" cy="642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68880" y="4548240"/>
            <a:ext cx="27612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37080" y="4548240"/>
            <a:ext cx="27648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4548240"/>
            <a:ext cx="27612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87880" y="4548240"/>
            <a:ext cx="27648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7280" y="4532400"/>
            <a:ext cx="27612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65480" y="4532400"/>
            <a:ext cx="27612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65640" y="4552920"/>
            <a:ext cx="27648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552920"/>
            <a:ext cx="27648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0320" y="4552920"/>
            <a:ext cx="27612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5000" y="4552920"/>
            <a:ext cx="27612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34000" y="4552920"/>
            <a:ext cx="27648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02560" y="4552920"/>
            <a:ext cx="27612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78680" y="4552920"/>
            <a:ext cx="27612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14640" y="2349360"/>
            <a:ext cx="677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И ВЕРИЦА СУ ПОЈЕЛИ ПО ЈЕДАН РЕД ЧОКОЛА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434320" y="350388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97160" y="397944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3197160" y="369216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3196800" y="340344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3197160" y="311580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3197160" y="282852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3196800" y="426852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4148280"/>
            <a:ext cx="288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99"/>
                </a:solidFill>
                <a:latin typeface="Arial"/>
              </a:rPr>
              <a:t>МИЛОШ ЈЕ ПОЈЕ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85080" y="400356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86880" y="43164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3640" y="4869000"/>
            <a:ext cx="27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ВЕРИЦА ЈЕ ПОЈЕЛА</a:t>
            </a:r>
            <a:r>
              <a:rPr b="1" lang="sr-CS" sz="1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85080" y="4724280"/>
            <a:ext cx="35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86880" y="50468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3197160" y="4260240"/>
            <a:ext cx="307800" cy="9302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3197160" y="3972960"/>
            <a:ext cx="307800" cy="93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348000" y="4334040"/>
            <a:ext cx="1662120" cy="10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48000" y="4724280"/>
            <a:ext cx="170964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1773360"/>
            <a:ext cx="6778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ЈИ ДЕО ЧОКОЛАДЕ СУ ЗАЈЕДНО ПОЈ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2434320" y="3909240"/>
            <a:ext cx="182592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3196800" y="4384440"/>
            <a:ext cx="30816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3196800" y="409716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3197160" y="380808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3196800" y="352080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3196800" y="323352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3197160" y="467316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2708280"/>
            <a:ext cx="180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99"/>
                </a:solidFill>
                <a:latin typeface="Arial"/>
              </a:rPr>
              <a:t>МИЛОШЕВ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4450320" y="3909240"/>
            <a:ext cx="182592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5213160" y="438444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5213160" y="409716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5213520" y="380808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5213160" y="352080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5213160" y="323352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5213520" y="4673160"/>
            <a:ext cx="3078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00720" y="2708280"/>
            <a:ext cx="180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ВЕРИЧИН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94360" y="2646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440" y="4149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3440" y="5589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551664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3800" y="582948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551664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21440" y="582948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74160" y="25639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74160" y="4149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2520" y="5516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96360" y="544500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97800" y="57578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20000" y="2344680"/>
            <a:ext cx="1584360" cy="1013040"/>
          </a:xfrm>
          <a:custGeom>
            <a:avLst/>
            <a:gdLst>
              <a:gd name="textAreaLeft" fmla="*/ 372240 w 1584360"/>
              <a:gd name="textAreaRight" fmla="*/ 1211040 w 1584360"/>
              <a:gd name="textAreaTop" fmla="*/ 118800 h 1013040"/>
              <a:gd name="textAreaBottom" fmla="*/ 635400 h 10130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6858720" y="386424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7621560" y="433980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7621560" y="405252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7621200" y="376380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7621560" y="347616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7621560" y="318888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7621200" y="462888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7623360" y="4358880"/>
            <a:ext cx="30780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7621200" y="4628880"/>
            <a:ext cx="3081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1557360"/>
            <a:ext cx="6778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ЈЕ ПОЈЕО ДВА ДЕЛА ЧОКОЛАДЕ А ВЕРИЦА ТРИ ДЕЛА ЧОКОЛАДЕ. КОЛИКО ДЕЛОВА ЧОКОЛАДЕ СУ ПОЈ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434320" y="397224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3197160" y="4447800"/>
            <a:ext cx="30780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197160" y="416052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3196800" y="387180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3197160" y="358416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3197160" y="329688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196800" y="4736880"/>
            <a:ext cx="30816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2771640"/>
            <a:ext cx="180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99"/>
                </a:solidFill>
                <a:latin typeface="Arial"/>
              </a:rPr>
              <a:t>МИЛОШЕВ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4450320" y="397224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5213520" y="444780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5213520" y="4160520"/>
            <a:ext cx="3078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5213160" y="3871800"/>
            <a:ext cx="3081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5213520" y="3584160"/>
            <a:ext cx="3078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5213520" y="329688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5213160" y="473688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2771640"/>
            <a:ext cx="180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ВЕРИЧИН</a:t>
            </a:r>
            <a:r>
              <a:rPr b="1" lang="sr-CS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94360" y="2709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13440" y="4213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13440" y="5653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558000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33800" y="58928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19640" y="558000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1440" y="58928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74160" y="2627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74160" y="4213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02520" y="5580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96360" y="550872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97800" y="582120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189600">
            <a:off x="7234200" y="2565000"/>
            <a:ext cx="1370160" cy="574560"/>
          </a:xfrm>
          <a:custGeom>
            <a:avLst/>
            <a:gdLst>
              <a:gd name="textAreaLeft" fmla="*/ 321840 w 1370160"/>
              <a:gd name="textAreaRight" fmla="*/ 1047240 w 1370160"/>
              <a:gd name="textAreaTop" fmla="*/ 67320 h 574560"/>
              <a:gd name="textAreaBottom" fmla="*/ 360360 h 574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6858720" y="3928320"/>
            <a:ext cx="182592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7621200" y="440352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7621200" y="4116240"/>
            <a:ext cx="3081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7621560" y="3827160"/>
            <a:ext cx="3078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7621200" y="3539880"/>
            <a:ext cx="3081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7621200" y="325260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7621560" y="469224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623000" y="4422600"/>
            <a:ext cx="30816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7621560" y="4692240"/>
            <a:ext cx="30780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5" dur="2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cc0000"/>
                </a:solidFill>
                <a:uFillTx/>
                <a:latin typeface="Arial"/>
              </a:rPr>
              <a:t>ПРАВИЛО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79640" y="1557360"/>
            <a:ext cx="6778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ВА РАЗЛОМКА СА ИСТИМ ИМЕНИОЦИМА СЕ САБИРАЈУ ТАКО ШТО СЕ ИМЕНИЛАЦ ПРЕПИШЕ А БРОЈИОЦИ САБЕРУ.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987640" y="3340080"/>
                <a:ext cx="352908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908000" y="2637000"/>
            <a:ext cx="6778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У ОШТЕМ СЛУЧАЈУ ВАЖ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cp:keywords/>
  <dc:language>en-US</dc:language>
  <cp:lastModifiedBy>Billy</cp:lastModifiedBy>
  <dcterms:modified xsi:type="dcterms:W3CDTF">2015-01-21T22:23:48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