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347-D656-4DC4-B4DE-AB3E5C83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A06-D5B4-4B80-B6B0-89DB0DB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917-8A16-46DC-A2EE-901A3F49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478-E37F-4E49-8EAB-9B691CE0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862B-C843-48E6-ADB8-EB79F39A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6FE0-0971-463B-981A-C4EC73A5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C49D-F94E-44BB-9D6C-0D813B9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D4A-2893-47D2-B228-1985BA1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26C-9136-44D1-9908-55F9C3D0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9FF8-8FB4-4381-AB83-526FD59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DC3-3FC8-434E-9ADF-EF6FED8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65D-8113-4CD5-B010-D3AAD23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22CA-47DC-41EA-90B3-0E0089B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E74B-6EF5-42AC-9BE0-189E82C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1DE0-5F3B-456D-BC67-FFA1C4CA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CE6B-D3E0-45F3-92DF-2925A0EC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FA57-FEE2-4221-B3F9-FC55DC00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287-606C-4F5A-BFFD-5F15188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B94-9871-4558-B90A-952D935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C30-DC69-4D70-8DDE-985EF76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789-397D-4FDA-A5FE-6CD5F3DC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C2D-68E4-4E52-9D87-5FD0B6C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051-1822-4909-99CD-B4CF09E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D04-DC4B-4028-A124-8D233C2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0C0-BAED-47E2-B305-7DA9DD2D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E7A-12F4-4B84-8CC9-3A016AB54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50328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41360"/>
            <a:ext cx="248436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1341360"/>
            <a:ext cx="67165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сандар Симовић, ОШ “Стеван Чоловић” Ариљ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ица Вукотић, ОШ “Стеван Чоловић” Ариљ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ван Марковић, ОШ “Стеван Чоловић” Ари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. ча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бирање разлом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. час – Особине сабирања разлом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тврђивање / вежб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ШЕСТИНУ ЧОКОЛАДЕ А ВЕРИЦА ЈЕДНУ ТРЕЋИНУ ЧОКОЛАДЕ. КОЛИКИ ДЕО  ЧОКОЛАДЕ СУ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2434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196800" y="4384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19680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19716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19680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319680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197160" y="467316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270828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450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5059440" y="3943080"/>
            <a:ext cx="615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086440" y="336024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5078520" y="4538160"/>
            <a:ext cx="57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0720" y="270828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4360" y="2646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344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3440" y="558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3380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19640" y="5516640"/>
            <a:ext cx="358920" cy="657000"/>
            <a:chOff x="5219640" y="5516640"/>
            <a:chExt cx="358920" cy="657000"/>
          </a:xfrm>
        </p:grpSpPr>
        <p:sp>
          <p:nvSpPr>
            <p:cNvPr id="279" name=""/>
            <p:cNvSpPr/>
            <p:nvPr/>
          </p:nvSpPr>
          <p:spPr>
            <a:xfrm>
              <a:off x="5219640" y="551664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1440" y="582948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374160" y="2563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416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2520" y="5516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6360" y="5445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7800" y="5757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4360" y="249228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858720" y="3864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7621200" y="3763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7621560" y="3476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621560" y="318888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5213160" y="4091040"/>
            <a:ext cx="30816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5221080" y="4676400"/>
            <a:ext cx="2890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5228280" y="3499200"/>
            <a:ext cx="281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91200" y="5506920"/>
            <a:ext cx="392040" cy="657360"/>
            <a:chOff x="5191200" y="5506920"/>
            <a:chExt cx="392040" cy="657360"/>
          </a:xfrm>
        </p:grpSpPr>
        <p:sp>
          <p:nvSpPr>
            <p:cNvPr id="301" name=""/>
            <p:cNvSpPr/>
            <p:nvPr/>
          </p:nvSpPr>
          <p:spPr>
            <a:xfrm>
              <a:off x="5224680" y="5506920"/>
              <a:ext cx="3585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91200" y="5844960"/>
              <a:ext cx="345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8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1557360"/>
            <a:ext cx="677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 ПОЛОВИНУ ЧОКОЛАДЕ А ВЕРИЦА ЈЕДНУ ТРЕЋИНУ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2434320" y="4188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937240" y="3772440"/>
            <a:ext cx="827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2892240" y="4648320"/>
            <a:ext cx="92088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98764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450320" y="4188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5059440" y="4222440"/>
            <a:ext cx="615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5086440" y="363960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078160" y="4817880"/>
            <a:ext cx="57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94360" y="2925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1344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13440" y="586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19640" y="5796000"/>
            <a:ext cx="358920" cy="657000"/>
            <a:chOff x="5219640" y="5796000"/>
            <a:chExt cx="358920" cy="657000"/>
          </a:xfrm>
        </p:grpSpPr>
        <p:sp>
          <p:nvSpPr>
            <p:cNvPr id="320" name=""/>
            <p:cNvSpPr/>
            <p:nvPr/>
          </p:nvSpPr>
          <p:spPr>
            <a:xfrm>
              <a:off x="5219640" y="579600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21440" y="610884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374160" y="2843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416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2520" y="5796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96360" y="572436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7800" y="60372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4360" y="277164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6858720" y="414360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7621200" y="4043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7486560" y="3603240"/>
            <a:ext cx="57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7621560" y="49082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7340400" y="4627440"/>
            <a:ext cx="8697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СТАВИМО ДЕЛОВЕ СЛ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 ЈЕ ВЕЋИ ДЕО ЧОКОЛАДЕ ПОЈЕ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365720"/>
            <a:ext cx="720720" cy="57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85" y="0"/>
                </a:lnTo>
                <a:lnTo>
                  <a:pt x="21600" y="10800"/>
                </a:lnTo>
                <a:lnTo>
                  <a:pt x="3485" y="21600"/>
                </a:lnTo>
                <a:lnTo>
                  <a:pt x="0" y="21600"/>
                </a:lnTo>
                <a:lnTo>
                  <a:pt x="1811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349360"/>
            <a:ext cx="6778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07960" y="3495600"/>
            <a:ext cx="28584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3209760" y="403992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203280" y="4335120"/>
            <a:ext cx="300240" cy="93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199320" y="4945320"/>
            <a:ext cx="30636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224320" y="349992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227560" y="406188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226120" y="467316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3800" y="58006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5240" y="611352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19640" y="5805360"/>
            <a:ext cx="358560" cy="657360"/>
            <a:chOff x="5219640" y="5805360"/>
            <a:chExt cx="358560" cy="657360"/>
          </a:xfrm>
        </p:grpSpPr>
        <p:sp>
          <p:nvSpPr>
            <p:cNvPr id="347" name=""/>
            <p:cNvSpPr/>
            <p:nvPr/>
          </p:nvSpPr>
          <p:spPr>
            <a:xfrm>
              <a:off x="5219640" y="5805360"/>
              <a:ext cx="3585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21080" y="6118200"/>
              <a:ext cx="346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rot="16200000">
            <a:off x="7634160" y="346032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7633440" y="4913640"/>
            <a:ext cx="2905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7635960" y="4333680"/>
            <a:ext cx="28224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1320" y="57196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93120" y="60325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79640" y="1557360"/>
            <a:ext cx="677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НУ  ПОЛОВИНУ ЧОКОЛАДЕ А ВЕРИЦА ДВЕ ТРЕЋИНЕ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642320" y="4188240"/>
            <a:ext cx="182556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45240" y="3772440"/>
            <a:ext cx="827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2100240" y="4648320"/>
            <a:ext cx="92088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874320" y="4188240"/>
            <a:ext cx="182556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4483080" y="4222440"/>
            <a:ext cx="615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506840" y="3627000"/>
            <a:ext cx="5619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501800" y="4817880"/>
            <a:ext cx="57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24360" y="298764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4520" y="2925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1360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13600" y="586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4000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1440" y="610884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643280" y="5796000"/>
            <a:ext cx="358920" cy="657000"/>
            <a:chOff x="4643280" y="5796000"/>
            <a:chExt cx="358920" cy="657000"/>
          </a:xfrm>
        </p:grpSpPr>
        <p:sp>
          <p:nvSpPr>
            <p:cNvPr id="371" name=""/>
            <p:cNvSpPr/>
            <p:nvPr/>
          </p:nvSpPr>
          <p:spPr>
            <a:xfrm>
              <a:off x="4643280" y="579600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5080" y="610884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797800" y="2843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7800" y="442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029440" y="428472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31240" y="461016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6066360" y="496440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6694560" y="4725720"/>
            <a:ext cx="57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6829200" y="57290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6548400" y="5447880"/>
            <a:ext cx="8701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50920" y="2205000"/>
            <a:ext cx="6778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2417760" y="3505320"/>
            <a:ext cx="28584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2419200" y="4049280"/>
            <a:ext cx="282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2409840" y="4340160"/>
            <a:ext cx="300240" cy="9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405880" y="4950360"/>
            <a:ext cx="306360" cy="92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4648320" y="495900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43240" y="61135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6842160" y="486684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838200" y="5733000"/>
            <a:ext cx="29052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6840360" y="5152680"/>
            <a:ext cx="282600" cy="933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2656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6066360" y="318492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6829200" y="39495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6110280" y="3230280"/>
            <a:ext cx="17463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6687360" y="4143960"/>
            <a:ext cx="59184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94600" y="460044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6118920" y="5274360"/>
            <a:ext cx="16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ВА ЧОКОЛ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4648320" y="438444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6838200" y="3110400"/>
            <a:ext cx="2905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6843600" y="2503080"/>
            <a:ext cx="2826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6838200" y="3697560"/>
            <a:ext cx="2905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6118920" y="3464640"/>
            <a:ext cx="16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ДРУГА ЧОКОЛ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4680" y="57862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6099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3760" y="6103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643280" y="5805360"/>
            <a:ext cx="358920" cy="657000"/>
            <a:chOff x="4643280" y="5805360"/>
            <a:chExt cx="358920" cy="657000"/>
          </a:xfrm>
        </p:grpSpPr>
        <p:sp>
          <p:nvSpPr>
            <p:cNvPr id="407" name=""/>
            <p:cNvSpPr/>
            <p:nvPr/>
          </p:nvSpPr>
          <p:spPr>
            <a:xfrm>
              <a:off x="4643280" y="5805360"/>
              <a:ext cx="358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5080" y="6118200"/>
              <a:ext cx="345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330280" y="60958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648320" y="3771360"/>
            <a:ext cx="2826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20000" y="2852640"/>
            <a:ext cx="1008000" cy="64944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448320" y="3789360"/>
            <a:ext cx="2084400" cy="1827000"/>
            <a:chOff x="6448320" y="3789360"/>
            <a:chExt cx="2084400" cy="1827000"/>
          </a:xfrm>
        </p:grpSpPr>
        <p:sp>
          <p:nvSpPr>
            <p:cNvPr id="413" name=""/>
            <p:cNvSpPr/>
            <p:nvPr/>
          </p:nvSpPr>
          <p:spPr>
            <a:xfrm rot="16200000">
              <a:off x="6039360" y="4199400"/>
              <a:ext cx="1825560" cy="1008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6667200" y="3960720"/>
              <a:ext cx="57780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6802200" y="4964400"/>
              <a:ext cx="308160" cy="9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6521040" y="4682880"/>
              <a:ext cx="870120" cy="933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6814800" y="4101840"/>
              <a:ext cx="28260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6810840" y="4968000"/>
              <a:ext cx="290520" cy="933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6200000">
              <a:off x="6813360" y="4387680"/>
              <a:ext cx="28260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6804000" y="3522960"/>
              <a:ext cx="304560" cy="933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6091920" y="4509360"/>
              <a:ext cx="164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ВА ЧОКОЛА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115760" y="4198320"/>
              <a:ext cx="1825920" cy="1008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00000">
              <a:off x="7878600" y="4962240"/>
              <a:ext cx="30780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7159320" y="4243320"/>
              <a:ext cx="174600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7887240" y="4123440"/>
              <a:ext cx="2905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7893000" y="3516120"/>
              <a:ext cx="282600" cy="933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7887240" y="4710600"/>
              <a:ext cx="2905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126200" y="4519080"/>
              <a:ext cx="173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ДРУГА ЧОКОЛА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03880" y="5805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05680" y="6130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00640" y="612612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56600" y="580536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58040" y="61308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53360" y="6126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605800" y="58006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07600" y="6126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602560" y="612144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50360" y="5862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956720" y="5872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66160" y="5877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6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ПРАВИЛО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1268280"/>
            <a:ext cx="7488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ВА РАЗЛОМКА СА РАЗЛИЧИТИ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МЕНИОЦИМА СЕ САБИРАЈУ ТАКО ШТО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НАЂ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,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ЗА КОЈЕ Ј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=pb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=qd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ВИ РАЗЛОМАК ПРОШИРИМО С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А ДРУГИ РАЗЛОМАК С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АДА САБЕРЕМО РАЗЛОМКЕ СА ИСТИМ ИМЕНИО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495520" y="3978360"/>
                <a:ext cx="4956120" cy="25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403280" y="3789360"/>
            <a:ext cx="677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У ОШТЕМ СЛУЧАЈУ В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Домаћи 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24000" y="2709720"/>
            <a:ext cx="64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ОСМИСЛИТИ ПО ТРИ ЗАДАТКА О САБИРАЊУ РАЗЛОМАКА СА ИСТИМ И РАЗЛОЧИТИМ ИМЕНИОЦИ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042560" y="213336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собине сабирања разлом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 утврђивање / вежбањ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908000" y="2637000"/>
            <a:ext cx="640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ШТА ЈЕ БИЛО СА ЧОКОЛАДОМ СА ПРОШЛОГ Ч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550880" y="1181160"/>
            <a:ext cx="6981840" cy="4635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979640" y="2852640"/>
            <a:ext cx="64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 u="sng">
                <a:solidFill>
                  <a:srgbClr val="000000"/>
                </a:solidFill>
                <a:uFillTx/>
                <a:latin typeface="Arial"/>
              </a:rPr>
              <a:t>ПОЈЕДЕНА!!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79640" y="1557360"/>
            <a:ext cx="6778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ЛА ЧОКОЛАДЕ А ВЕРИЦА ТРИ ДЕЛА ЧОКОЛАДЕ. ДА ЈЕ МИЛОШ ПОЈЕО ТРИ ДЕЛА А ВЕРИЦА ДВА ДЕЛА ДА ЛИ БИ ИСТО ПОЈЕЛИ ЧОКОЛА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33800" y="328464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5240" y="359712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57800" y="328464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59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944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780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97440" y="3284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9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1440" y="3284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23240" y="359712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73440" y="3479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57800" y="429264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5924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77800" y="4487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97440" y="4292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9240" y="4605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170028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КОМУТАТИВНИ ЗА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ЗАМЕНА МЕСТА САБИРА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79640" y="1557360"/>
            <a:ext cx="6778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ЈЕДАН ДЕО ЧОКОЛАДЕ ПРЕ ПОЛАСКА У ШКОЛУ. КАД СЕ ВРАТИО ИЗ ШКОЛЕ ПОЈЕО ЈЕ ЈОШ ДВА ДЕЛА ЧОКОЛАДЕ А  ВЕРИЦА ТРИ ДЕЛА ЧОКОЛАДЕ. ДА ЈЕ МИЛОШ ПОЈЕО ПРВО ЈЕДАН ПА ДВА ДЕЛА ЧОКОЛАДЕ ПРЕ ШКОЛЕ А ВЕРИЦА ТРИ  ДЕЛА ПОСЛЕ ШКОЛЕ ДА ЛИ БИ ИСТО ПОЈЕЛИ ЧОКОЛА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33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3524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7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5924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0944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7780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864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008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85080" y="385128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86880" y="41641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9556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7800" y="5796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5924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7800" y="5991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7440" y="5796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9240" y="6108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6720" y="378000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816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41236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24640" y="38098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26080" y="41227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00280" y="400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7164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1636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9272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2072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2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33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56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7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08000" y="4992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77800" y="4941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476712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05440" y="50799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580000" y="47973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81800" y="51102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55640" y="4992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908000" y="2636640"/>
            <a:ext cx="65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1.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абирање разлом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 обрад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79640" y="170028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АСОЦИЈАТИНИ ЗА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ГРУПИСАЊЕ САБИРА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9640" y="1557360"/>
            <a:ext cx="6778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О ЧОКОЛАДЕ ПРЕ ПОЛАСКА У ШКОЛУ. КАД СЕ ВРАТИО ИЗ ШКОЛЕ НИЈЕ ПОЈЕО НИ ЈЕДАН ДЕО ЧОКОЛАДЕ. КОЛИКО ЈЕ ДЕЛОВА ЧОКОЛАДЕ МИЛОШ ПОЈЕ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33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5240" y="409248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7800" y="378000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59240" y="409248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0944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77800" y="3975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24640" y="380988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26080" y="412272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86160" y="378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8000" y="1916280"/>
            <a:ext cx="640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08000" y="12682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79640" y="1773360"/>
            <a:ext cx="6778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КО СЕ ЗОВЕ ОВА ОСОБИНА САБИРАЊА РАЗЛОМ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76360" y="2924280"/>
            <a:ext cx="7210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НЕУТРАЛНИ ЕЛ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- НУЛА КАО САБИРА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908000" y="596880"/>
            <a:ext cx="640908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обине разломака</a:t>
            </a:r>
            <a:br>
              <a:rPr sz="32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79640" y="184464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КОМУТА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556000" y="2276640"/>
                <a:ext cx="1584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556000" y="3573360"/>
                <a:ext cx="3014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556000" y="4869000"/>
                <a:ext cx="1077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1979640" y="3141720"/>
            <a:ext cx="677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АСОЦИЈА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4437000"/>
            <a:ext cx="677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НЕУТРАЛНИ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177336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ВЕРИТЕ ТАЧНОСТ ДАТИХ ЈЕДНА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285264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986920" y="2952000"/>
            <a:ext cx="4039200" cy="2302200"/>
            <a:chOff x="2986920" y="2952000"/>
            <a:chExt cx="4039200" cy="2302200"/>
          </a:xfrm>
        </p:grpSpPr>
        <p:sp>
          <p:nvSpPr>
            <p:cNvPr id="551" name=""/>
            <p:cNvSpPr/>
            <p:nvPr/>
          </p:nvSpPr>
          <p:spPr>
            <a:xfrm>
              <a:off x="3543840" y="3373200"/>
              <a:ext cx="201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66200" y="3373200"/>
              <a:ext cx="197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20600" y="3373200"/>
              <a:ext cx="197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36840" y="3373200"/>
              <a:ext cx="202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764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07680" y="4794480"/>
              <a:ext cx="1818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0988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8288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05240" y="4794480"/>
              <a:ext cx="182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64760" y="4794480"/>
              <a:ext cx="20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332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4864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8444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7976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7288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6640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9844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9376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8688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8220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16560" y="48423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11880" y="4373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0080" y="45828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2684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268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0412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012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5008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720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33840" y="34214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33840" y="295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75560" y="31618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0636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386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386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386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188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88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188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4828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16400" y="45439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196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6196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6196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43600" y="45720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43600" y="4842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43600" y="435888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5148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93760" y="45439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79880" y="31230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09640" y="312300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09240" y="31230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6920" y="45828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2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96280" y="31618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2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79640" y="177336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МЕНИ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БРОЈЕМ, ТАКО ДА ЈЕДНАКОСТ БУДЕ ТАЧ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197080" y="2637000"/>
                <a:ext cx="2573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49640" y="3632040"/>
                <a:ext cx="2035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68360" y="4581360"/>
                <a:ext cx="2006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6805440" y="2876400"/>
                <a:ext cx="79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832440" y="386064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905520" y="4797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5280120" y="2938320"/>
            <a:ext cx="1224000" cy="358920"/>
          </a:xfrm>
          <a:prstGeom prst="rightArrow">
            <a:avLst>
              <a:gd name="adj1" fmla="val 50000"/>
              <a:gd name="adj2" fmla="val 85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92720" y="3933720"/>
            <a:ext cx="1224000" cy="358920"/>
          </a:xfrm>
          <a:prstGeom prst="rightArrow">
            <a:avLst>
              <a:gd name="adj1" fmla="val 50000"/>
              <a:gd name="adj2" fmla="val 85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92720" y="4869000"/>
            <a:ext cx="1224000" cy="358560"/>
          </a:xfrm>
          <a:prstGeom prst="rightArrow">
            <a:avLst>
              <a:gd name="adj1" fmla="val 50000"/>
              <a:gd name="adj2" fmla="val 853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692360" y="4149720"/>
            <a:ext cx="64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ЈЕО ЈЕ ЦЕЛУ ЧОКОЛАД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773360"/>
            <a:ext cx="64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ПРОГ ДАНА ПОЛА ЧОКОЛАДЕ, ПА ДРУГОГ ДАНА ЧЕТВРТИНУ ЧОКОЛАДЕ А ТРЕЋЕГ И ЧЕТВРТОГ ДАНА ПО ОСМИНУ ЧОКОЛАДЕ. ДА ЛИ ЈЕ МИЛОШ ПОЈЕО ЦЕЛУ ЧОКОЛАДУ? ДОК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8000" y="285264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43797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1264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29080" y="406728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630520" y="437976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3156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34800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49800" y="437976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09440" y="4211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25880" y="406728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027320" y="4379760"/>
            <a:ext cx="34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180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30840" y="407664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3228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634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7992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1720" y="438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8276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9920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0064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6064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7708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7852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3860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67640" y="407664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69080" y="438948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97800" y="4076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2411280" y="3008160"/>
            <a:ext cx="5400720" cy="3586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9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3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Домаћи 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24000" y="2565360"/>
            <a:ext cx="64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ОСМИСЛИТИ ПО ДВА ЗАДАТКА ЗА СВАКУ ОСОБИНУ САБИРАЊА РАЗЛОМАКА И УРАДИ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70720" y="490680"/>
            <a:ext cx="2381040" cy="15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3960" y="48888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349280" y="4888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349280" y="221760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349280" y="394488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192560" y="5415120"/>
            <a:ext cx="1905120" cy="1038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192560" y="39751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963960" y="221760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568920" y="39448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6568920" y="2217600"/>
            <a:ext cx="238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596520"/>
            <a:ext cx="64090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јам разлом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5560" y="1701720"/>
            <a:ext cx="6778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ЗЛОМАК – БРОЈ КОЈИ ПРЕДСТАВЉА ДЕО Ц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511520"/>
            <a:ext cx="27612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68560" y="4511520"/>
            <a:ext cx="27612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4680" y="4511520"/>
            <a:ext cx="2764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19360" y="4511520"/>
            <a:ext cx="2764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8120" y="4511520"/>
            <a:ext cx="27612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4240" y="4511520"/>
            <a:ext cx="27612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25920" y="4511520"/>
            <a:ext cx="28764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3560" y="4511520"/>
            <a:ext cx="2872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2280" y="4511520"/>
            <a:ext cx="287280" cy="573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8640" y="4511520"/>
            <a:ext cx="287280" cy="573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9040" y="4511520"/>
            <a:ext cx="27792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39040" y="4511520"/>
            <a:ext cx="27792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17920" y="4437000"/>
            <a:ext cx="223200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53200" y="4438800"/>
            <a:ext cx="244944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5560" y="2852640"/>
            <a:ext cx="2021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КА 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7200" y="2708280"/>
            <a:ext cx="51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БРОЈИЛАЦ, БРОЈИ ИСТЕ ДЕ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ИМЕНИЛАЦ, ИМЕНУЈЕ ДЕ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5560" y="4005360"/>
            <a:ext cx="677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ЛИКО ДЕЛОВА ЧОКОЛАДЕ ИМА НА СЛИКА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66100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53006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6610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30064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30686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14640" y="234936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КИЦОМ ПРЕДСТАВИ РАЗЛОМ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19400" y="39006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19400" y="35402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16480" y="3900600"/>
            <a:ext cx="346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16480" y="354024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65600" y="4502160"/>
            <a:ext cx="89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8720" y="4535640"/>
            <a:ext cx="27612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66920" y="4535640"/>
            <a:ext cx="27648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3400" y="4535640"/>
            <a:ext cx="276120" cy="57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02320" y="4514760"/>
            <a:ext cx="116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580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012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480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35400" y="4514760"/>
            <a:ext cx="1165320" cy="642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6888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708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4548240"/>
            <a:ext cx="2761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7880" y="4548240"/>
            <a:ext cx="27648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7280" y="453240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65480" y="453240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564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032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34000" y="4552920"/>
            <a:ext cx="27648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256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78680" y="4552920"/>
            <a:ext cx="276120" cy="573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14640" y="2349360"/>
            <a:ext cx="677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И ВЕРИЦА СУ ПОЈЕЛИ ПО ЈЕДАН РЕД ЧОКО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34320" y="350388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97160" y="39794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197160" y="3692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196800" y="3403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3197160" y="3115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197160" y="2828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3196800" y="4268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148280"/>
            <a:ext cx="28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 ЈЕ ПОЈЕ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85080" y="400356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86880" y="431640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486900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ЦА ЈЕ ПОЈЕЛА</a:t>
            </a: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4724280"/>
            <a:ext cx="3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6880" y="5046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197160" y="4260240"/>
            <a:ext cx="307800" cy="930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3197160" y="3972960"/>
            <a:ext cx="307800" cy="93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34040"/>
            <a:ext cx="1662120" cy="10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724280"/>
            <a:ext cx="170964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773360"/>
            <a:ext cx="677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И ДЕО ЧОКОЛАДЕ СУ ЗАЈЕДНО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434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3196800" y="438444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319680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19716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19680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9680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197160" y="4673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708280"/>
            <a:ext cx="18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4450320" y="390924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213160" y="438444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213160" y="409716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213520" y="38080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5213160" y="3520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5213160" y="323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5213520" y="4673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2708280"/>
            <a:ext cx="18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4360" y="2646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44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3440" y="558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380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516640"/>
            <a:ext cx="358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1440" y="582948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74160" y="2563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4160" y="414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2520" y="5516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5445000"/>
            <a:ext cx="358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97800" y="5757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2344680"/>
            <a:ext cx="1584360" cy="1013040"/>
          </a:xfrm>
          <a:custGeom>
            <a:avLst/>
            <a:gdLst>
              <a:gd name="textAreaLeft" fmla="*/ 372240 w 1584360"/>
              <a:gd name="textAreaRight" fmla="*/ 1211040 w 1584360"/>
              <a:gd name="textAreaTop" fmla="*/ 118800 h 1013040"/>
              <a:gd name="textAreaBottom" fmla="*/ 635400 h 1013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858720" y="3864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7621560" y="4339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621560" y="4052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7621200" y="3763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7621560" y="3476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7621560" y="3188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7623360" y="435888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7621200" y="462888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Зада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ЛОШ ЈЕ ПОЈЕО ДВА ДЕЛА ЧОКОЛАДЕ А ВЕРИЦА ТРИ ДЕЛА ЧОКОЛАДЕ. КОЛИКО ДЕЛОВА ЧОКОЛАДЕ СУ ПОЈ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434320" y="3972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97160" y="444780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197160" y="416052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196800" y="38718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197160" y="358416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197160" y="3296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196800" y="473688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771640"/>
            <a:ext cx="180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МИЛОШЕВ 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450320" y="3972240"/>
            <a:ext cx="182556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5213520" y="444780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213520" y="416052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213160" y="387180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13520" y="3584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5213520" y="329688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213160" y="473688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771640"/>
            <a:ext cx="18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ВЕРИЧИН</a:t>
            </a:r>
            <a:r>
              <a:rPr b="1" lang="sr-C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ДЕ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4360" y="270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3440" y="421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13440" y="565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5580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3800" y="5892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19640" y="5580000"/>
            <a:ext cx="358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1440" y="5892840"/>
            <a:ext cx="34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74160" y="2627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74160" y="4213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02520" y="5580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5508720"/>
            <a:ext cx="358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97800" y="5821200"/>
            <a:ext cx="345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189600">
            <a:off x="7234200" y="2565000"/>
            <a:ext cx="1370160" cy="574560"/>
          </a:xfrm>
          <a:custGeom>
            <a:avLst/>
            <a:gdLst>
              <a:gd name="textAreaLeft" fmla="*/ 321840 w 1370160"/>
              <a:gd name="textAreaRight" fmla="*/ 1047240 w 137016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858720" y="3928320"/>
            <a:ext cx="1825920" cy="100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7621200" y="440352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621200" y="411624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7621560" y="3827160"/>
            <a:ext cx="30780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7621200" y="3539880"/>
            <a:ext cx="308160" cy="933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621200" y="3252600"/>
            <a:ext cx="3081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7621560" y="4692240"/>
            <a:ext cx="30780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623000" y="4422600"/>
            <a:ext cx="30816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7621560" y="4692240"/>
            <a:ext cx="30780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8000" y="596880"/>
            <a:ext cx="6409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cc0000"/>
                </a:solidFill>
                <a:uFillTx/>
                <a:latin typeface="Arial"/>
              </a:rPr>
              <a:t>ПРАВИЛО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9640" y="1557360"/>
            <a:ext cx="6778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ВА РАЗЛОМКА СА ИСТИМ ИМЕНИОЦИМА СЕ САБИРАЈУ ТАКО ШТО СЕ ИМЕНИЛАЦ ПРЕПИШЕ А БРОЈИОЦИ САБЕРУ.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87640" y="3340080"/>
                <a:ext cx="35290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908000" y="2637000"/>
            <a:ext cx="677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У ОШТЕМ СЛУЧАЈУ В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Billy</cp:lastModifiedBy>
  <dcterms:modified xsi:type="dcterms:W3CDTF">2015-01-21T22:23:48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