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6.png" ContentType="image/png"/>
  <Override PartName="/ppt/media/image26.wmf" ContentType="image/x-wmf"/>
  <Override PartName="/ppt/media/image14.gif" ContentType="image/gif"/>
  <Override PartName="/ppt/media/image31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6.wmf" ContentType="image/x-wmf"/>
  <Override PartName="/ppt/media/image37.jpeg" ContentType="image/jpeg"/>
  <Override PartName="/ppt/media/image38.wmf" ContentType="image/x-wmf"/>
  <Override PartName="/ppt/media/image40.wmf" ContentType="image/x-wmf"/>
  <Override PartName="/ppt/media/image39.wmf" ContentType="image/x-wmf"/>
  <Override PartName="/ppt/media/image41.png" ContentType="image/png"/>
  <Override PartName="/ppt/media/image42.wmf" ContentType="image/x-wmf"/>
  <Override PartName="/ppt/media/image43.png" ContentType="image/png"/>
  <Override PartName="/ppt/media/image44.wmf" ContentType="image/x-wmf"/>
  <Override PartName="/ppt/media/image34.wmf" ContentType="image/x-wmf"/>
  <Override PartName="/ppt/media/image35.png" ContentType="image/png"/>
  <Override PartName="/ppt/media/image45.jpeg" ContentType="image/jpeg"/>
  <Override PartName="/ppt/media/image46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33.gif" ContentType="image/gif"/>
  <Override PartName="/ppt/media/image30.jpeg" ContentType="image/jpeg"/>
  <Override PartName="/ppt/media/image9.jpeg" ContentType="image/jpeg"/>
  <Override PartName="/ppt/media/image12.wmf" ContentType="image/x-wmf"/>
  <Override PartName="/ppt/media/image4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13.wmf" ContentType="image/x-wmf"/>
  <Override PartName="/ppt/media/image8.jpeg" ContentType="image/jpeg"/>
  <Override PartName="/ppt/media/image7.jpeg" ContentType="image/jpeg"/>
  <Override PartName="/ppt/media/image28.png" ContentType="image/png"/>
  <Override PartName="/ppt/media/image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233F0-BF70-4CC4-80F0-DD0A47BA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52FA-0DF5-4A0A-8F73-6F4074F4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5C3D2-8A16-4E85-8EBF-63A8BDED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947E-3D9D-4F1C-9DB6-515A8B32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994A-89CA-4F31-B69E-D5875948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8D05-B8D4-49FD-B690-A505A15B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B814-D242-4AE0-B4BC-227C0629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702F-B01C-401C-A933-FC2E4891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DD51-C5D4-4A07-A4B5-899C694E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4DD6-9904-4AFE-9A46-61B5F561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4767-B7A3-41AE-9798-D16C93B1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71AE-B78E-453E-9D6E-FC460B41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E79A-F65E-4BAD-92DA-A1D40BFB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BFCA-6792-4595-A63C-44E7E80A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E826-2395-4BAF-A119-E9348BD0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4807-0284-4CBF-9141-D61DE231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3877-4A6F-4225-9CF7-7678FBBE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33545-A684-46ED-A181-1B3F8DF1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F88DC-972C-43FF-B18A-B71D898C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69731-B703-4B39-9FAA-64707FFD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FB64B-A629-4EA5-9963-DF3D3A43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20EC-7708-4D47-ABFE-65FC2808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4231-07CC-4DA9-BFF8-F9BC44A9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4DA2-3D2C-43C8-8E79-698E6D64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F6ECD-06B3-4065-A034-B5D05142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95C9-D808-41A0-B4AB-C22EA872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324D8-2B2E-496A-ABC4-1C45BBEB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17EF9-6031-493B-AB97-0C5B05ED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60B75-5480-4140-B0C6-AC6AC677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2A8F-A989-482A-948C-6A51EBB9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EEE67-81BA-46FD-A05E-9A609EEB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31432-DDCF-4313-98DA-17922126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19C96-CC8D-44EE-A953-208A0515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188C-43FE-40C8-8B39-EB98470D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4BC52-A1B3-4214-BE79-4D6E2244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2D7E8-F7C4-4989-986F-7E98112A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B3B0C-A40A-42FF-9F27-163A2DA9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00B93-4BA3-4355-8EA1-4FC9DE9D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81305-A1EF-4690-8D45-39009869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B93DA-C8B7-4DDB-BE59-AF8A5CD9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3691B-5FB5-4C88-B0DB-3E47E8E2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62271-60AF-4E4B-AF81-35A73E64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E6782-6089-46B8-85F6-795798D2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F2E2D-85AB-47E9-B17A-858D3C87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4A9D-C1B4-4B65-AEC3-FD7D2CAD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FC0F-3F35-4DDD-BF16-729BAFC6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65175-9ABE-413F-8A75-BC53234B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9C4B-D51F-4DAD-B627-6A2B0DA7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B87D-7114-495C-AD71-8F27E92087C2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C40F-0998-4C40-AEDC-7E4837B1CEB8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66E5-53D8-4D94-9AB8-D8157A910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2F1A-A6D6-4D04-8035-B0C207F2D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jpe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03280" y="333360"/>
            <a:ext cx="7489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1341360"/>
            <a:ext cx="6084720" cy="388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Јанка Струхарова, ОШ “Јан Чајак”, Бачки Петрова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Мариа Миленковић, ОШ “Јан Чајак”, Бачки Петрова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Бранислава Буквић, ОШ “Јан Чајак”, Бачки Петрова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Час одељенског стареши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Ликовна кул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Матерњи јез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Како да побољшамо своје учењ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Пети разре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547640" y="404640"/>
            <a:ext cx="838440" cy="905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780000" y="63705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4.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</a:t>
            </a: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amćen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zorsko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atkotrajno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ugotrajn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Sa stanovišta učenja, gradivo težimo da smestimo u dugotrano pamćen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Ponavljanje, ponavljanje...je glavno sredstvo da se do toga dođ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Neuspešno zapamćivanje često je posledica slabe, negativne motivacije, stresa, problema u porodici, školi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962520" y="5410080"/>
            <a:ext cx="1095120" cy="895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4000" spc="-1" strike="noStrike">
                <a:solidFill>
                  <a:srgbClr val="e5e5ff"/>
                </a:solidFill>
                <a:latin typeface="Garamond"/>
              </a:rPr>
              <a:t>Prepoznja svoj model pamćenja – </a:t>
            </a:r>
            <a:r>
              <a:rPr b="1" i="1" lang="sr-Latn-CS" sz="3600" spc="-1" strike="noStrike">
                <a:solidFill>
                  <a:srgbClr val="e5e5ff"/>
                </a:solidFill>
                <a:latin typeface="Garamond"/>
              </a:rPr>
              <a:t>olakšaj sebi zapamćivanj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4402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Vizuelni tip pamćenja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Glasni tip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pamće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Pokretački tip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pamće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4038840" cy="3200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e5e5ff"/>
                </a:solidFill>
                <a:latin typeface="Garamond"/>
              </a:rPr>
              <a:t>Šta pamtimo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700280"/>
          <a:ext cx="6707160" cy="4321080"/>
        </p:xfrm>
        <a:graphic>
          <a:graphicData uri="http://schemas.openxmlformats.org/drawingml/2006/table">
            <a:tbl>
              <a:tblPr/>
              <a:tblGrid>
                <a:gridCol w="1019160"/>
                <a:gridCol w="5688000"/>
              </a:tblGrid>
              <a:tr h="77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oga što smo ču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Onoga što smo vide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ab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oga što smo videl i ču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Onoga u čemu smo učestvovali u razgovor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ab"/>
                    </a:solidFill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oga čto smo odradi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209960" cy="1019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aboravljanj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Nauka kaže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Nakon prvog učenja pamtimo 80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%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 materi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To što zapamtimo ostaje trajn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Daljim učenjem usvajamo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80%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materi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Ponavljanjem postižemo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%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 zapamćivan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514"/>
                </a:solidFill>
                <a:latin typeface="Garamond"/>
              </a:rPr>
              <a:t>Učenje zahteva odm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514"/>
                </a:solidFill>
                <a:latin typeface="Garamond"/>
              </a:rPr>
              <a:t>Pravite 3 min. pauze  svakih 30 minu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514"/>
                </a:solidFill>
                <a:latin typeface="Garamond"/>
              </a:rPr>
              <a:t>Najbolji efekti  postižu se ponavljanjem gradiva 4 da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5e5ff"/>
                </a:solidFill>
                <a:latin typeface="Garamond"/>
              </a:rPr>
              <a:t>6. Strah i trem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lokade pamćenja, mišlje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Iza treme se često krije negativno osećanje i raznišlanj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rema koja pokreć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1371600" cy="1322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162920" y="1219320"/>
            <a:ext cx="952560" cy="1009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4648320" y="3200400"/>
            <a:ext cx="3504960" cy="3433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2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2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Savladavanje trem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219560"/>
        </p:xfrm>
        <a:graphic>
          <a:graphicData uri="http://schemas.openxmlformats.org/drawingml/2006/table">
            <a:tbl>
              <a:tblPr/>
              <a:tblGrid>
                <a:gridCol w="685800"/>
                <a:gridCol w="6629400"/>
                <a:gridCol w="91440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eniti način mišljen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redsrediti se na probl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jednostaviti značaj situaci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sugest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lja pripre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ustiti 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boko diš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iri 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horz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7. Mesto za učen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 Narrow"/>
              </a:rPr>
              <a:t>Pogodan prostor za učen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 Narrow"/>
              </a:rPr>
              <a:t>Bez buke - odvlači pažnj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 Narrow"/>
              </a:rPr>
              <a:t>Svetl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 Narrow"/>
              </a:rPr>
              <a:t>Provetravanj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 Narrow"/>
              </a:rPr>
              <a:t>Sređene</a:t>
            </a:r>
            <a:r>
              <a:rPr b="1" i="1" lang="sr-Latn-C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 Narrow"/>
              </a:rPr>
              <a:t>stvar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4869000"/>
            <a:ext cx="3313440" cy="1295280"/>
          </a:xfrm>
          <a:prstGeom prst="rect">
            <a:avLst/>
          </a:prstGeom>
          <a:solidFill>
            <a:srgbClr val="f6f8a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514"/>
                </a:solidFill>
                <a:latin typeface="Arial"/>
              </a:rPr>
              <a:t>Stvo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514"/>
                </a:solidFill>
                <a:latin typeface="Arial"/>
              </a:rPr>
              <a:t>1. Navika vreme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514"/>
                </a:solidFill>
                <a:latin typeface="Arial"/>
              </a:rPr>
              <a:t>2. Navika mesta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1808280" cy="20685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908000" y="4797360"/>
            <a:ext cx="1656000" cy="1332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38080" y="1295280"/>
            <a:ext cx="7925040" cy="59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Samo ono šta si najbolje shvatio postaje tvoja „trajna imovin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2.  Aktivno učestvuj u učenju,  uči što manje napam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3.  Prilagodi gradivo svom tipu učenja, istražuj nove načine uč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4.  Pamtićeš brže i bolje ono gradivo,  prema kojem imaš pozitivan od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5.  Pazi na odmor /dovoljna količina sna je nophodna, daj prednost učenju tokom d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3049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1" lang="pl-PL" sz="2800" spc="-1" strike="noStrike">
                <a:solidFill>
                  <a:srgbClr val="0099cc"/>
                </a:solidFill>
                <a:latin typeface="Garamond"/>
              </a:rPr>
              <a:t>Na kraj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524720" y="1989000"/>
            <a:ext cx="1047960" cy="1047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200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200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476360" y="620640"/>
            <a:ext cx="59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00000" y="1916280"/>
            <a:ext cx="3384720" cy="3706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ffffff"/>
                </a:solidFill>
                <a:latin typeface="Arial"/>
              </a:rPr>
              <a:t>TREĆI  č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Zajedn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9933"/>
                </a:solidFill>
                <a:latin typeface="Arial"/>
              </a:rPr>
              <a:t>ČAS ODELJENSKOG STAREŠ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9933"/>
                </a:solidFill>
                <a:latin typeface="Arial"/>
              </a:rPr>
              <a:t>SRPSKI JEZIK</a:t>
            </a:r>
            <a:r>
              <a:rPr b="0" lang="sr-C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9933"/>
                </a:solidFill>
                <a:latin typeface="Arial"/>
              </a:rPr>
              <a:t>/ SLOVAČKI JE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99"/>
                </a:solidFill>
                <a:latin typeface="Arial"/>
              </a:rPr>
              <a:t>Trajanje 45  m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66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8480" y="278640"/>
            <a:ext cx="8433360" cy="550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ffffff"/>
                </a:solidFill>
                <a:latin typeface="Arial"/>
              </a:rPr>
              <a:t>Základná škola Jána Čajaka, Sládkovičova 2, tel/fax: +38121780039, jancajak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@neobee.n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ffffff"/>
                </a:solidFill>
                <a:latin typeface="Arial"/>
              </a:rPr>
              <a:t>Основна школа „Јан Чајак“, Сладковичова 2, тел/факс: +38121780039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k-SK" sz="1500" spc="-1" strike="noStrike">
                <a:solidFill>
                  <a:srgbClr val="ffffff"/>
                </a:solidFill>
                <a:latin typeface="Arial"/>
              </a:rPr>
              <a:t> jancajak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eobee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sr-C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736280"/>
            <a:ext cx="7772400" cy="306396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  <a:effectLst>
            <a:outerShdw dist="107932" dir="18900000" blurRad="0" rotWithShape="0">
              <a:srgbClr val="000514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514"/>
                </a:solidFill>
                <a:latin typeface="Garamond"/>
              </a:rPr>
              <a:t>Učimo se učenju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1905120" cy="961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1914480" cy="1006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2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2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76360" y="620640"/>
            <a:ext cx="59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1916280"/>
            <a:ext cx="3384720" cy="405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ffffff"/>
                </a:solidFill>
                <a:latin typeface="Arial"/>
              </a:rPr>
              <a:t>PRVI  č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ČAS ODELJENSKOG STAREŠ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66ff"/>
                </a:solidFill>
                <a:latin typeface="Arial"/>
              </a:rPr>
              <a:t>Trajanje 45  m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ffffff"/>
                </a:solidFill>
                <a:latin typeface="Arial"/>
              </a:rPr>
              <a:t>DRUGI č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LIKOVNA KUL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66ff"/>
                </a:solidFill>
                <a:latin typeface="Arial"/>
              </a:rPr>
              <a:t>Trajanje 45  m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588000" y="1887480"/>
            <a:ext cx="180036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258480" y="278640"/>
            <a:ext cx="8433360" cy="550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ffffff"/>
                </a:solidFill>
                <a:latin typeface="Arial"/>
              </a:rPr>
              <a:t>Základná škola Jána Čajaka, Sládkovičova 2, tel/fax: +38121780039, jancajak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@neobee.n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ffffff"/>
                </a:solidFill>
                <a:latin typeface="Arial"/>
              </a:rPr>
              <a:t>Основна школа „Јан Чајак“, Сладковичова 2, тел/факс: +38121780039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k-SK" sz="1500" spc="-1" strike="noStrike">
                <a:solidFill>
                  <a:srgbClr val="ffffff"/>
                </a:solidFill>
                <a:latin typeface="Arial"/>
              </a:rPr>
              <a:t> jancajak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eobee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sr-C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19320" y="3276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106668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irodna težnja učenika je da budu uspešni u ško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3200400"/>
            <a:ext cx="6019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eki učenici zaostaju u gradiv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Možda ne znaju kako da organizuju svoje vreme, kako da upravljaju svojim sposobnosti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356000" y="4797360"/>
            <a:ext cx="3409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 znaju da uče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15960" y="34988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4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baf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e5e5ff"/>
                </a:solidFill>
                <a:latin typeface="Garamond"/>
              </a:rPr>
              <a:t>Planiranje učen</a:t>
            </a:r>
            <a:r>
              <a:rPr b="0" i="1" lang="sr-CS" sz="4400" spc="-1" strike="noStrike">
                <a:solidFill>
                  <a:srgbClr val="e5e5ff"/>
                </a:solidFill>
                <a:latin typeface="Garamond"/>
              </a:rPr>
              <a:t>ј</a:t>
            </a:r>
            <a:r>
              <a:rPr b="0" i="1" lang="sr-Latn-CS" sz="4400" spc="-1" strike="noStrike">
                <a:solidFill>
                  <a:srgbClr val="e5e5ff"/>
                </a:solidFill>
                <a:latin typeface="Garamond"/>
              </a:rPr>
              <a:t>a je polovina</a:t>
            </a:r>
            <a:br>
              <a:rPr sz="4400"/>
            </a:br>
            <a:r>
              <a:rPr b="0" i="1" lang="sr-Latn-CS" sz="4400" spc="-1" strike="noStrike">
                <a:solidFill>
                  <a:srgbClr val="e5e5ff"/>
                </a:solidFill>
                <a:latin typeface="Garamond"/>
              </a:rPr>
              <a:t>puta ka uspech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804000" y="2133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484360" y="198900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ravilno organizovanje vrem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58920" y="3068640"/>
            <a:ext cx="7315200" cy="703800"/>
          </a:xfrm>
          <a:prstGeom prst="rect">
            <a:avLst/>
          </a:prstGeom>
          <a:solidFill>
            <a:srgbClr val="a886e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Arial"/>
              </a:rPr>
              <a:t>Naš organizam je sposoban da se navikne na učenje u isto vreme tokom d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27280" y="4076640"/>
            <a:ext cx="34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ridržavanje se pravila učenja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58920" y="4724280"/>
            <a:ext cx="678168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čenje dva slična predmeta na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učenj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deluje negativn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58920" y="5373720"/>
            <a:ext cx="678168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čenje dva različita predmeta na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učenj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deluje podsticajn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1901880" cy="1955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4360" y="260280"/>
            <a:ext cx="8281800" cy="647640"/>
          </a:xfrm>
          <a:prstGeom prst="roundRect">
            <a:avLst>
              <a:gd name="adj" fmla="val 16667"/>
            </a:avLst>
          </a:prstGeom>
          <a:solidFill>
            <a:srgbClr val="0099cc">
              <a:alpha val="60000"/>
            </a:srgbClr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5e5ff"/>
                </a:solidFill>
                <a:latin typeface="Garamond"/>
              </a:rPr>
              <a:t>Plan rada sadrž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Sve dane u nedelj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Određeno vreme ustajanja i ostalih aktivn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Vreme za odmor i zabav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Pišemo plan za jedan dan unapr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Propusti se ispravljaju u planu za narednu nedelj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986440" y="218268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870520" y="4073400"/>
            <a:ext cx="1594080" cy="1917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7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4360" y="1052640"/>
            <a:ext cx="7991280" cy="5545080"/>
          </a:xfrm>
          <a:prstGeom prst="rect">
            <a:avLst/>
          </a:prstGeom>
          <a:solidFill>
            <a:srgbClr val="f6f8a6">
              <a:alpha val="40000"/>
            </a:srgbClr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5e5ff"/>
                </a:solidFill>
                <a:latin typeface="Garamond"/>
              </a:rPr>
              <a:t>Ovako izgleda jedan plan učenj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332000" y="2133720"/>
          <a:ext cx="7080120" cy="3174840"/>
        </p:xfrm>
        <a:graphic>
          <a:graphicData uri="http://schemas.openxmlformats.org/drawingml/2006/table">
            <a:tbl>
              <a:tblPr/>
              <a:tblGrid>
                <a:gridCol w="3744720"/>
                <a:gridCol w="1341720"/>
                <a:gridCol w="996840"/>
                <a:gridCol w="9968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ktivnost (predmet i dr..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ađe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torija</a:t>
                      </a: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a Grč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r>
                        <a:rPr b="0" lang="sr-C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6</a:t>
                      </a:r>
                      <a:r>
                        <a:rPr b="0" lang="sr-C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z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r>
                        <a:rPr b="0" lang="sr-C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7</a:t>
                      </a:r>
                      <a:r>
                        <a:rPr b="0" lang="sr-C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aći zadatak iz matematik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r>
                        <a:rPr b="0" lang="sr-C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7</a:t>
                      </a:r>
                      <a:r>
                        <a:rPr b="0" lang="sr-C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z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r>
                        <a:rPr b="0" lang="sr-C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8</a:t>
                      </a:r>
                      <a:r>
                        <a:rPr b="0" lang="sr-C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1547640" y="1125360"/>
            <a:ext cx="532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lan učenja  za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dan u nedelji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19280" y="5805360"/>
            <a:ext cx="27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odpis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1332000" cy="1287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3000"/>
                            </p:stCondLst>
                            <p:childTnLst>
                              <p:par>
                                <p:cTn id="9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5e5ff"/>
                </a:solidFill>
                <a:latin typeface="Garamond"/>
              </a:rPr>
              <a:t>Načini učen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amostalno učenje, u seb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Glasno učenj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Grupno učenj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čiti po delovi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čiti ce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2808360" cy="2414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6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e5e5ff"/>
                </a:solidFill>
                <a:latin typeface="Garamond"/>
              </a:rPr>
              <a:t>Pesmica</a:t>
            </a:r>
            <a:br>
              <a:rPr sz="3100"/>
            </a:br>
            <a:r>
              <a:rPr b="1" lang="sk-SK" sz="3100" spc="-1" strike="noStrike">
                <a:solidFill>
                  <a:srgbClr val="e5e5ff"/>
                </a:solidFill>
                <a:latin typeface="Garamond"/>
              </a:rPr>
              <a:t>(učenje kombinovanom metodom)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403280" y="1844640"/>
          <a:ext cx="6456240" cy="4176360"/>
        </p:xfrm>
        <a:graphic>
          <a:graphicData uri="http://schemas.openxmlformats.org/drawingml/2006/table">
            <a:tbl>
              <a:tblPr/>
              <a:tblGrid>
                <a:gridCol w="355680"/>
                <a:gridCol w="284040"/>
                <a:gridCol w="282600"/>
                <a:gridCol w="355320"/>
                <a:gridCol w="5178600"/>
              </a:tblGrid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ofa</a:t>
                      </a: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va puta pročitamo celu pes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čim  1. strof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čim  2. strofu i ponavljam 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čim sa 3. strofu i ponavljam 1., 2., strof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čim  4. strofu i ponavljam1., 2., 3. strof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avljam celu pesmicu</a:t>
                      </a: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044360" cy="1655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5e5ff"/>
                </a:solidFill>
                <a:latin typeface="Garamond"/>
              </a:rPr>
              <a:t>Čitanje</a:t>
            </a: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Stvoriti pravilnu naviku čita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rvo čitanje (upoznavanje sa tekstom, obim specifičnosti) /</a:t>
            </a:r>
            <a:r>
              <a:rPr b="0" i="1" lang="sr-Latn-CS" sz="2400" spc="-1" strike="noStrike">
                <a:solidFill>
                  <a:srgbClr val="ffffff"/>
                </a:solidFill>
                <a:latin typeface="Garamond"/>
              </a:rPr>
              <a:t>orjentaciomo čitanje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Drugo čitanje je informativno čitanje /</a:t>
            </a:r>
            <a:r>
              <a:rPr b="0" i="1" lang="sr-Latn-CS" sz="2400" spc="-1" strike="noStrike">
                <a:solidFill>
                  <a:srgbClr val="ffffff"/>
                </a:solidFill>
                <a:latin typeface="Garamond"/>
              </a:rPr>
              <a:t>informativno čítanje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reće čitanje. Trudimo se da razumemo tekst, istaknemo bitne delove 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sr-Latn-CS" sz="2400" spc="-1" strike="noStrike">
                <a:solidFill>
                  <a:srgbClr val="ffffff"/>
                </a:solidFill>
                <a:latin typeface="Garamond"/>
              </a:rPr>
              <a:t>selektivno čitan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sr-Latn-CS" sz="24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1" i="1" lang="sr-Latn-CS" sz="2400" spc="-1" strike="noStrike">
                <a:solidFill>
                  <a:srgbClr val="ffff99"/>
                </a:solidFill>
                <a:latin typeface="Garamond"/>
              </a:rPr>
              <a:t>Podvlačimo bitne delov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867280" y="68580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804000" y="1628640"/>
            <a:ext cx="1224000" cy="12114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1979640" y="260280"/>
            <a:ext cx="518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Impact"/>
              </a:rPr>
              <a:t>Ovako se čitanje pretvara u učenj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519120" y="114444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59280" y="1484280"/>
            <a:ext cx="1800000" cy="78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Informativ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čt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56360" y="3357720"/>
            <a:ext cx="180036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Ponavlj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3357720"/>
            <a:ext cx="18000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Drugo, treće čitanje radi razumevanja tek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80000" y="4869000"/>
            <a:ext cx="1800000" cy="1202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Nauč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tek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187280" y="1916280"/>
            <a:ext cx="1872000" cy="144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32000" y="4653000"/>
            <a:ext cx="2448000" cy="1224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580000" y="3789360"/>
            <a:ext cx="1152720" cy="180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59280" y="1916280"/>
            <a:ext cx="1944720" cy="144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9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401760"/>
            <a:ext cx="6551640" cy="10159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514"/>
                </a:solidFill>
                <a:latin typeface="Garamond"/>
              </a:rPr>
              <a:t>Učenje sa olovkom u ruci</a:t>
            </a:r>
            <a:br>
              <a:rPr sz="4000"/>
            </a:br>
            <a:r>
              <a:rPr b="0" i="1" lang="sr-Latn-CS" sz="3600" spc="-1" strike="noStrike">
                <a:solidFill>
                  <a:srgbClr val="e5e5ff"/>
                </a:solidFill>
                <a:latin typeface="Garamond"/>
              </a:rPr>
              <a:t>-aktivni pristup učenju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99"/>
                </a:solidFill>
                <a:latin typeface="Garamond"/>
              </a:rPr>
              <a:t>Podvlače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omže isticanju bitnih delova teksta, bitnih za razumevanje i pamćenje teks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Raznobojno podvlače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ogodno je u završnom ponavljanj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reporučuje se učenicima sa vizuelnim pamćenj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99"/>
                </a:solidFill>
                <a:latin typeface="Garamond"/>
              </a:rPr>
              <a:t>Pisanje beleža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zahteva vre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Beleške na margini, sveske, knji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ravljenje skraćenog sadrža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012000" y="4797360"/>
            <a:ext cx="1828800" cy="1670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4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9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3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8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3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8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3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7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2" dur="2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7" dur="2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5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184720" cy="1163520"/>
          </a:xfrm>
          <a:prstGeom prst="rect">
            <a:avLst/>
          </a:prstGeom>
          <a:solidFill>
            <a:srgbClr val="ccbaf8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ff"/>
                </a:solidFill>
                <a:latin typeface="Garamond"/>
              </a:rPr>
              <a:t>Ponavljanje</a:t>
            </a:r>
            <a:r>
              <a:rPr b="0" lang="sr-Latn-CS" sz="4400" spc="-1" strike="noStrike">
                <a:solidFill>
                  <a:srgbClr val="003399"/>
                </a:solidFill>
                <a:latin typeface="Garamond"/>
              </a:rPr>
              <a:t> </a:t>
            </a:r>
            <a:br>
              <a:rPr sz="4400"/>
            </a:br>
            <a:r>
              <a:rPr b="0" lang="sr-Latn-CS" sz="40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i="1" lang="sr-Latn-CS" sz="3600" spc="-1" strike="noStrike">
                <a:solidFill>
                  <a:srgbClr val="003399"/>
                </a:solidFill>
                <a:latin typeface="Garamond"/>
              </a:rPr>
              <a:t>put ka trajnom znanju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8595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cc6600"/>
                </a:solidFill>
                <a:latin typeface="Garamond"/>
              </a:rPr>
              <a:t>Učenje ponavljanjem počinje čitanjem a završava se sa reprodukcijom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 /ponavljanje potpomaže pamće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ff99"/>
                </a:solidFill>
                <a:latin typeface="Garamond"/>
              </a:rPr>
              <a:t>Ono što naučimo najbrže zaboravljamo za prva tri da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66ff"/>
                </a:solidFill>
                <a:latin typeface="Garamond"/>
              </a:rPr>
              <a:t>Način kako sprečiti zaboravlja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66ff"/>
                </a:solidFill>
                <a:latin typeface="Garamond"/>
              </a:rPr>
              <a:t>    </a:t>
            </a:r>
            <a:r>
              <a:rPr b="1" lang="sk-SK" sz="2800" spc="-1" strike="noStrike">
                <a:solidFill>
                  <a:srgbClr val="ff66ff"/>
                </a:solidFill>
                <a:latin typeface="Garamond"/>
              </a:rPr>
              <a:t>učenje danas za sut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/prvi put gradivo ponavljamo istog da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/drugi put onog dana pred č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020000" y="46530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52320" y="761760"/>
            <a:ext cx="441972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Učen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701880" y="4303800"/>
            <a:ext cx="3894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Učenje nas prati ceo  živ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3880" y="2112840"/>
            <a:ext cx="1833840" cy="1587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Na kraj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443640" y="3573360"/>
            <a:ext cx="1827360" cy="18273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čenje  je aktivnost koja zahteva vreme i nap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Ako naučimo na aktivan način da učimo, stići će i zadovoljstvo zbog postignutih rezult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851280" y="3860640"/>
            <a:ext cx="1752480" cy="1328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1959120" cy="1762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3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3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1981080" cy="1873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375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iv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ac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2. Koncentracij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3. Nadarenost, talen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4. Pamće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b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ravljanj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Strah i str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7. Mesto za uče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90720" y="533520"/>
            <a:ext cx="6324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aktori koji utiču na učenje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1. Motivacija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Pozitivni motiv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-zadovoljstvo, radost, nagrada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Negativni motiv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-strah, st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438280" y="5105520"/>
            <a:ext cx="981360" cy="1361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352680" y="2895480"/>
            <a:ext cx="1371600" cy="1060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181480" y="3505320"/>
            <a:ext cx="3422880" cy="19227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Ako želite nešto postići učenjem, morate znati, pravilno se motivisati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60020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66"/>
                </a:solidFill>
                <a:latin typeface="Garamond"/>
              </a:rPr>
              <a:t>Uspech u učenju u velikoj meri zavisi od motivac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029200" y="1600200"/>
            <a:ext cx="1676520" cy="1065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733920" y="5943600"/>
            <a:ext cx="465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Izbegavajte negativnu motivaci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33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5e5ff"/>
                </a:solidFill>
                <a:latin typeface="Garamond"/>
              </a:rPr>
              <a:t>Primer otkazivanja voljnih osobina učenika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a886e0"/>
                </a:solidFill>
                <a:latin typeface="Garamond"/>
              </a:rPr>
              <a:t>Period pripre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Garamond"/>
              </a:rPr>
              <a:t>Period smišljanja izgovo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514"/>
                </a:solidFill>
                <a:latin typeface="Garamond"/>
              </a:rPr>
              <a:t>Pan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Garamond"/>
              </a:rPr>
              <a:t>Period apati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Period kriz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Garamond"/>
              </a:rPr>
              <a:t>Proce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Zaključ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08000" y="1557000"/>
            <a:ext cx="4799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a886e0"/>
                </a:solidFill>
                <a:latin typeface="Garamond"/>
              </a:rPr>
              <a:t>Ovog puta ću se pripremiti u ponedeljak počinj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Garamond"/>
              </a:rPr>
              <a:t>Pripremao bih se, ali nemam ka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Garamond"/>
              </a:rPr>
              <a:t>Šta se uradi za  2-3 dana, uradi 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514"/>
                </a:solidFill>
                <a:latin typeface="Garamond"/>
              </a:rPr>
              <a:t>Ja  to neću naučiti, to nije moguć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Garamond"/>
              </a:rPr>
              <a:t>Sada je to i tako svejedn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Prijaviću učitelju da nisam sprem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Garamond"/>
              </a:rPr>
              <a:t>Učitelj mi je zadao težak zadat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Ubuduće ću se redovno priprema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362320" y="5486400"/>
            <a:ext cx="1257120" cy="1190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195640" y="692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6f8a6"/>
                </a:solidFill>
                <a:latin typeface="Arial"/>
              </a:rPr>
              <a:t>Negativna motiv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2. Koncentracija - pažnj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Uspeh u učenju zavisi od usredsređenosti paž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Što se bolje se skoncentrišemo na učenje, lakše i brže ćemo nešto da naučim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sredsređenost u učenju je najteže zadržat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621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k-SK" sz="2400" spc="-1" strike="noStrike">
                <a:solidFill>
                  <a:srgbClr val="ffcc00"/>
                </a:solidFill>
                <a:latin typeface="Garamond"/>
              </a:rPr>
              <a:t>Pod pojmom koncentracije, podrazumevamo  da usredsredimo pažnju na gradivo koje učim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1974960" cy="1698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55640" y="1773360"/>
            <a:ext cx="762012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Granica usredsređenosti je oko 40-50 min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124080"/>
            <a:ext cx="7626240" cy="3682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Učenje sa interesovanjem olakšava održavanje paž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3886200"/>
            <a:ext cx="762624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Buka iz okoline je  smetnja u učenju /pažn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410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ako se usredsredit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Nešto praktičn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438280"/>
            <a:ext cx="7619760" cy="3682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ptimalno vreme učenja je oko 3 s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003640" y="4724280"/>
            <a:ext cx="1362240" cy="1447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e5e5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600" spc="-1" strike="noStrike">
                <a:solidFill>
                  <a:srgbClr val="e5e5ff"/>
                </a:solidFill>
                <a:latin typeface="Garamond"/>
              </a:rPr>
              <a:t>Talena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eko j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nadare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za spor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neko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z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učenje stranih jezika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neko za tehničke predmet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Zato se upoznaj sa što širom paletom delatnosti da bi prepoznao i razvio svoj talen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315200" y="914400"/>
            <a:ext cx="1542960" cy="1054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632480" y="2781360"/>
            <a:ext cx="1523880" cy="1832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819520" y="525780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6477120" y="4648320"/>
            <a:ext cx="1904760" cy="1420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380880" y="5334120"/>
            <a:ext cx="952560" cy="11811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8001000" y="3124080"/>
            <a:ext cx="885960" cy="1333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7620120" y="2057400"/>
            <a:ext cx="942840" cy="942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"/>
          <a:stretch/>
        </p:blipFill>
        <p:spPr>
          <a:xfrm>
            <a:off x="6019920" y="17524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9"/>
          <a:stretch/>
        </p:blipFill>
        <p:spPr>
          <a:xfrm>
            <a:off x="7620120" y="5638680"/>
            <a:ext cx="1066680" cy="966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4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7000"/>
                            </p:stCondLst>
                            <p:childTnLst>
                              <p:par>
                                <p:cTn id="39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cp:keywords/>
  <dc:language>en-US</dc:language>
  <cp:lastModifiedBy>Billy</cp:lastModifiedBy>
  <dcterms:modified xsi:type="dcterms:W3CDTF">2015-01-21T22:24:32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