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6.png" ContentType="image/png"/>
  <Override PartName="/ppt/media/image26.wmf" ContentType="image/x-wmf"/>
  <Override PartName="/ppt/media/image14.gif" ContentType="image/gif"/>
  <Override PartName="/ppt/media/image31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6.wmf" ContentType="image/x-wmf"/>
  <Override PartName="/ppt/media/image37.jpeg" ContentType="image/jpeg"/>
  <Override PartName="/ppt/media/image38.wmf" ContentType="image/x-wmf"/>
  <Override PartName="/ppt/media/image40.wmf" ContentType="image/x-wmf"/>
  <Override PartName="/ppt/media/image39.wmf" ContentType="image/x-wmf"/>
  <Override PartName="/ppt/media/image41.png" ContentType="image/png"/>
  <Override PartName="/ppt/media/image42.wmf" ContentType="image/x-wmf"/>
  <Override PartName="/ppt/media/image43.png" ContentType="image/png"/>
  <Override PartName="/ppt/media/image44.wmf" ContentType="image/x-wmf"/>
  <Override PartName="/ppt/media/image34.wmf" ContentType="image/x-wmf"/>
  <Override PartName="/ppt/media/image35.png" ContentType="image/png"/>
  <Override PartName="/ppt/media/image45.jpeg" ContentType="image/jpeg"/>
  <Override PartName="/ppt/media/image46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33.gif" ContentType="image/gif"/>
  <Override PartName="/ppt/media/image30.jpeg" ContentType="image/jpeg"/>
  <Override PartName="/ppt/media/image9.jpeg" ContentType="image/jpeg"/>
  <Override PartName="/ppt/media/image12.wmf" ContentType="image/x-wmf"/>
  <Override PartName="/ppt/media/image4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13.wmf" ContentType="image/x-wmf"/>
  <Override PartName="/ppt/media/image8.jpeg" ContentType="image/jpeg"/>
  <Override PartName="/ppt/media/image7.jpeg" ContentType="image/jpeg"/>
  <Override PartName="/ppt/media/image28.png" ContentType="image/png"/>
  <Override PartName="/ppt/media/image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1BD2C-7EDD-4A21-973F-A4F0C602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04833-6506-4370-B856-6D4943E4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08E91-D86A-46E3-8F98-9F17C2F1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6D30D-B827-4B97-80A3-2B0CEC99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323C-E89D-410F-9C9C-88766914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1B8D-EEB5-47B0-A73E-61511F43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4DB0-951F-49D8-A421-F0D0436F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CE60-E39E-4107-BC92-3104DE79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BDE9-AA3D-41F5-940A-1139173C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6CC7-DEE7-40F5-AB26-373FA049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5BF7-9B10-43B5-8080-89E7E743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8E0D5-C11F-4F74-A332-5EBF7B22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D656-ED97-4772-B6F8-4122BA83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60C1-5526-42AC-9CF3-12155BFA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A91A-7856-40BC-9CF5-F764CEE3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5985-B292-4E48-A6F9-DCDA579D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F7B8-5FFF-40A7-B3E1-D5F4634A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E626E-F6C0-421D-BA34-319FE194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FF6B4-49D5-4ECF-9CC3-A23501D9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A9AF2-F43F-435A-9F39-F4986D4F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873B1-3F94-4023-9A35-549C1B56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AD0C2-B194-43EF-ACA0-B4BBF83F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A61D3-DFF1-44D4-ADA4-8C06291A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E5AC1-3621-45E9-84FF-B3C56886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BFB24-E000-45C4-AAAE-6C24D245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4A07C-08C2-4AE6-9B43-12E50A23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98647-067E-4CA1-9672-E062246B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1DBA6-4559-4D3C-969C-5D77BAC8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7D89D-A72D-44CA-874D-E229C2DF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CB67F-907A-4A14-BB11-316D605C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E0568-7C5F-4909-80ED-F8A01B42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C3A73-9BFD-4625-B9C3-4BAB75B8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63560-9F1B-4797-833C-8344F077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EA520-E3DA-4BC4-8633-91B544DE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BCB22-FC54-4A4E-9F68-38217680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6FEC5-FB57-4BC2-909A-DD4ABDA6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AA809-43AE-4DA1-BF00-94AA41B4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6AC8C-5842-489D-AF77-FC975510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BE9CB-BF80-44C4-81EF-CAEDD27A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47B75-9AE3-4D41-8FE6-8231F5F3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0F8AB-6E11-4BB8-850A-8CB8CDB2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3E0AF-FC95-444D-B115-E3C03613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AB0E7-6877-43C6-AFBC-B730916F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5BD5B-DC9E-451B-8D4A-F7F48D7F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C689B-D646-49F4-BB2E-0DF9CFF3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14F2-482A-40DC-8A4B-7FF37BCF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2544-17EB-4AC1-A123-B841CFEF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7AD2-4C05-4375-8D87-0E761F6E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DCC3-AC01-4854-94CF-57215D60E242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0540-A95F-47BF-8079-956E42E4110F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49C1-A82B-438A-8D1A-356EB614A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FD5D-8D92-4810-AB1D-7673C4EF7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jpe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03280" y="333360"/>
            <a:ext cx="7489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1341360"/>
            <a:ext cx="6084720" cy="388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Јанка Струхарова, ОШ “Јан Чајак”, Бачки Петрова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Мариа Миленковић, ОШ “Јан Чајак”, Бачки Петрова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Бранислава Буквић, ОШ “Јан Чајак”, Бачки Петрова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Час одељенског стареши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Ликовна култу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Матерњи јез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Како да побољшамо своје учењ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Пети разре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547640" y="404640"/>
            <a:ext cx="838440" cy="905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780000" y="63705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4.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</a:t>
            </a: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amćen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zorsko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atkotrajno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ugotrajn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Sa stanovišta učenja, gradivo težimo da smestimo u dugotrano pamćen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Ponavljanje, ponavljanje...je glavno sredstvo da se do toga dođ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Neuspešno zapamćivanje često je posledica slabe, negativne motivacije, stresa, problema u porodici, školi.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962520" y="5410080"/>
            <a:ext cx="1095120" cy="895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4000" spc="-1" strike="noStrike">
                <a:solidFill>
                  <a:srgbClr val="e5e5ff"/>
                </a:solidFill>
                <a:latin typeface="Garamond"/>
              </a:rPr>
              <a:t>Prepoznja svoj model pamćenja – </a:t>
            </a:r>
            <a:r>
              <a:rPr b="1" i="1" lang="sr-Latn-CS" sz="3600" spc="-1" strike="noStrike">
                <a:solidFill>
                  <a:srgbClr val="e5e5ff"/>
                </a:solidFill>
                <a:latin typeface="Garamond"/>
              </a:rPr>
              <a:t>olakšaj sebi zapamćivanj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4402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Vizuelni tip pamćenja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Glasni tip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pamćen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Pokretački tip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pamćen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4038840" cy="3200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e5e5ff"/>
                </a:solidFill>
                <a:latin typeface="Garamond"/>
              </a:rPr>
              <a:t>Šta pamtimo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700280"/>
          <a:ext cx="6707160" cy="4321080"/>
        </p:xfrm>
        <a:graphic>
          <a:graphicData uri="http://schemas.openxmlformats.org/drawingml/2006/table">
            <a:tbl>
              <a:tblPr/>
              <a:tblGrid>
                <a:gridCol w="1019160"/>
                <a:gridCol w="5688000"/>
              </a:tblGrid>
              <a:tr h="77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oga što smo ču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Onoga što smo vide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ab"/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oga što smo videl i ču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Onoga u čemu smo učestvovali u razgovor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ab"/>
                    </a:solidFill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oga čto smo odradi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209960" cy="1019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1" lang="sr-Latn-CS" sz="3600" spc="-1" strike="noStrike">
                <a:solidFill>
                  <a:srgbClr val="ffffff"/>
                </a:solidFill>
                <a:latin typeface="Garamond"/>
              </a:rPr>
              <a:t>aboravljanj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Nauka kaže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Nakon prvog učenja pamtimo 80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%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 materi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To što zapamtimo ostaje trajn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Daljim učenjem usvajamo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80% 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materi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Ponavljanjem postižemo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00%</a:t>
            </a: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 zapamćivan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514"/>
                </a:solidFill>
                <a:latin typeface="Garamond"/>
              </a:rPr>
              <a:t>Učenje zahteva odm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514"/>
                </a:solidFill>
                <a:latin typeface="Garamond"/>
              </a:rPr>
              <a:t>Pravite 3 min. pauze  svakih 30 minu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514"/>
                </a:solidFill>
                <a:latin typeface="Garamond"/>
              </a:rPr>
              <a:t>Najbolji efekti  postižu se ponavljanjem gradiva 4 da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e5e5ff"/>
                </a:solidFill>
                <a:latin typeface="Garamond"/>
              </a:rPr>
              <a:t>6. Strah i trem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lokade pamćenja, mišljen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Iza treme se često krije negativno osećanje i raznišlanj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Trema koja pokreć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1371600" cy="1322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162920" y="1219320"/>
            <a:ext cx="952560" cy="1009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4648320" y="3200400"/>
            <a:ext cx="3504960" cy="3433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2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2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5e5ff"/>
                </a:solidFill>
                <a:latin typeface="Garamond"/>
              </a:rPr>
              <a:t>Savladavanje trem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600200"/>
          <a:ext cx="8229600" cy="4219560"/>
        </p:xfrm>
        <a:graphic>
          <a:graphicData uri="http://schemas.openxmlformats.org/drawingml/2006/table">
            <a:tbl>
              <a:tblPr/>
              <a:tblGrid>
                <a:gridCol w="685800"/>
                <a:gridCol w="6629400"/>
                <a:gridCol w="91440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eniti način mišljen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redsrediti se na probl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jednostaviti značaj situaci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sugest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lja pripre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ustiti 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boko diš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iri 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horz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7. Mesto za učen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 Narrow"/>
              </a:rPr>
              <a:t>Pogodan prostor za učen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 Narrow"/>
              </a:rPr>
              <a:t>Bez buke - odvlači pažnj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 Narrow"/>
              </a:rPr>
              <a:t>Svetlo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 Narrow"/>
              </a:rPr>
              <a:t>Provetravanj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 Narrow"/>
              </a:rPr>
              <a:t>Sređene</a:t>
            </a:r>
            <a:r>
              <a:rPr b="1" i="1" lang="sr-Latn-C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 Narrow"/>
              </a:rPr>
              <a:t>stvar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4869000"/>
            <a:ext cx="3313440" cy="1295280"/>
          </a:xfrm>
          <a:prstGeom prst="rect">
            <a:avLst/>
          </a:prstGeom>
          <a:solidFill>
            <a:srgbClr val="f6f8a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514"/>
                </a:solidFill>
                <a:latin typeface="Arial"/>
              </a:rPr>
              <a:t>Stvo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514"/>
                </a:solidFill>
                <a:latin typeface="Arial"/>
              </a:rPr>
              <a:t>1. Navika vreme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514"/>
                </a:solidFill>
                <a:latin typeface="Arial"/>
              </a:rPr>
              <a:t>2. Navika mesta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1808280" cy="20685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908000" y="4797360"/>
            <a:ext cx="1656000" cy="1332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38080" y="1295280"/>
            <a:ext cx="7925040" cy="59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Samo ono šta si najbolje shvatio postaje tvoja „trajna imovin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2.  Aktivno učestvuj u učenju,  uči što manje napam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3.  Prilagodi gradivo svom tipu učenja, istražuj nove načine uč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4.  Pamtićeš brže i bolje ono gradivo,  prema kojem imaš pozitivan od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5.  Pazi na odmor /dovoljna količina sna je nophodna, daj prednost učenju tokom d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76520" y="3049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cc"/>
                </a:solidFill>
                <a:latin typeface="Garamond"/>
              </a:rPr>
              <a:t> </a:t>
            </a:r>
            <a:r>
              <a:rPr b="1" lang="pl-PL" sz="2800" spc="-1" strike="noStrike">
                <a:solidFill>
                  <a:srgbClr val="0099cc"/>
                </a:solidFill>
                <a:latin typeface="Garamond"/>
              </a:rPr>
              <a:t>Na kraj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524720" y="1989000"/>
            <a:ext cx="1047960" cy="1047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2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2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0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200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200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476360" y="620640"/>
            <a:ext cx="59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00000" y="1916280"/>
            <a:ext cx="3384720" cy="3706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ffffff"/>
                </a:solidFill>
                <a:latin typeface="Arial"/>
              </a:rPr>
              <a:t>TREĆI  č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Zajedn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9933"/>
                </a:solidFill>
                <a:latin typeface="Arial"/>
              </a:rPr>
              <a:t>ČAS ODELJENSKOG STAREŠ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9933"/>
                </a:solidFill>
                <a:latin typeface="Arial"/>
              </a:rPr>
              <a:t>SRPSKI JEZIK</a:t>
            </a:r>
            <a:r>
              <a:rPr b="0" lang="sr-C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9933"/>
                </a:solidFill>
                <a:latin typeface="Arial"/>
              </a:rPr>
              <a:t>/ SLOVAČKI JE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99"/>
                </a:solidFill>
                <a:latin typeface="Arial"/>
              </a:rPr>
              <a:t>Trajanje 45  m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66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8480" y="278640"/>
            <a:ext cx="8433360" cy="550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ffffff"/>
                </a:solidFill>
                <a:latin typeface="Arial"/>
              </a:rPr>
              <a:t>Základná škola Jána Čajaka, Sládkovičova 2, tel/fax: +38121780039, jancajak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@neobee.n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ffffff"/>
                </a:solidFill>
                <a:latin typeface="Arial"/>
              </a:rPr>
              <a:t>Основна школа „Јан Чајак“, Сладковичова 2, тел/факс: +38121780039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k-SK" sz="1500" spc="-1" strike="noStrike">
                <a:solidFill>
                  <a:srgbClr val="ffffff"/>
                </a:solidFill>
                <a:latin typeface="Arial"/>
              </a:rPr>
              <a:t> jancajak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eobee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sr-C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736280"/>
            <a:ext cx="7772400" cy="306396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  <a:effectLst>
            <a:outerShdw dist="107932" dir="18900000" blurRad="0" rotWithShape="0">
              <a:srgbClr val="000514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514"/>
                </a:solidFill>
                <a:latin typeface="Garamond"/>
              </a:rPr>
              <a:t>Učimo se učenju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1905120" cy="961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1914480" cy="1006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2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2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3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76360" y="620640"/>
            <a:ext cx="59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1916280"/>
            <a:ext cx="3384720" cy="405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ffffff"/>
                </a:solidFill>
                <a:latin typeface="Arial"/>
              </a:rPr>
              <a:t>PRVI  č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ČAS ODELJENSKOG STAREŠ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66ff"/>
                </a:solidFill>
                <a:latin typeface="Arial"/>
              </a:rPr>
              <a:t>Trajanje 45  m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ffffff"/>
                </a:solidFill>
                <a:latin typeface="Arial"/>
              </a:rPr>
              <a:t>DRUGI č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LIKOVNA KUL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66ff"/>
                </a:solidFill>
                <a:latin typeface="Arial"/>
              </a:rPr>
              <a:t>Trajanje 45  m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588000" y="1887480"/>
            <a:ext cx="180036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258480" y="278640"/>
            <a:ext cx="8433360" cy="550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ffffff"/>
                </a:solidFill>
                <a:latin typeface="Arial"/>
              </a:rPr>
              <a:t>Základná škola Jána Čajaka, Sládkovičova 2, tel/fax: +38121780039, jancajak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@neobee.n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ffffff"/>
                </a:solidFill>
                <a:latin typeface="Arial"/>
              </a:rPr>
              <a:t>Основна школа „Јан Чајак“, Сладковичова 2, тел/факс: +38121780039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k-SK" sz="1500" spc="-1" strike="noStrike">
                <a:solidFill>
                  <a:srgbClr val="ffffff"/>
                </a:solidFill>
                <a:latin typeface="Arial"/>
              </a:rPr>
              <a:t> jancajak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eobee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sr-C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219320" y="3276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106668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irodna težnja učenika je da budu uspešni u ško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3200400"/>
            <a:ext cx="6019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Neki učenici zaostaju u gradiv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Možda ne znaju kako da organizuju svoje vreme, kako da upravljaju svojim sposobnosti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356000" y="4797360"/>
            <a:ext cx="3409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 znaju da uče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515960" y="349884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4" dur="2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baf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e5e5ff"/>
                </a:solidFill>
                <a:latin typeface="Garamond"/>
              </a:rPr>
              <a:t>Planiranje učen</a:t>
            </a:r>
            <a:r>
              <a:rPr b="0" i="1" lang="sr-CS" sz="4400" spc="-1" strike="noStrike">
                <a:solidFill>
                  <a:srgbClr val="e5e5ff"/>
                </a:solidFill>
                <a:latin typeface="Garamond"/>
              </a:rPr>
              <a:t>ј</a:t>
            </a:r>
            <a:r>
              <a:rPr b="0" i="1" lang="sr-Latn-CS" sz="4400" spc="-1" strike="noStrike">
                <a:solidFill>
                  <a:srgbClr val="e5e5ff"/>
                </a:solidFill>
                <a:latin typeface="Garamond"/>
              </a:rPr>
              <a:t>a je polovina</a:t>
            </a:r>
            <a:br>
              <a:rPr sz="4400"/>
            </a:br>
            <a:r>
              <a:rPr b="0" i="1" lang="sr-Latn-CS" sz="4400" spc="-1" strike="noStrike">
                <a:solidFill>
                  <a:srgbClr val="e5e5ff"/>
                </a:solidFill>
                <a:latin typeface="Garamond"/>
              </a:rPr>
              <a:t>puta ka uspech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804000" y="2133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484360" y="198900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ravilno organizovanje vrem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58920" y="3068640"/>
            <a:ext cx="7315200" cy="703800"/>
          </a:xfrm>
          <a:prstGeom prst="rect">
            <a:avLst/>
          </a:prstGeom>
          <a:solidFill>
            <a:srgbClr val="a886e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Arial"/>
              </a:rPr>
              <a:t>Naš organizam je sposoban da se navikne na učenje u isto vreme tokom d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27280" y="4076640"/>
            <a:ext cx="34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ridržavanje se pravila učenja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58920" y="4724280"/>
            <a:ext cx="678168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čenje dva slična predmeta na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učenj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deluje negativn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58920" y="5373720"/>
            <a:ext cx="678168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čenje dva različita predmeta na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učenj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deluje podsticajn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1901880" cy="1955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4360" y="260280"/>
            <a:ext cx="8281800" cy="647640"/>
          </a:xfrm>
          <a:prstGeom prst="roundRect">
            <a:avLst>
              <a:gd name="adj" fmla="val 16667"/>
            </a:avLst>
          </a:prstGeom>
          <a:solidFill>
            <a:srgbClr val="0099cc">
              <a:alpha val="60000"/>
            </a:srgbClr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5e5ff"/>
                </a:solidFill>
                <a:latin typeface="Garamond"/>
              </a:rPr>
              <a:t>Plan rada sadrž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Sve dane u nedelj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Određeno vreme ustajanja i ostalih aktivn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Vreme za odmor i zabav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Pišemo plan za jedan dan unapr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Propusti se ispravljaju u planu za narednu nedelj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986440" y="218268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870520" y="4073400"/>
            <a:ext cx="1594080" cy="1917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7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8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4360" y="1052640"/>
            <a:ext cx="7991280" cy="5545080"/>
          </a:xfrm>
          <a:prstGeom prst="rect">
            <a:avLst/>
          </a:prstGeom>
          <a:solidFill>
            <a:srgbClr val="f6f8a6">
              <a:alpha val="40000"/>
            </a:srgbClr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e5e5ff"/>
                </a:solidFill>
                <a:latin typeface="Garamond"/>
              </a:rPr>
              <a:t>Ovako izgleda jedan plan učenj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332000" y="2133720"/>
          <a:ext cx="7080120" cy="3174840"/>
        </p:xfrm>
        <a:graphic>
          <a:graphicData uri="http://schemas.openxmlformats.org/drawingml/2006/table">
            <a:tbl>
              <a:tblPr/>
              <a:tblGrid>
                <a:gridCol w="3744720"/>
                <a:gridCol w="1341720"/>
                <a:gridCol w="996840"/>
                <a:gridCol w="9968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ktivnost (predmet i dr..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ađe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torija</a:t>
                      </a: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ra Grč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r>
                        <a:rPr b="0" lang="sr-C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6</a:t>
                      </a:r>
                      <a:r>
                        <a:rPr b="0" lang="sr-C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z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r>
                        <a:rPr b="0" lang="sr-C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7</a:t>
                      </a:r>
                      <a:r>
                        <a:rPr b="0" lang="sr-C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aći zadatak iz matematik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r>
                        <a:rPr b="0" lang="sr-C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7</a:t>
                      </a:r>
                      <a:r>
                        <a:rPr b="0" lang="sr-C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z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r>
                        <a:rPr b="0" lang="sr-C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8</a:t>
                      </a:r>
                      <a:r>
                        <a:rPr b="0" lang="sr-C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1547640" y="1125360"/>
            <a:ext cx="532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lan učenja  za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dan u nedelji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19280" y="5805360"/>
            <a:ext cx="273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odpis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1332000" cy="1287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3000"/>
                            </p:stCondLst>
                            <p:childTnLst>
                              <p:par>
                                <p:cTn id="9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5e5ff"/>
                </a:solidFill>
                <a:latin typeface="Garamond"/>
              </a:rPr>
              <a:t>Načini učenj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amostalno učenje, u seb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Glasno učenj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Grupno učenj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Učiti po delovi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Učiti ce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2808360" cy="2414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96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6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e5e5ff"/>
                </a:solidFill>
                <a:latin typeface="Garamond"/>
              </a:rPr>
              <a:t>Pesmica</a:t>
            </a:r>
            <a:br>
              <a:rPr sz="3100"/>
            </a:br>
            <a:r>
              <a:rPr b="1" lang="sk-SK" sz="3100" spc="-1" strike="noStrike">
                <a:solidFill>
                  <a:srgbClr val="e5e5ff"/>
                </a:solidFill>
                <a:latin typeface="Garamond"/>
              </a:rPr>
              <a:t>(učenje kombinovanom metodom)</a:t>
            </a:r>
            <a:endParaRPr b="1" lang="en-US" sz="31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403280" y="1844640"/>
          <a:ext cx="6456240" cy="4176360"/>
        </p:xfrm>
        <a:graphic>
          <a:graphicData uri="http://schemas.openxmlformats.org/drawingml/2006/table">
            <a:tbl>
              <a:tblPr/>
              <a:tblGrid>
                <a:gridCol w="355680"/>
                <a:gridCol w="284040"/>
                <a:gridCol w="282600"/>
                <a:gridCol w="355320"/>
                <a:gridCol w="5178600"/>
              </a:tblGrid>
              <a:tr h="73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ofa</a:t>
                      </a: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va puta pročitamo celu pes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čim  1. strof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čim  2. strofu i ponavljam 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čim sa 3. strofu i ponavljam 1., 2., strof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čim  4. strofu i ponavljam1., 2., 3. strof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navljam celu pesmicu</a:t>
                      </a: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044360" cy="1655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9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5e5ff"/>
                </a:solidFill>
                <a:latin typeface="Garamond"/>
              </a:rPr>
              <a:t>Čitanje</a:t>
            </a: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Stvoriti pravilnu naviku čitan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rvo čitanje (upoznavanje sa tekstom, obim specifičnosti) /</a:t>
            </a:r>
            <a:r>
              <a:rPr b="0" i="1" lang="sr-Latn-CS" sz="2400" spc="-1" strike="noStrike">
                <a:solidFill>
                  <a:srgbClr val="ffffff"/>
                </a:solidFill>
                <a:latin typeface="Garamond"/>
              </a:rPr>
              <a:t>orjentaciomo čitanje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Drugo čitanje je informativno čitanje /</a:t>
            </a:r>
            <a:r>
              <a:rPr b="0" i="1" lang="sr-Latn-CS" sz="2400" spc="-1" strike="noStrike">
                <a:solidFill>
                  <a:srgbClr val="ffffff"/>
                </a:solidFill>
                <a:latin typeface="Garamond"/>
              </a:rPr>
              <a:t>informativno čítanje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Treće čitanje. Trudimo se da razumemo tekst, istaknemo bitne delove 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sr-Latn-CS" sz="2400" spc="-1" strike="noStrike">
                <a:solidFill>
                  <a:srgbClr val="ffffff"/>
                </a:solidFill>
                <a:latin typeface="Garamond"/>
              </a:rPr>
              <a:t>selektivno čitan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sr-Latn-CS" sz="24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1" i="1" lang="sr-Latn-CS" sz="2400" spc="-1" strike="noStrike">
                <a:solidFill>
                  <a:srgbClr val="ffff99"/>
                </a:solidFill>
                <a:latin typeface="Garamond"/>
              </a:rPr>
              <a:t>Podvlačimo bitne delov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867280" y="68580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804000" y="1628640"/>
            <a:ext cx="1224000" cy="12114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1979640" y="260280"/>
            <a:ext cx="518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Impact"/>
              </a:rPr>
              <a:t>Ovako se čitanje pretvara u učenj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519120" y="114444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59280" y="1484280"/>
            <a:ext cx="1800000" cy="78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Informativ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čta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56360" y="3357720"/>
            <a:ext cx="180036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Ponavlja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3357720"/>
            <a:ext cx="18000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Drugo, treće čitanje radi razumevanja tek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80000" y="4869000"/>
            <a:ext cx="1800000" cy="1202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Nauč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tek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187280" y="1916280"/>
            <a:ext cx="1872000" cy="144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32000" y="4653000"/>
            <a:ext cx="2448000" cy="1224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580000" y="3789360"/>
            <a:ext cx="1152720" cy="180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59280" y="1916280"/>
            <a:ext cx="1944720" cy="144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9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401760"/>
            <a:ext cx="6551640" cy="10159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514"/>
                </a:solidFill>
                <a:latin typeface="Garamond"/>
              </a:rPr>
              <a:t>Učenje sa olovkom u ruci</a:t>
            </a:r>
            <a:br>
              <a:rPr sz="4000"/>
            </a:br>
            <a:r>
              <a:rPr b="0" i="1" lang="sr-Latn-CS" sz="3600" spc="-1" strike="noStrike">
                <a:solidFill>
                  <a:srgbClr val="e5e5ff"/>
                </a:solidFill>
                <a:latin typeface="Garamond"/>
              </a:rPr>
              <a:t>-aktivni pristup učenju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99"/>
                </a:solidFill>
                <a:latin typeface="Garamond"/>
              </a:rPr>
              <a:t>Podvlače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omže isticanju bitnih delova teksta, bitnih za razumevanje i pamćenje teks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Raznobojno podvlače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ogodno je u završnom ponavljanj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reporučuje se učenicima sa vizuelnim pamćenj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99"/>
                </a:solidFill>
                <a:latin typeface="Garamond"/>
              </a:rPr>
              <a:t>Pisanje beležak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zahteva vre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Beleške na margini, sveske, knji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ravljenje skraćenog sadrža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012000" y="4797360"/>
            <a:ext cx="1828800" cy="1670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4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9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3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8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3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8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3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7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2" dur="2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7" dur="2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5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184720" cy="1163520"/>
          </a:xfrm>
          <a:prstGeom prst="rect">
            <a:avLst/>
          </a:prstGeom>
          <a:solidFill>
            <a:srgbClr val="ccbaf8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ff"/>
                </a:solidFill>
                <a:latin typeface="Garamond"/>
              </a:rPr>
              <a:t>Ponavljanje</a:t>
            </a:r>
            <a:r>
              <a:rPr b="0" lang="sr-Latn-CS" sz="4400" spc="-1" strike="noStrike">
                <a:solidFill>
                  <a:srgbClr val="003399"/>
                </a:solidFill>
                <a:latin typeface="Garamond"/>
              </a:rPr>
              <a:t> </a:t>
            </a:r>
            <a:br>
              <a:rPr sz="4400"/>
            </a:br>
            <a:r>
              <a:rPr b="0" lang="sr-Latn-CS" sz="40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i="1" lang="sr-Latn-CS" sz="3600" spc="-1" strike="noStrike">
                <a:solidFill>
                  <a:srgbClr val="003399"/>
                </a:solidFill>
                <a:latin typeface="Garamond"/>
              </a:rPr>
              <a:t>put ka trajnom znanju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8595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cc6600"/>
                </a:solidFill>
                <a:latin typeface="Garamond"/>
              </a:rPr>
              <a:t>Učenje ponavljanjem počinje čitanjem a završava se sa reprodukcijom</a:t>
            </a: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 /ponavljanje potpomaže pamće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ff99"/>
                </a:solidFill>
                <a:latin typeface="Garamond"/>
              </a:rPr>
              <a:t>Ono što naučimo najbrže zaboravljamo za prva tri da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66ff"/>
                </a:solidFill>
                <a:latin typeface="Garamond"/>
              </a:rPr>
              <a:t>Način kako sprečiti zaboravlja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66ff"/>
                </a:solidFill>
                <a:latin typeface="Garamond"/>
              </a:rPr>
              <a:t>    </a:t>
            </a:r>
            <a:r>
              <a:rPr b="1" lang="sk-SK" sz="2800" spc="-1" strike="noStrike">
                <a:solidFill>
                  <a:srgbClr val="ff66ff"/>
                </a:solidFill>
                <a:latin typeface="Garamond"/>
              </a:rPr>
              <a:t>učenje danas za sut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/prvi put gradivo ponavljamo istog da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/drugi put onog dana pred č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020000" y="46530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52320" y="761760"/>
            <a:ext cx="441972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Učen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701880" y="4303800"/>
            <a:ext cx="38944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Učenje nas prati ceo  živ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23880" y="2112840"/>
            <a:ext cx="1833840" cy="1587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Na kraj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443640" y="3573360"/>
            <a:ext cx="1827360" cy="18273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Učenje  je aktivnost koja zahteva vreme i nap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Ako naučimo na aktivan način da učimo, stići će i zadovoljstvo zbog postignutih rezult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851280" y="3860640"/>
            <a:ext cx="1752480" cy="13287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1959120" cy="1762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2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34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3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1981080" cy="1873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375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tiv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ac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2. Koncentracij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3. Nadarenost, talen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4. Pamće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b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ravljanj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Strah i str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7. Mesto za uče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90720" y="533520"/>
            <a:ext cx="6324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aktori koji utiču na učenje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1. Motivacija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Pozitivni motiv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-zadovoljstvo, radost, nagrada.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Negativni motiv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-strah, st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438280" y="5105520"/>
            <a:ext cx="981360" cy="1361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352680" y="2895480"/>
            <a:ext cx="1371600" cy="1060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181480" y="3505320"/>
            <a:ext cx="3422880" cy="19227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Ako želite nešto postići učenjem, morate znati, pravilno se motivisati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160020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66"/>
                </a:solidFill>
                <a:latin typeface="Garamond"/>
              </a:rPr>
              <a:t>Uspech u učenju u velikoj meri zavisi od motivac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029200" y="1600200"/>
            <a:ext cx="1676520" cy="1065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733920" y="5943600"/>
            <a:ext cx="465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Izbegavajte negativnu motivacij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33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5e5ff"/>
                </a:solidFill>
                <a:latin typeface="Garamond"/>
              </a:rPr>
              <a:t>Primer otkazivanja voljnih osobina učenika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a886e0"/>
                </a:solidFill>
                <a:latin typeface="Garamond"/>
              </a:rPr>
              <a:t>Period pripre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Garamond"/>
              </a:rPr>
              <a:t>Period smišljanja izgovo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514"/>
                </a:solidFill>
                <a:latin typeface="Garamond"/>
              </a:rPr>
              <a:t>Pani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00"/>
                </a:solidFill>
                <a:latin typeface="Garamond"/>
              </a:rPr>
              <a:t>Period apati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Period kriz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Garamond"/>
              </a:rPr>
              <a:t>Proce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Zaključa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708000" y="1557000"/>
            <a:ext cx="4799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a886e0"/>
                </a:solidFill>
                <a:latin typeface="Garamond"/>
              </a:rPr>
              <a:t>Ovog puta ću se pripremiti u ponedeljak počinj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Garamond"/>
              </a:rPr>
              <a:t>Pripremao bih se, ali nemam ka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Garamond"/>
              </a:rPr>
              <a:t>Šta se uradi za  2-3 dana, uradi 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514"/>
                </a:solidFill>
                <a:latin typeface="Garamond"/>
              </a:rPr>
              <a:t>Ja  to neću naučiti, to nije moguć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00"/>
                </a:solidFill>
                <a:latin typeface="Garamond"/>
              </a:rPr>
              <a:t>Sada je to i tako svejedn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Prijaviću učitelju da nisam sprem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Garamond"/>
              </a:rPr>
              <a:t>Učitelj mi je zadao težak zadata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Ubuduće ću se redovno priprema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362320" y="5486400"/>
            <a:ext cx="1257120" cy="1190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195640" y="692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6f8a6"/>
                </a:solidFill>
                <a:latin typeface="Arial"/>
              </a:rPr>
              <a:t>Negativna motiv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5e5ff"/>
                </a:solidFill>
                <a:latin typeface="Garamond"/>
              </a:rPr>
              <a:t>2. Koncentracija - pažnj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Uspeh u učenju zavisi od usredsređenosti paž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Što se bolje se skoncentrišemo na učenje, lakše i brže ćemo nešto da naučim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Usredsređenost u učenju je najteže zadržat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621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k-SK" sz="2400" spc="-1" strike="noStrike">
                <a:solidFill>
                  <a:srgbClr val="ffcc00"/>
                </a:solidFill>
                <a:latin typeface="Garamond"/>
              </a:rPr>
              <a:t>Pod pojmom koncentracije, podrazumevamo  da usredsredimo pažnju na gradivo koje učim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981080" y="4038480"/>
            <a:ext cx="1974960" cy="1698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55640" y="1773360"/>
            <a:ext cx="762012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Granica usredsređenosti je oko 40-50 minu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124080"/>
            <a:ext cx="7626240" cy="3682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Učenje sa interesovanjem olakšava održavanje paž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3886200"/>
            <a:ext cx="762624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Buka iz okoline je  smetnja u učenju /pažn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410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ako se usredsredit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Nešto praktičn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438280"/>
            <a:ext cx="7619760" cy="3682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Optimalno vreme učenja je oko 3 s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003640" y="4724280"/>
            <a:ext cx="1362240" cy="1447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2000" fill="hold"/>
                                        <p:tgtEl>
                                          <p:spTgt spid="217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e5e5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3600" spc="-1" strike="noStrike">
                <a:solidFill>
                  <a:srgbClr val="e5e5ff"/>
                </a:solidFill>
                <a:latin typeface="Garamond"/>
              </a:rPr>
              <a:t>Talena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eko j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nadare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za spor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neko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z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učenje stranih jezika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neko za tehničke predmet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Zato se upoznaj sa što širom paletom delatnosti da bi prepoznao i razvio svoj talen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315200" y="914400"/>
            <a:ext cx="1542960" cy="10540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632480" y="2781360"/>
            <a:ext cx="1523880" cy="1832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819520" y="525780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6477120" y="4648320"/>
            <a:ext cx="1904760" cy="14205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380880" y="5334120"/>
            <a:ext cx="952560" cy="11811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8001000" y="3124080"/>
            <a:ext cx="885960" cy="1333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7620120" y="2057400"/>
            <a:ext cx="942840" cy="942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8"/>
          <a:stretch/>
        </p:blipFill>
        <p:spPr>
          <a:xfrm>
            <a:off x="6019920" y="17524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9"/>
          <a:stretch/>
        </p:blipFill>
        <p:spPr>
          <a:xfrm>
            <a:off x="7620120" y="5638680"/>
            <a:ext cx="1066680" cy="966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4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8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7000"/>
                            </p:stCondLst>
                            <p:childTnLst>
                              <p:par>
                                <p:cTn id="39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cp:keywords/>
  <dc:language>en-US</dc:language>
  <cp:lastModifiedBy>Billy</cp:lastModifiedBy>
  <dcterms:modified xsi:type="dcterms:W3CDTF">2015-01-21T22:24:32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