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008-7AE5-40A4-9894-509870B0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A32-E8E7-4026-BACE-41FBA17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45E-2FA9-4A58-B06A-2BAB04DD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4E9-0D93-45D5-B4EB-59642BB9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1291-42D7-438F-89B2-05A1A7AF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70C-B17D-4DF4-973E-8522D774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FD2-4DCC-4627-8367-3801589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70FD-BDFE-41A8-AE23-D5DEE88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0E88-4132-43AB-B88D-EEB8506C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929-6B9B-4F54-AB28-AE1CA63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D3CE-D0C5-44D0-9251-8CB96E7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177-CAE9-4921-BD19-34A443F9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D223-60E1-4E87-A916-A6BE90F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A4B-CEA7-42FB-86F0-114DB18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0E7C-B320-4ACC-9712-DB5547E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6BCC-B0A7-49E0-9132-7C1C3E76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CF96-AE27-4E4D-AF36-436C14EF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197-E979-4469-86F9-1CC7B44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77F-AEB1-4313-8661-D047BBC9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711-9F4F-452A-A34E-A111F2D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23D-BAD6-492B-A1B3-082FD849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827-5937-4B86-9603-3838331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555-803A-4360-A86F-54946EFA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3CC-62E2-4C42-B3FD-6974E26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4BFF-F3B0-4667-9D2D-062C2555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DA6-1D9D-40E4-A35B-4AFA401AA1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3.pptx"/><Relationship Id="rId8" Type="http://schemas.openxmlformats.org/officeDocument/2006/relationships/image" Target="../media/image6.wmf"/><Relationship Id="rId9" Type="http://schemas.openxmlformats.org/officeDocument/2006/relationships/package" Target="../embeddings/oleObject4.pptx"/><Relationship Id="rId10" Type="http://schemas.openxmlformats.org/officeDocument/2006/relationships/image" Target="../media/image7.wmf"/><Relationship Id="rId11" Type="http://schemas.openxmlformats.org/officeDocument/2006/relationships/package" Target="../embeddings/oleObject5.ppt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21800" y="616572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. ча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. ча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. ча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4.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365400" cy="60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Слађана Ивковић,ОШ Петефи Шандор–Хајд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Ливиа Ирге,ОШ Петефи Шандор – Хајд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Лариса Кемивеш,ОШ Петефи Шандор – Хајдук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Историја и верска наста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Римско царство и хришћанст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00"/>
                </a:solidFill>
                <a:latin typeface="Arial"/>
              </a:rPr>
              <a:t>5.разре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92160" y="1587600"/>
          <a:ext cx="6080400" cy="405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2160" y="1587600"/>
                    <a:ext cx="608040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7956720" y="5445000"/>
          <a:ext cx="753840" cy="14130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6720" y="5445000"/>
                    <a:ext cx="75384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219640" y="5445000"/>
          <a:ext cx="754200" cy="14130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19640" y="5445000"/>
                    <a:ext cx="7542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156360" y="5445000"/>
          <a:ext cx="754200" cy="141300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5445000"/>
                    <a:ext cx="7542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093080" y="5445000"/>
          <a:ext cx="753840" cy="1413000"/>
        </p:xfrm>
        <a:graphic>
          <a:graphicData uri="http://schemas.openxmlformats.org/presentationml/2006/ole">
            <p:oleObj progId="PowerPoint.Show.12"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3080" y="5445000"/>
                    <a:ext cx="75384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1:04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