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pptx" ContentType="application/vnd.openxmlformats-officedocument.presentationml.presentation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pptx" ContentType="application/vnd.openxmlformats-officedocument.presentationml.presentation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A4E5-2152-4B7D-9821-B5204EDB1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7499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7280" y="3736800"/>
            <a:ext cx="7499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747F-E16F-4036-8705-82CA67072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7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30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4178-6DD7-447D-9C59-CB985D0CC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2760" y="11250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8600" y="11250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7280" y="37368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22760" y="37368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8600" y="37368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1C7F-8569-4B3A-9378-CF37777A2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7956C-49C7-457B-B135-441AF3612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9A720-382E-45FE-A625-3A3E58E0E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30340-6FF9-4595-97F2-06DB5E7C6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521D1-B012-4794-9308-146F5A1B4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5FE7B-23FC-4406-8C2F-1B852C775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50920" y="259920"/>
            <a:ext cx="864216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2BCC0-74C7-4DC2-AEBD-B208E68AF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87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40E2A-8036-4289-8A1A-5CE9DACE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EAA9-78DE-4BF4-A3F4-AF7F0C976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30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89E71-2F85-41E5-82DA-29E6A0DD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7280" y="3736800"/>
            <a:ext cx="7499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1E15A-366D-473C-8133-A1F8EFCA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7499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187280" y="3736800"/>
            <a:ext cx="7499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ED331-6AA3-4DEE-B01A-9EE1E0645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7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030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89B02-5CB0-42DD-8B26-9110E985A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22760" y="11250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8600" y="11250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187280" y="37368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722760" y="37368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8600" y="37368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24C3E-D613-428D-8E30-0602C4FE0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149D-6FD3-4A81-9701-B96902FDD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4FF4-5B37-4829-912D-1FD0AE3CF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D5E7-63F5-4686-829A-48A93A8EE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0920" y="259920"/>
            <a:ext cx="864216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4A3F-74CE-4737-9614-4E9CD73CD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7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255B-06D6-4A71-9FDB-46C287BA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0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B83E-A237-4A06-AA76-D97E7752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7280" y="3736800"/>
            <a:ext cx="7499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302B-E7E1-40CB-A667-97EF8605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72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69BA-5920-4F03-A62C-C05120383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A0DD2-6228-469E-968A-8071452CF2B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package" Target="../embeddings/oleObject2.pptx"/><Relationship Id="rId6" Type="http://schemas.openxmlformats.org/officeDocument/2006/relationships/image" Target="../media/image5.wmf"/><Relationship Id="rId7" Type="http://schemas.openxmlformats.org/officeDocument/2006/relationships/package" Target="../embeddings/oleObject3.pptx"/><Relationship Id="rId8" Type="http://schemas.openxmlformats.org/officeDocument/2006/relationships/image" Target="../media/image6.wmf"/><Relationship Id="rId9" Type="http://schemas.openxmlformats.org/officeDocument/2006/relationships/package" Target="../embeddings/oleObject4.pptx"/><Relationship Id="rId10" Type="http://schemas.openxmlformats.org/officeDocument/2006/relationships/image" Target="../media/image7.wmf"/><Relationship Id="rId11" Type="http://schemas.openxmlformats.org/officeDocument/2006/relationships/package" Target="../embeddings/oleObject5.pptx"/><Relationship Id="rId12" Type="http://schemas.openxmlformats.org/officeDocument/2006/relationships/image" Target="../media/image8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32000" y="189000"/>
            <a:ext cx="7489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 Black"/>
              </a:rPr>
              <a:t>Завод за унапређивање образовања и васпит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221800" y="616572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1. час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2. час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3. час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4. ч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26920" y="333360"/>
            <a:ext cx="365400" cy="6001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8000" y="1341360"/>
            <a:ext cx="2879640" cy="39592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Аутори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Наставни предме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Тем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Узрас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59280" y="1341360"/>
            <a:ext cx="5976720" cy="39592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3300"/>
                </a:solidFill>
                <a:latin typeface="Arial"/>
              </a:rPr>
              <a:t>Слађана Ивковић,ОШ Петефи Шандор–Хајдуково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3300"/>
                </a:solidFill>
                <a:latin typeface="Arial"/>
              </a:rPr>
              <a:t>Ливиа Ирге,ОШ Петефи Шандор – Хајдуково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3300"/>
                </a:solidFill>
                <a:latin typeface="Arial"/>
              </a:rPr>
              <a:t>Лариса Кемивеш,ОШ Петефи Шандор – Хајдуково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3300"/>
                </a:solidFill>
                <a:latin typeface="Arial"/>
              </a:rPr>
              <a:t>Историја и верска настав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3300"/>
                </a:solidFill>
                <a:latin typeface="Arial"/>
              </a:rPr>
              <a:t>Римско царство и хришћанство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3300"/>
                </a:solidFill>
                <a:latin typeface="Arial"/>
              </a:rPr>
              <a:t>5.разред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892160" y="1587600"/>
          <a:ext cx="6080400" cy="405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92160" y="1587600"/>
                    <a:ext cx="6080400" cy="40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7956720" y="5445000"/>
          <a:ext cx="753840" cy="141300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956720" y="5445000"/>
                    <a:ext cx="753840" cy="14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5219640" y="5445000"/>
          <a:ext cx="754200" cy="141300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19640" y="5445000"/>
                    <a:ext cx="754200" cy="14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6156360" y="5445000"/>
          <a:ext cx="754200" cy="1413000"/>
        </p:xfrm>
        <a:graphic>
          <a:graphicData uri="http://schemas.openxmlformats.org/presentationml/2006/ole">
            <p:oleObj progId="PowerPoint.Show.12" r:id="rId9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56360" y="5445000"/>
                    <a:ext cx="754200" cy="14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7093080" y="5445000"/>
          <a:ext cx="753840" cy="1413000"/>
        </p:xfrm>
        <a:graphic>
          <a:graphicData uri="http://schemas.openxmlformats.org/presentationml/2006/ole">
            <p:oleObj progId="PowerPoint.Show.12" r:id="rId1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093080" y="5445000"/>
                    <a:ext cx="753840" cy="14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08:24:37Z</dcterms:created>
  <dc:creator>Milos M.</dc:creator>
  <dc:description/>
  <cp:keywords/>
  <dc:language>en-US</dc:language>
  <cp:lastModifiedBy>Billy</cp:lastModifiedBy>
  <dcterms:modified xsi:type="dcterms:W3CDTF">2015-01-21T22:21:04Z</dcterms:modified>
  <cp:revision>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31071033</vt:lpwstr>
  </property>
</Properties>
</file>