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3.gif" ContentType="image/gif"/>
  <Override PartName="/ppt/media/image16.gif" ContentType="image/gif"/>
  <Override PartName="/ppt/media/image1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camera.wav" ContentType="audio/x-wav"/>
  <Override PartName="/ppt/media/image10.jpeg" ContentType="image/jpeg"/>
  <Override PartName="/ppt/media/image7.gif" ContentType="image/gif"/>
  <Override PartName="/ppt/media/image1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D0D-B18F-42A7-B14E-C092B00A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E5B-CC45-49F3-BA3C-B60FB89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9FC-ABB0-4949-8BD0-55A4B37B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3F2-E29A-4D5D-9215-EB47FA0D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FFFD-E0B9-4FE9-8B8E-D052B2AF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9689-BC89-446C-842E-3D7B2A7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B809-E0CF-4F9F-AFFE-DE121479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D5BA-DE0C-4EC3-9220-875B6AAA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BC45-2C47-42AB-B874-E350391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745D-C691-4657-85DD-5C96EC6B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D9D5-4F87-4938-BDF5-40A7E7E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F9E-8125-461A-ADE7-E70A730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6FB-70ED-4298-9E1E-0DE3545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F8FC-0B64-4151-BB21-C7BDA9C0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AE15-533D-430B-B247-308442A9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3810-6B7F-49DB-B6B8-115D58AE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C756-C482-4D3D-8EB2-6DAD442C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207-E71D-4F2C-9768-DDAD1408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85D-5A44-4DBE-8924-1F719BBB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D99-A14D-4780-BAC0-A1605EBA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D93-CA5C-4125-8795-F0F07089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13E-1398-496C-81DB-4BDA909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CB7-ABD2-47EA-97F5-829D858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B2E-A062-4A82-8885-180B3D9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0DD7-F5A6-455C-B2CB-440378B02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8580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13716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0" y="198108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144000" cy="76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0" y="3276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0"/>
          <a:stretch/>
        </p:blipFill>
        <p:spPr>
          <a:xfrm>
            <a:off x="0" y="45720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1"/>
          <a:stretch/>
        </p:blipFill>
        <p:spPr>
          <a:xfrm>
            <a:off x="0" y="525780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112E-0443-477E-894C-7846F96815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68580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13716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0" y="198108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9144000" cy="76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0" y="3276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0" y="38862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0" y="457200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0" y="525780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5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3.ppt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дана Милошевић, Миомир Урошевић, Вера Рувидић, ОШ “Јанко Веселиновић”,  Шаба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ра Гр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91320" y="4800600"/>
          <a:ext cx="1904760" cy="11779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800600"/>
                    <a:ext cx="19047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24080" y="5867280"/>
          <a:ext cx="1981440" cy="12891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867280"/>
                    <a:ext cx="19814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791320" y="5943600"/>
          <a:ext cx="1981080" cy="11160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943600"/>
                    <a:ext cx="19810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192800" y="4800600"/>
            <a:ext cx="19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 -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Грчк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ва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Олимпијске иг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1520" y="58672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I -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Грчк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 ва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90280" y="58672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V -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Стара Гр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системат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0960" y="50292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0" lang="sr-CS" sz="1800" spc="-1" strike="noStrike">
                <a:solidFill>
                  <a:srgbClr val="333399"/>
                </a:solidFill>
                <a:latin typeface="Arial"/>
              </a:rPr>
              <a:t>час – Спарта и 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304920"/>
            <a:ext cx="6248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тинско друшт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9320" y="1766880"/>
            <a:ext cx="3673440" cy="3753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52880" y="1856880"/>
            <a:ext cx="3673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тину су основали Јо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алази се на полуострву Атици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руштво у Атини се делило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РОБ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81080" y="3049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Демократско уређењ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4054680" cy="5638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181480" y="762120"/>
            <a:ext cx="36734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аљеви – базиле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вет архоната и Ареоп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олон – (6. век пне) - ре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мократија – “владавина народ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ародна скупштина  – има највишу вл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рава немају жене, странци и роб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367344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Ја сам Никола, син храброг спартијата Дијенека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0" y="1905120"/>
            <a:ext cx="3657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Ја сам Филипид, син атинског занатлије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3673440" cy="226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828800" y="38088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аспитање и образовање 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едности и ман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943680" y="5257800"/>
          <a:ext cx="2200320" cy="123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3680" y="5257800"/>
                    <a:ext cx="22003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71600" y="1523520"/>
            <a:ext cx="3673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ест” провера на рође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Од седме године похађају гимна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Живе у војним касарн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Војна служба траје до 60.-те г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аконски говор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војчице такође похађају војне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3124080" cy="4457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3880" y="1447920"/>
            <a:ext cx="3673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Школовање траје од 7. до 20. г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Уче да пишу, читају, Хомерове песме, свирање на лири и фла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лушају софисте- путујуће филозо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Војна обука траје две г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војчице не иду у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3200400" cy="4456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81080" y="304920"/>
            <a:ext cx="65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тинско васпитање и образовањ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94920" y="990720"/>
            <a:ext cx="39942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Имамо најбољу фл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Наше жене вежбају да буду добри војниц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Наши хоплити су најцењенији у целој Хелад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е жене не смеју бити виђене ван својих ку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Демократија- то је владавина наро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Само су стари људи, мудри љ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Говоримо кратко и ј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Ми тргујемо са с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0" y="990720"/>
            <a:ext cx="41148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Волимо књиге и слободан го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Наш полис су основали Дор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и грађани слободно расправљају о закон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Имамо стрикне законе које су донели наши краље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Ко мари још за читање и писањ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 полис су основали Јон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Comic Sans MS"/>
              </a:rPr>
              <a:t>Ред, рад и дисцип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Comic Sans MS"/>
              </a:rPr>
              <a:t>Наше девојчице не иду 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00200" y="0"/>
            <a:ext cx="701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годи ко то говори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71800" y="990720"/>
            <a:ext cx="4648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Old English Text MT"/>
              </a:rPr>
              <a:t>Покаж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Old English Text MT"/>
              </a:rPr>
              <a:t>шт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Old English Text MT"/>
              </a:rPr>
              <a:t>знаш!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81680" y="3276720"/>
            <a:ext cx="1720800" cy="2209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828800" y="3657600"/>
            <a:ext cx="175428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Шта је герузи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2819520"/>
            <a:ext cx="7010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старац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Ат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хелот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00c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старац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 у Ат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ће хелота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Шта је герузи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omic Sans MS"/>
              </a:rPr>
              <a:t>Сиже рада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4665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 предходном часу ученици добијају задатке које решавају у оквиру група (четири групе по пет учен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рупе су формиране на основу успеха и заинтересованости ученика за одређени зада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ченици на основу уџбеника и додатне литературе, презентују свој рад у форми интервјуа, реферата, кратког скеча –глу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Прв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Спартанско друштво и држ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ређе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Друг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Атинско друштво и државно уређе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Трећ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Образовање и васпитање у Спарт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Ати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000" spc="-1" strike="noStrike">
                <a:solidFill>
                  <a:srgbClr val="ff0066"/>
                </a:solidFill>
                <a:latin typeface="Comic Sans MS"/>
              </a:rPr>
              <a:t>Четврта груп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- Спарта и Атина - разл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844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занатлије и трговц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ржавни робов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тински ро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су хело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занатлије и трговц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ржавни робови у Спа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тински ро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су хело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геру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Со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краље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је у најстарије доб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владао Ати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геру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Со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краље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Народна скуп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 је у најстарије доб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владао Ати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Солон је извршио реформе у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веку 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99c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 веку п.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Солон је изврши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реформе у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2438280"/>
            <a:ext cx="8001000" cy="2133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ffff99"/>
                </a:solidFill>
                <a:latin typeface="Comic Sans MS"/>
              </a:rPr>
              <a:t>Питање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1120" y="456840"/>
            <a:ext cx="86425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omic Sans MS"/>
              </a:rPr>
              <a:t>Сиже рада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96600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Comic Sans MS"/>
              </a:rPr>
              <a:t>Уводни део час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обнављање усвојених садржаја 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ришћење мултумедијалн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езен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Comic Sans MS"/>
              </a:rPr>
              <a:t>Главни де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риказивање резултата рад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бележење кључних чињениц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чун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Comic Sans MS"/>
              </a:rPr>
              <a:t>Завршни део часа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ровера наученог путем кв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95280" y="274320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373392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724280"/>
            <a:ext cx="7543800" cy="838440"/>
          </a:xfrm>
          <a:prstGeom prst="hexagon">
            <a:avLst>
              <a:gd name="adj" fmla="val 28575"/>
              <a:gd name="vf" fmla="val 115470"/>
            </a:avLst>
          </a:prstGeom>
          <a:solidFill>
            <a:srgbClr val="c0c0c0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2819520"/>
            <a:ext cx="701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ор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1" lang="sr-CS" sz="4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хај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Јон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Еол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је грчко племе је основало Ати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2743200"/>
            <a:ext cx="7467480" cy="838080"/>
          </a:xfrm>
          <a:prstGeom prst="hexagon">
            <a:avLst>
              <a:gd name="adj" fmla="val 28298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ор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733920"/>
            <a:ext cx="7391520" cy="838080"/>
          </a:xfrm>
          <a:prstGeom prst="hexagon">
            <a:avLst>
              <a:gd name="adj" fmla="val 28010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хај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724280"/>
            <a:ext cx="7467480" cy="838440"/>
          </a:xfrm>
          <a:prstGeom prst="hexagon">
            <a:avLst>
              <a:gd name="adj" fmla="val 28286"/>
              <a:gd name="vf" fmla="val 115470"/>
            </a:avLst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Јон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5715000"/>
            <a:ext cx="7543800" cy="838080"/>
          </a:xfrm>
          <a:prstGeom prst="hexagon">
            <a:avLst>
              <a:gd name="adj" fmla="val 28587"/>
              <a:gd name="vf" fmla="val 115470"/>
            </a:avLst>
          </a:prstGeom>
          <a:solidFill>
            <a:srgbClr val="c0c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Еол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04920"/>
            <a:ext cx="7543800" cy="20253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99"/>
                </a:solidFill>
                <a:latin typeface="Comic Sans MS"/>
              </a:rPr>
              <a:t>Које грчко племе је основало Ати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057400" y="1828800"/>
            <a:ext cx="62485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парта и Ат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8954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819520" y="30492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парта и Ат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84684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9880" y="4038480"/>
            <a:ext cx="228600" cy="747720"/>
          </a:xfrm>
          <a:prstGeom prst="downArrow">
            <a:avLst>
              <a:gd name="adj1" fmla="val 50000"/>
              <a:gd name="adj2" fmla="val 81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505320"/>
            <a:ext cx="228600" cy="747720"/>
          </a:xfrm>
          <a:prstGeom prst="downArrow">
            <a:avLst>
              <a:gd name="adj1" fmla="val 50000"/>
              <a:gd name="adj2" fmla="val 81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0" y="1525680"/>
            <a:ext cx="411480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тињани се диве вашој храбрости! Наши читаоци би волели да сазнају нешто више о држави у којој живе такви јунаци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  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Молимо Вас, представите се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Ја сам Леонида, спартански краљ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09680" y="30492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нтервју са 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2976480" cy="5000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943680" y="5618160"/>
          <a:ext cx="2200320" cy="123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3680" y="5618160"/>
                    <a:ext cx="22003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05520" y="1447920"/>
            <a:ext cx="36734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парту су основали Дорци у 9. веку пне на Пелопон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руштво у Спарти се делило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ПАРТИЈАТ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ристок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ЕРИЈЕК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лободне љ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ЕЛОТ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ржавне роб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09680" y="3049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партанско друшт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1131840"/>
            <a:ext cx="3673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29200" y="2057400"/>
            <a:ext cx="3673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ва кра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ер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ародна скупш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81080" y="304920"/>
            <a:ext cx="6096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ристократско уређењ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749600"/>
            <a:ext cx="36738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1828800"/>
            <a:ext cx="367344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матра се да је Атина колевка демократије. Молимо Вас да читаоцима школског листа “Ђачко срце” то објасните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Молимо, представите се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Ја сам Перикле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0" y="30492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нтервју са 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12880" y="1600200"/>
            <a:ext cx="2622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8305920" y="228600"/>
            <a:ext cx="609480" cy="7621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315200" y="5618160"/>
          <a:ext cx="2200320" cy="123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5618160"/>
                    <a:ext cx="22003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2:12Z</dcterms:modified>
  <cp:revision>4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