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png" ContentType="image/png"/>
  <Override PartName="/ppt/media/image6.gif" ContentType="image/gif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3.gif" ContentType="image/gif"/>
  <Override PartName="/ppt/media/image16.gif" ContentType="image/gif"/>
  <Override PartName="/ppt/media/image1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camera.wav" ContentType="audio/x-wav"/>
  <Override PartName="/ppt/media/image10.jpeg" ContentType="image/jpeg"/>
  <Override PartName="/ppt/media/image7.gif" ContentType="image/gif"/>
  <Override PartName="/ppt/media/image1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10B-30FA-4D95-BB9A-565AE481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456-C746-440D-8901-A7E5D85E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774-C89F-4899-8F46-DE7F82F3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D6B-9FCD-43F6-A537-63B8B6F1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6B36-2B0A-4AE5-A5E3-0F5582BC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D961-49A0-4176-8B79-6DE4C05F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A44F-71C5-4D90-8F07-1D4D1D13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8A71-997F-43BC-B87D-CB76EC61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E405-460D-4747-B5CA-09BF4C93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7815-AD5B-4D5A-94A8-F97576AE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F295-9023-45A0-B5D7-24DAB8A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37F-D9DD-48C7-B58B-F2A814F6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2254-1005-4F92-8675-17DAA632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B19B-ECF1-4B9D-A62D-6C7AD4E7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6ECC-70C3-4105-88FC-D4ED14D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9762-4C62-461D-AB9C-531DC181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8E3D-B05D-498A-A5CB-FD0A8A3C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C3F-CDDF-4EE5-9438-E584640B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FF0-44DB-447E-9534-C3B6BFB8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87C-3AF5-4EA2-8171-ABF47BEC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A8A-CCF2-4592-AB1D-B3BFF874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0EC-6502-4B4D-8D6E-55FDC172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BCE-E7D7-4AAB-ABF0-62F30F6B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787-FF6A-41D1-B202-1BF8E665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B19A-33D2-46DB-B08E-518321654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8580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13716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0" y="198108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144000" cy="761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8"/>
          <a:stretch/>
        </p:blipFill>
        <p:spPr>
          <a:xfrm>
            <a:off x="0" y="32767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9"/>
          <a:stretch/>
        </p:blipFill>
        <p:spPr>
          <a:xfrm>
            <a:off x="0" y="388620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0"/>
          <a:stretch/>
        </p:blipFill>
        <p:spPr>
          <a:xfrm>
            <a:off x="0" y="457200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1"/>
          <a:stretch/>
        </p:blipFill>
        <p:spPr>
          <a:xfrm>
            <a:off x="0" y="525780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79B5-30BA-4C3F-B236-FA4C8B7BFB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68580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13716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0" y="198108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144000" cy="76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0" y="32767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0" y="388620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0" y="457200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0" y="525780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5.wmf"/><Relationship Id="rId5" Type="http://schemas.openxmlformats.org/officeDocument/2006/relationships/package" Target="../embeddings/oleObject2.pptx"/><Relationship Id="rId6" Type="http://schemas.openxmlformats.org/officeDocument/2006/relationships/image" Target="../media/image5.wmf"/><Relationship Id="rId7" Type="http://schemas.openxmlformats.org/officeDocument/2006/relationships/package" Target="../embeddings/oleObject3.ppt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дана Милошевић, Миомир Урошевић, Вера Рувидић, ОШ “Јанко Веселиновић”,  Шаба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ра Гр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91320" y="4800600"/>
          <a:ext cx="1904760" cy="11779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800600"/>
                    <a:ext cx="19047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124080" y="5867280"/>
          <a:ext cx="1981440" cy="12891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5867280"/>
                    <a:ext cx="19814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791320" y="5943600"/>
          <a:ext cx="1981080" cy="111600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5943600"/>
                    <a:ext cx="19810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192800" y="4800600"/>
            <a:ext cx="19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 -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Грчк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ва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Олимпијске иг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1520" y="58672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I -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Грчк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 ва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90280" y="58672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V -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Стара Гр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системат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10960" y="50292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час – Спарта и 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304920"/>
            <a:ext cx="6248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Атинско друшт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19320" y="1766880"/>
            <a:ext cx="3673440" cy="3753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52880" y="1856880"/>
            <a:ext cx="3673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тину су основали Јо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алази се на полуострву Атици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руштво у Атини се делило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РИСТОК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РОБ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81080" y="30492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Демократско уређењ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4054680" cy="5638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181480" y="762120"/>
            <a:ext cx="36734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раљеви – базиле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вет архоната и Ареоп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олон – (6. век пне) - ре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мократија – “владавина народ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ародна скупштина  – има највишу вл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рава немају жене, странци и роб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1904760"/>
            <a:ext cx="367344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Ја сам Никола, син храброг спартијата Дијенека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0" y="1905120"/>
            <a:ext cx="3657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Ја сам Филипид, син атинског занатлије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3673440" cy="2260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828800" y="38088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аспитање и образовање -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едности и ман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228600"/>
            <a:ext cx="609480" cy="7621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943680" y="5257800"/>
          <a:ext cx="2200320" cy="123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3680" y="5257800"/>
                    <a:ext cx="22003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71600" y="1523520"/>
            <a:ext cx="3673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ест” провера на рође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Од седме године похађају гимна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Живе у војним касарн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Војна служба траје до 60.-те г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аконски говор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војчице такође похађају војне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62720" y="1752480"/>
            <a:ext cx="3124080" cy="4457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23880" y="1447920"/>
            <a:ext cx="3673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Школовање траје од 7. до 20. г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Уче да пишу, читају, Хомерове песме, свирање на лири и фла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лушају софисте- путујуће филозо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Војна обука траје две г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војчице не иду у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62720" y="1752480"/>
            <a:ext cx="3200400" cy="4456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81080" y="304920"/>
            <a:ext cx="65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Атинско васпитање и образовањ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94920" y="990720"/>
            <a:ext cx="39942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Имамо најбољу фл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Наше жене вежбају да буду добри војниц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Наши хоплити су најцењенији у целој Хелад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Наше жене не смеју бити виђене ван својих ку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Демократија- то је владавина наро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Само су стари људи, мудри љ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Говоримо кратко и ј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Ми тргујемо са с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0" y="990720"/>
            <a:ext cx="41148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Волимо књиге и слободан гов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Наш полис су основали Дор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Наши грађани слободно расправљају о закон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Имамо стрикне законе које су донели наши краље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Ко мари још за читање и писањ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Наш полис су основали Јон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Ред, рад и дисцип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Наше девојчице не иду 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00200" y="0"/>
            <a:ext cx="7010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огоди ко то говори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228600"/>
            <a:ext cx="609480" cy="7621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4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71800" y="990720"/>
            <a:ext cx="4648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0000"/>
                </a:solidFill>
                <a:latin typeface="Old English Text MT"/>
              </a:rPr>
              <a:t>Покаж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0000"/>
                </a:solidFill>
                <a:latin typeface="Old English Text MT"/>
              </a:rPr>
              <a:t>шт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0000"/>
                </a:solidFill>
                <a:latin typeface="Old English Text MT"/>
              </a:rPr>
              <a:t>знаш!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781680" y="3276720"/>
            <a:ext cx="1720800" cy="2209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828800" y="3657600"/>
            <a:ext cx="175428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Шта је герузи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2819520"/>
            <a:ext cx="7010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ће старац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 у Ат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ће хелот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00cc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ће старац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 у Ат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ће хелот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Шта је герузи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omic Sans MS"/>
              </a:rPr>
              <a:t>Сиже рада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4665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 предходном часу ученици добијају задатке које решавају у оквиру група (четири групе по пет учен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рупе су формиране на основу успеха и заинтересованости ученика за одређени зада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ченици на основу уџбеника и додатне литературе, презентују свој рад у форми интервјуа, реферата, кратког скеча –глу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000" spc="-1" strike="noStrike">
                <a:solidFill>
                  <a:srgbClr val="ff0066"/>
                </a:solidFill>
                <a:latin typeface="Comic Sans MS"/>
              </a:rPr>
              <a:t>Прва груп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- Спартанско друштво и држ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ређе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000" spc="-1" strike="noStrike">
                <a:solidFill>
                  <a:srgbClr val="ff0066"/>
                </a:solidFill>
                <a:latin typeface="Comic Sans MS"/>
              </a:rPr>
              <a:t>Друга груп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- Атинско друштво и државно уређе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000" spc="-1" strike="noStrike">
                <a:solidFill>
                  <a:srgbClr val="ff0066"/>
                </a:solidFill>
                <a:latin typeface="Comic Sans MS"/>
              </a:rPr>
              <a:t>Трећа груп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- Образовање и васпитање у Спарт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Ати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000" spc="-1" strike="noStrike">
                <a:solidFill>
                  <a:srgbClr val="ff0066"/>
                </a:solidFill>
                <a:latin typeface="Comic Sans MS"/>
              </a:rPr>
              <a:t>Четврта груп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- Спарта и Атина - разл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844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2819520"/>
            <a:ext cx="701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ристокр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занатлије и трговци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ржавни робови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тински ро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 су хело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ристокр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занатлије и трговци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ржавни робови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тински ро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 су хело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819520"/>
            <a:ext cx="701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геру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Со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краље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 је у најстарије доб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владао Атин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геру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Со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краље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 је у најстарије доб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владао Атин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2819520"/>
            <a:ext cx="701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Солон је извршио реформе у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ку 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99cc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Солон је изврши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реформе у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1120" y="456840"/>
            <a:ext cx="86425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omic Sans MS"/>
              </a:rPr>
              <a:t>Сиже рада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6966000" cy="40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Comic Sans MS"/>
              </a:rPr>
              <a:t>Уводни део час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обнављање усвојених садржаја у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ришћење мултумедијалн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езен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Comic Sans MS"/>
              </a:rPr>
              <a:t>Главни део ч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риказивање резултата рад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бележење кључних чињениц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чун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Comic Sans MS"/>
              </a:rPr>
              <a:t>Завршни део часа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ровера наученог путем кв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2819520"/>
            <a:ext cx="701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ор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хај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Јон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Еол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је грчко племе је основало Ати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ор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хај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Јон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Еол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је грчко племе је основало Ати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057400" y="1828800"/>
            <a:ext cx="62485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парта и Ат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28954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819520" y="30492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парта и Ат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846840" cy="500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9880" y="4038480"/>
            <a:ext cx="228600" cy="747720"/>
          </a:xfrm>
          <a:prstGeom prst="downArrow">
            <a:avLst>
              <a:gd name="adj1" fmla="val 50000"/>
              <a:gd name="adj2" fmla="val 817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505320"/>
            <a:ext cx="228600" cy="747720"/>
          </a:xfrm>
          <a:prstGeom prst="downArrow">
            <a:avLst>
              <a:gd name="adj1" fmla="val 50000"/>
              <a:gd name="adj2" fmla="val 817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0" y="1525680"/>
            <a:ext cx="411480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тињани се диве вашој храбрости! Наши читаоци би волели да сазнају нешто више о држави у којој живе такви јунаци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   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Молимо Вас, представите се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  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Ја сам Леонида, спартански краљ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09680" y="30492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нтервју са 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2976480" cy="5000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05920" y="228600"/>
            <a:ext cx="609480" cy="7621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943680" y="5618160"/>
          <a:ext cx="2200320" cy="123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3680" y="5618160"/>
                    <a:ext cx="22003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105520" y="1447920"/>
            <a:ext cx="367344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парту су основали Дорци у 9. веку пне на Пелопоне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руштво у Спарти се делило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ПАРТИЈАТ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ристок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ЕРИЈЕК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лободне љ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ЕЛОТ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ржавне роб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09680" y="3049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партанско друшт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1131840"/>
            <a:ext cx="36734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029200" y="2057400"/>
            <a:ext cx="3673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ва кра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еру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ародна скупш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81080" y="304920"/>
            <a:ext cx="6096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Аристократско уређењ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749600"/>
            <a:ext cx="36738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29200" y="1828800"/>
            <a:ext cx="367344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матра се да је Атина колевка демократије. Молимо Вас да читаоцима школског листа “Ђачко срце” то објасните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Молимо, представите се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Ја сам Перикле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0" y="30492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нтервју са 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12880" y="1600200"/>
            <a:ext cx="26226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8305920" y="228600"/>
            <a:ext cx="609480" cy="7621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315200" y="5618160"/>
          <a:ext cx="2200320" cy="123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5618160"/>
                    <a:ext cx="22003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2:12Z</dcterms:modified>
  <cp:revision>4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