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6.wmf" ContentType="image/x-wmf"/>
  <Override PartName="/ppt/media/image15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6A8-614B-406A-9F00-87C6CDF1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19B-31A6-41FD-B8B3-FD16E78B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D3C-9D48-4083-8D2F-4C656DE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67B-C893-434C-A11F-4B37F701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3B25-CAA9-4F19-B020-188D5985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8B81-B893-46B0-A270-AE481DA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D3EF-97FC-48EF-A860-DF9907B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E74D-B7D3-4EE9-96C4-7DDECF4E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2A0-A976-4A03-8575-1AD6A9F5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79C2-EFD7-4EB4-A8C5-0C0C860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74A0-22A7-4D96-8B37-7FD208E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10B-B838-446F-840D-C3818E52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98F3-7601-4F72-87B4-924C35B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931-289F-4839-A10D-5076D719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A98-13CF-4B94-8EF0-31F4293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A87-C97F-426D-9E8F-ED50251E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D68-BC58-43AE-827E-F9D212A0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D23C-9C09-48F3-B8DA-D89C015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2287-F0EE-4702-9279-E71847A0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A156-6B39-42A1-A359-A4637D0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C3FB-2C48-422B-97F5-078CF49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29A3-7B84-4FF7-90A6-B70E5D7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8D8-AC2F-4851-9967-EB95F85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2D5A-A2F1-411C-9E19-31209DA9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B779-0387-43DC-B24F-D0A80A6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21D0-B7A3-4D17-A5E1-B0D713B9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43C1-51FD-48FC-B124-DA36734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5AF0-5D00-4A19-B06C-844E1DAB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4C3A-3284-49FE-85BA-4FF4D5D8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795C-2AED-4195-A60E-6420F7E4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FE7-1634-4454-926D-931A282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2C1-D3B5-4ADB-A037-6E649E4F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439-DEF1-434B-8180-BEDAB0DF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B68-7A2B-4CB5-B534-B6E1029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8DA-619D-4C40-8F76-6FF6F3E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432-1BE2-41D0-B059-A7BF3BF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022-E88E-4171-848B-43324DACB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7BD-E1FB-45DE-9B65-C65AB16F4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1080-7811-4C4D-9934-2383B9B94278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89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76280" cy="7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83040" y="1197000"/>
            <a:ext cx="588168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ња Дунаи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исто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рко Стан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таша Живков Стој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есор ликовне кул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 “ Јован Јовановић Змај “ Зрењ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рија, Основи рачунарства и информатике,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игија Старог Еги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 основне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чунари, видео бим, разг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1197000"/>
            <a:ext cx="287964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а технолог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7640" y="836640"/>
            <a:ext cx="6050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ПИРАМИДА ЈЕ БИЛА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СИМБОЛ ВЕЧНОГ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ЖИВОТА И БОЖАНСКОГ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ПОРЕКЛА ФАРАОНА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О ЧЕМУ НАМ ГОВОРЕ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ffcc"/>
                </a:solidFill>
                <a:latin typeface="Arial"/>
              </a:rPr>
              <a:t>СЛЕДЕЋИ СТИХОВИ</a:t>
            </a:r>
            <a:endParaRPr b="1" lang="en-US" sz="2400" spc="1" strike="noStrike">
              <a:ln w="0">
                <a:noFill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47640" y="4508640"/>
            <a:ext cx="60501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" ГРАДИМО ЗА ЊЕГА (ФАРАОНА)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СТЕПЕНИЦЕ ДА БИ МОГАО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СТУПИТИ У НЕБО! "</a:t>
            </a:r>
            <a:endParaRPr b="1" i="1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КОЈА ЈЕ БИЛА НАЈВЕЋА ПИРАМИ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9900"/>
                </a:solidFill>
                <a:uFillTx/>
                <a:latin typeface="Arial"/>
              </a:rPr>
              <a:t>ПИТАЊЕ ЗА УЧЕНИКЕ </a:t>
            </a: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 - РАД У П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2133720"/>
            <a:ext cx="62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ЕГИПЋАНИ СУ ВЕРОВАЛИ ДА СЕ ДУША ВРАЋА У ТЕЛО, КОЈЕ ЈЕ НАПУСТИЛА, ПА СУ ГА НАСТОЈАЛИ ОСИГУРАТИ ОД РАСПАДАЊА. ТО СЕ ПОСТИЗАЛО БАЛСАМО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ОБЈАСНИТЕ ИЗ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БАЛСАМО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МУ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57913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САРКОФ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43640" y="1484280"/>
            <a:ext cx="26146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2064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ТАКО БАЛСАМОВАНО ТЕЛО ФАРАОНА СТАВЉАЛИ СУ У ПИРАМИДУ. УЗ ПОКОЈНИКА БИ СТАВЉАЛИ ЈЕЛО, ПИЋЕ, ОДЕЋУ, НАКИТ, НАМЕШТАЈ, ОРУЖЈЕ – СВЕ ОНО, КАКО СУ ВЕРОВАЛИ ШТО ЈЕ САХРАЊЕНОМ ТРЕБАЛО ЗА ЖИВ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500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0099ff"/>
                </a:solidFill>
                <a:latin typeface="Arial"/>
              </a:rPr>
              <a:t>ЗАШТО МОЖЕМО ДА КАЖЕМО ДА СУ ПИРАМИДЕ БИЛЕ ПРАВИ МУЗЕЈИ ЕГИПАТСКЕ УМЕТНОСТИ И ИСТОР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492360" y="5300640"/>
          <a:ext cx="151128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5300640"/>
                    <a:ext cx="1511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219640" y="5229360"/>
            <a:ext cx="1728720" cy="718920"/>
          </a:xfrm>
          <a:prstGeom prst="wedgeEllipseCallout">
            <a:avLst>
              <a:gd name="adj1" fmla="val -85444"/>
              <a:gd name="adj2" fmla="val -129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588000" y="2565360"/>
            <a:ext cx="3598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549360"/>
            <a:ext cx="712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УВОДНИ ДЕ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9900"/>
                </a:solidFill>
                <a:latin typeface="Arial"/>
              </a:rPr>
              <a:t>Разговор са ученицима о религији старог Египта, са нагласком на појмовима, које наставник исписује на табли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ЕГИПАТ, РЕЛИГИЈА, РА, СЕ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ОЗИРИС, ИЗИДА, АНУБИС, ХОР, ТОТ, ХАТОР = кључне речи за претр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565360"/>
            <a:ext cx="496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ОСНОВНИ ДЕО ЧА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9999"/>
                </a:solidFill>
                <a:latin typeface="Arial"/>
              </a:rPr>
              <a:t>Наставник упућује ученике да на Интернету уз помоћ претраживача пронађу и сниме фотографије Старог Египта и њихових божан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52600" y="3108240"/>
            <a:ext cx="623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ЕГИПАТ НА ИНТЕРНЕТ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4581360"/>
            <a:ext cx="49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9900"/>
                </a:solidFill>
                <a:uFillTx/>
                <a:latin typeface="Arial"/>
              </a:rPr>
              <a:t>ЗАКЉУЧНИ ДЕО ЧА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9900"/>
                </a:solidFill>
                <a:latin typeface="Arial"/>
              </a:rPr>
              <a:t>Сакупљени материјал биће искоришћен за монтирање филма који ће се приказати на часу синтезе,као презентација на видео би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1773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6"/>
                </a:solidFill>
                <a:latin typeface="Arial"/>
              </a:rPr>
              <a:t>СЛЕДЕ ФОТОГРАФИЈЕ ГОТОВИХ МАСКИ, КОЈЕ СУ УЧЕНИЦИ РАДИЛИ НА РЕДОВНИМ ЧАСОВИМА ЛИКОВНЕ КУЛ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6"/>
                </a:solidFill>
                <a:latin typeface="Arial"/>
              </a:rPr>
              <a:t>ЗА ИЗРАДУ МАСКИ ПОТРЕБНА ЈЕ ПРЕТХОДНА ПРИПРЕМА КАЛУПА ОД ГЛИНЕ И ОБРАДА МАСКИ У ПАПИР-МАШЕ ТЕХН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565440" cy="4753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333360"/>
            <a:ext cx="4969080" cy="2374920"/>
          </a:xfrm>
          <a:prstGeom prst="wedgeEllipseCallout">
            <a:avLst>
              <a:gd name="adj1" fmla="val -49615"/>
              <a:gd name="adj2" fmla="val 7767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ВАКО ДОБА И СВАКО ДРУШТВО ИМАЈУ СВОЈ ЗБИР СПЕЦИФИЧНОГ САЗНАЊА И ИДЕЈА, ОДНОСНО, ОСЕЋАЈНОСТ, КОЈИ СЕ ИЗРАЖАВАЈУ ПРЕКО ЛИКОВНЕ УМ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3400" y="1181160"/>
            <a:ext cx="3522600" cy="469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859280" y="1268280"/>
            <a:ext cx="4032360" cy="4508640"/>
          </a:xfrm>
          <a:prstGeom prst="wedgeRoundRectCallout">
            <a:avLst>
              <a:gd name="adj1" fmla="val -70750"/>
              <a:gd name="adj2" fmla="val 13731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ОБА ЧАСА ЛИКОВНЕ КУЛТУРЕ ИМАЈУ КАРАКТЕР СТВАРАЛАЧКОГ ПРОЦ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Arial"/>
              </a:rPr>
              <a:t>ЦИЉ: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УВОЂЕЊЕ УЧЕНИКА У ЕСТЕТИКУ И КУЛТУРУ ЖИВЉЕЊА СТАРИХ ЕГИПЋ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Arial"/>
              </a:rPr>
              <a:t>ЗАДАТАК: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ДОЋИ ДО САЗНАЊА ДА ОСИМ ЧИСТЕ ЛИКОВНЕ УМЕТНОСТИ ПОСТОЈИ И ПРИМЕЊЕНА УМЕТНОСТ(КАДА СЕ ПРЕДМЕТ “ПРИМЕЊУЈЕ”СА ОДРЕЂЕНОМ СВРХ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КРАС МОЖЕ БИТИ ПОТРЕБА ЧОВЕКА ЗА ЗАДОВОЉЕЊЕМ ЕСТЕТСКЕ ПОТРЕБЕ, АЛИ И ОЗНАКА ВЛАСТИ, ПРЕСТИЖА, ЖЕЉЕ ЗА ИСТИЦ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471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84720" y="1125360"/>
            <a:ext cx="4608360" cy="3311640"/>
          </a:xfrm>
          <a:prstGeom prst="wedgeRectCallout">
            <a:avLst>
              <a:gd name="adj1" fmla="val -80796"/>
              <a:gd name="adj2" fmla="val 6625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КРОЗ ОБА ЧАСА УЧЕНИЦИ ПРОЛАЗЕ КРОЗ ПЕТ ФАЗА КРЕАТИВНОГ ПРОЦЕ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ОЧАВАЊЕ ПРОБЛЕМА-УЧ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ТВАР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ПРОЦЕЊИВАЊЕ РЕЗУЛ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536640" cy="471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27640" y="1341360"/>
            <a:ext cx="4392360" cy="3095640"/>
          </a:xfrm>
          <a:prstGeom prst="wedgeRectCallout">
            <a:avLst>
              <a:gd name="adj1" fmla="val -68000"/>
              <a:gd name="adj2" fmla="val 2410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ffffff"/>
                </a:solidFill>
                <a:uFillTx/>
                <a:latin typeface="Arial"/>
              </a:rPr>
              <a:t>УЧЕНИЦИ СУ ПОДЕЉЕНИ У ТРИ 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ВАЈА МАСКЕ ЕГИПАТСКИХ БОЖАНСТАВА (ПАПИР-МАШЕ ТЕХНИКА, ГЛИНЕНИ КАЛУП, ОСЛИКАВАЊЕ ТЕМПЕРОМ, ЛАКИРАЊ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ВАЈАЊЕ НАКИТА (ДАС-МАСА, ТЕМПЕРА, ЛАКИРАЊ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РУПА КРОЈЕЊЕ И ОСЛИКАВАЊЕ ОДЕЋЕ (ТКАНИНА, ТЕМП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836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УЛТИМЕДИЈАЛНА ПРЕЗЕНТАЦИЈА се одиграва у полумрак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чио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а видео биму пројектује се филм о култури Старог егип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Из позадине се чује глас ученика који представља египатска божанств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(    )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изуелан приказ обогаћује се синхронизованим статирањем ученика са маскама, накитом и одећом именованих бог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342900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Р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3429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ОЗИР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56000" y="342900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С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343640" y="3429000"/>
            <a:ext cx="11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ИЗИД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640" y="5013360"/>
            <a:ext cx="115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АНУБ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00360" y="501336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Х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788000" y="501336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ТО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164360" y="4941720"/>
            <a:ext cx="9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ХАТ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44000" y="1465200"/>
          <a:ext cx="755640" cy="5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1465200"/>
                    <a:ext cx="7556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27280" y="476280"/>
            <a:ext cx="3143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mph" presetID="6">
                                  <p:stCondLst>
                                    <p:cond delay="20000"/>
                                  </p:stCondLst>
                                  <p:childTnLst>
                                    <p:animScale>
                                      <p:cBhvr>
                                        <p:cTn id="583" dur="5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1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8" nodeType="afterEffect" fill="hold" presetClass="emph" presetID="6">
                                  <p:stCondLst>
                                    <p:cond delay="6400"/>
                                  </p:stCondLst>
                                  <p:childTnLst>
                                    <p:animScale>
                                      <p:cBhvr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400"/>
                            </p:stCondLst>
                            <p:childTnLst>
                              <p:par>
                                <p:cTn id="5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14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7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68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8800"/>
                            </p:stCondLst>
                            <p:childTnLst>
                              <p:par>
                                <p:cTn id="6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6920" y="206064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РЕЛИГИЈА СТАРОГ ЕГИП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16000" y="35258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 У ВИШЕ БО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484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ЧЕЊЕ О БОЖАНСТВИМА И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7280" y="692280"/>
            <a:ext cx="331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2492280"/>
            <a:ext cx="691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МНОГОБОЖАЧКА 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9080" y="4581360"/>
            <a:ext cx="691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ЈЕДНОБОЖАЧКА РЕЛИГИЈ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51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ЕРА У ЈЕДНОГ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11620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ГИПЋАНИ СУ ВЕРОВАЛИ У ВЕОМА МНОГО БОГОВА, КОЈИ СУ СТВОРИЛИ СВЕТ И ЉУДЕ И КОЈИ ИХ ЧУВАЈУ ОД УНИШТ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3357720"/>
            <a:ext cx="6912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ЕГИПАТСКИ БОГОВ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51280" y="155736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Р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61080" y="2998800"/>
            <a:ext cx="20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ОЗИР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3880" y="3355920"/>
            <a:ext cx="129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С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56360" y="4859280"/>
            <a:ext cx="18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ИЗИД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44720" y="479736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АНУБИ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853240"/>
            <a:ext cx="88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ЗАДАТАК ЗА УЧЕНИ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– РАД У ПАР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ИШИТЕ ПОНУЂЕНЕ БОГОВЕ КОРИСТЕЋИ УЏБ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94120" y="1197000"/>
            <a:ext cx="85752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33880" y="2443320"/>
            <a:ext cx="761760" cy="1560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701120" y="2421000"/>
            <a:ext cx="831600" cy="1265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016840" y="4354560"/>
            <a:ext cx="1127160" cy="1409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132000" y="4422600"/>
            <a:ext cx="703440" cy="141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8000" y="4005360"/>
            <a:ext cx="755640" cy="1930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5076720" y="4067280"/>
            <a:ext cx="874800" cy="1868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824360" y="2276640"/>
            <a:ext cx="773280" cy="1846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2554200" y="765000"/>
            <a:ext cx="1479600" cy="1992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569880" y="2421000"/>
            <a:ext cx="889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79371E-006 L 1.11111E-006 -0.41975 E">
                                      <p:cBhvr>
                                        <p:cTn id="8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4000" y="1413000"/>
            <a:ext cx="48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СВЕШТЕНИЦИ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924280"/>
            <a:ext cx="52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СРЕДНИЦИ ИЗМЕЂУ  ЉУ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ОГОВ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УВАРИ ХР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16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92360" y="40464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ЗАДАТАК ЗА УЧЕНИ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Д У ПАР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ГОВОРИ НА ПОСТАВЉЕНА ПИ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92360" y="2781360"/>
            <a:ext cx="49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ШТА ЈЕ ХРАМ 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248360" cy="2911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3680" y="3645000"/>
            <a:ext cx="4248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1125360"/>
            <a:ext cx="84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СВЕШТЕНИЦИ СУ БИ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И ПРВИ НАУЧНИЦ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4076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КУШАЈ ДА САЗНАШ КОЈИМ НАУКАМА СУ СЕ БАВ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71640" y="1125360"/>
            <a:ext cx="7056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СТАРИ ЕГИПЋАНИ ДУБОКО С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ОШТОВАЛИ  УМРЛЕ ПРЕТКЕ,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ЈЕР СУ ВЕРОВАЛИ У ЗАГРОБНИ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ЖИВОТ – ЖИВОТ ПОСЛЕ СМРТИ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640" y="3789360"/>
            <a:ext cx="705636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ЗАТО СУ ВЕЛИКУ ПАЖЊ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ОКЛАЊАЛИ САХРАЊИВАЊУ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МРТВИХ, НАРОЧИТО СВОЈИХ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ВЛАДАРА - ФАРАОНА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00000" y="170028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ИРАМИДЕ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333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РАОНСКЕ ГРОБ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ГРАЂЕНЕ СУ У ОБЛ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46200"/>
            <a:ext cx="8820000" cy="5630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5240" y="592200"/>
            <a:ext cx="8878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200"/>
                            </p:stCondLst>
                            <p:childTnLst>
                              <p:par>
                                <p:cTn id="2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7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2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7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2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2:46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