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4.jpeg" ContentType="image/jpeg"/>
  <Override PartName="/ppt/media/image10.png" ContentType="image/png"/>
  <Override PartName="/ppt/media/image21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5.png" ContentType="image/png"/>
  <Override PartName="/ppt/media/image28.png" ContentType="image/png"/>
  <Override PartName="/ppt/media/image26.wmf" ContentType="image/x-wmf"/>
  <Override PartName="/ppt/media/image15.jpeg" ContentType="image/jpeg"/>
  <Override PartName="/ppt/media/image3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170C-30ED-4CB6-8F7E-FA0CE615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4A9-3783-4F30-9E14-C22A87FC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C817-4907-40D9-A8D6-D66563D3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D896-902C-4152-AB0B-A5B1E675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59B1-CCB5-4C6C-887B-AB8EF807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6CC9-5FD5-4776-B8AE-1D3222EF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0B13-6DFB-49AF-91E3-85FB4DF2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48F9-D353-4EB7-A681-E906EEF1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D960-6419-46DC-931F-6858A202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7C54-1872-4584-8E9F-7576663F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7ABA-E98E-418B-87AB-03C33891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4319-6900-4122-8D6A-086C76DC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D147-61A9-43B4-8656-AA61C747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7F9D-E13F-4AB9-938C-AC5BD546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AF14-00C7-41B1-B5D2-BFE5667E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1E62-114B-4F25-8041-FC899235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1BED-08EA-43EF-ADAC-A8423BE1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F6E66-6313-4E17-8069-869E766A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4EDD9-6A28-410F-92E6-8E7E3388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D8115-1CBB-4933-87B2-D57B10FD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734C6-A78B-45F9-89A5-E73B40D9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086D5-C18A-4D34-A5CA-A839ECB7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E19A-4FBA-4914-A288-D24A42F3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25A3F-26AB-487C-95EB-2B034EE5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FA634-633E-4AD2-BCBD-AD266AC3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8841E-C0BE-4710-91C8-F6372192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9D558-2042-4D00-B7BD-27EE0B1E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E1239-B9D2-4A19-BDBB-CBB41634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DBD8F-ED04-4E98-9496-2C8A7161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3446F-2601-4B0E-869C-9409ABC2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C113-A65F-4B8B-BCE9-850435CF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5353-E4AB-4E12-98F5-6CCFEA89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4667-FDEB-4151-B749-2D9547A1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4B83-2DE9-40B5-8775-E8885BBC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471-F038-4DCA-8E51-CA17C629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B18-8D62-4903-BB6F-2AAFF2B6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D423-3E20-4BFC-9F3D-AAC1CD6F0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BE54-4B38-4602-876F-D09E91DEA3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928A-733C-465F-BE3C-85AF1886C278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89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Завод за унапређивање образовања и васпитањ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476280" cy="781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83040" y="1197000"/>
            <a:ext cx="5881680" cy="4392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оња Дунаи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фесор истор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рко Стан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фесор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таша Живков Стој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фесор ликовне кул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Ш “ Јован Јовановић Змај “ Зрења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орија, Основи рачунарства и информатике, Ликовна кул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лигија Старог Егип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ти разред основне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чунари, видео бим, разгл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8000" y="1197000"/>
            <a:ext cx="2879640" cy="4392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требна технологиј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47640" y="836640"/>
            <a:ext cx="60501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ffcc"/>
                </a:solidFill>
                <a:latin typeface="Arial"/>
              </a:rPr>
              <a:t>ПИРАМИДА ЈЕ БИЛА</a:t>
            </a:r>
            <a:endParaRPr b="1" lang="en-US" sz="2400" spc="1" strike="noStrike">
              <a:ln w="0">
                <a:noFill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ffcc"/>
                </a:solidFill>
                <a:latin typeface="Arial"/>
              </a:rPr>
              <a:t>СИМБОЛ ВЕЧНОГ</a:t>
            </a:r>
            <a:endParaRPr b="1" lang="en-US" sz="2400" spc="1" strike="noStrike">
              <a:ln w="0">
                <a:noFill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ffcc"/>
                </a:solidFill>
                <a:latin typeface="Arial"/>
              </a:rPr>
              <a:t>ЖИВОТА И БОЖАНСКОГ</a:t>
            </a:r>
            <a:endParaRPr b="1" lang="en-US" sz="2400" spc="1" strike="noStrike">
              <a:ln w="0">
                <a:noFill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ffcc"/>
                </a:solidFill>
                <a:latin typeface="Arial"/>
              </a:rPr>
              <a:t>ПОРЕКЛА ФАРАОНА</a:t>
            </a:r>
            <a:endParaRPr b="1" lang="en-US" sz="2400" spc="1" strike="noStrike">
              <a:ln w="0">
                <a:noFill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ffcc"/>
                </a:solidFill>
                <a:latin typeface="Arial"/>
              </a:rPr>
              <a:t>О ЧЕМУ НАМ ГОВОРЕ</a:t>
            </a:r>
            <a:endParaRPr b="1" lang="en-US" sz="2400" spc="1" strike="noStrike">
              <a:ln w="0">
                <a:noFill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ffcc"/>
                </a:solidFill>
                <a:latin typeface="Arial"/>
              </a:rPr>
              <a:t>СЛЕДЕЋИ СТИХОВИ</a:t>
            </a:r>
            <a:endParaRPr b="1" lang="en-US" sz="2400" spc="1" strike="noStrike">
              <a:ln w="0">
                <a:noFill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547640" y="4508640"/>
            <a:ext cx="6050160" cy="15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9900"/>
                </a:solidFill>
                <a:latin typeface="Comic Sans MS"/>
              </a:rPr>
              <a:t>" ГРАДИМО ЗА ЊЕГА (ФАРАОНА)</a:t>
            </a:r>
            <a:endParaRPr b="1" i="1" lang="en-US" sz="2400" spc="1" strike="noStrike">
              <a:ln w="0">
                <a:noFill/>
              </a:ln>
              <a:solidFill>
                <a:srgbClr val="ff99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9900"/>
                </a:solidFill>
                <a:latin typeface="Comic Sans MS"/>
              </a:rPr>
              <a:t>СТЕПЕНИЦЕ ДА БИ МОГАО</a:t>
            </a:r>
            <a:endParaRPr b="1" i="1" lang="en-US" sz="2400" spc="1" strike="noStrike">
              <a:ln w="0">
                <a:noFill/>
              </a:ln>
              <a:solidFill>
                <a:srgbClr val="ff99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9900"/>
                </a:solidFill>
                <a:latin typeface="Comic Sans MS"/>
              </a:rPr>
              <a:t>СТУПИТИ У НЕБО! "</a:t>
            </a:r>
            <a:endParaRPr b="1" i="1" lang="en-US" sz="2400" spc="1" strike="noStrike">
              <a:ln w="0">
                <a:noFill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99ff"/>
                </a:solidFill>
                <a:latin typeface="Arial"/>
              </a:rPr>
              <a:t>КОЈА ЈЕ БИЛА НАЈВЕЋА ПИРАМИ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260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9900"/>
                </a:solidFill>
                <a:uFillTx/>
                <a:latin typeface="Arial"/>
              </a:rPr>
              <a:t>ПИТАЊЕ ЗА УЧЕНИКЕ </a:t>
            </a:r>
            <a:r>
              <a:rPr b="1" lang="sr-CS" sz="2800" spc="-1" strike="noStrike">
                <a:solidFill>
                  <a:srgbClr val="ff9900"/>
                </a:solidFill>
                <a:latin typeface="Arial"/>
              </a:rPr>
              <a:t> - РАД У ПА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2133720"/>
            <a:ext cx="62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9900"/>
                </a:solidFill>
                <a:latin typeface="Arial"/>
              </a:rPr>
              <a:t>ЕГИПЋАНИ СУ ВЕРОВАЛИ ДА СЕ ДУША ВРАЋА У ТЕЛО, КОЈЕ ЈЕ НАПУСТИЛА, ПА СУ ГА НАСТОЈАЛИ ОСИГУРАТИ ОД РАСПАДАЊА. ТО СЕ ПОСТИЗАЛО БАЛСАМОВАЊ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501336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99ff"/>
                </a:solidFill>
                <a:latin typeface="Arial"/>
              </a:rPr>
              <a:t>ОБЈАСНИТЕ ИЗР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5805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99ff"/>
                </a:solidFill>
                <a:latin typeface="Arial"/>
              </a:rPr>
              <a:t>БАЛСАМО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51280" y="5805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99ff"/>
                </a:solidFill>
                <a:latin typeface="Arial"/>
              </a:rPr>
              <a:t>МУ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12000" y="579132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99ff"/>
                </a:solidFill>
                <a:latin typeface="Arial"/>
              </a:rPr>
              <a:t>САРКОФ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443640" y="1484280"/>
            <a:ext cx="26146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24000" y="620640"/>
            <a:ext cx="84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9900"/>
                </a:solidFill>
                <a:latin typeface="Arial"/>
              </a:rPr>
              <a:t>ТАКО БАЛСАМОВАНО ТЕЛО ФАРАОНА СТАВЉАЛИ СУ У ПИРАМИДУ. УЗ ПОКОЈНИКА БИ СТАВЉАЛИ ЈЕЛО, ПИЋЕ, ОДЕЋУ, НАКИТ, НАМЕШТАЈ, ОРУЖЈЕ – СВЕ ОНО, КАКО СУ ВЕРОВАЛИ ШТО ЈЕ САХРАЊЕНОМ ТРЕБАЛО ЗА ЖИВ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350028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lang="sr-CS" sz="2800" spc="-1" strike="noStrike">
                <a:solidFill>
                  <a:srgbClr val="0099ff"/>
                </a:solidFill>
                <a:latin typeface="Arial"/>
              </a:rPr>
              <a:t>ЗАШТО МОЖЕМО ДА КАЖЕМО ДА СУ ПИРАМИДЕ БИЛЕ ПРАВИ МУЗЕЈИ ЕГИПАТСКЕ УМЕТНОСТИ И ИСТОРИЈ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492360" y="5300640"/>
          <a:ext cx="151128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5300640"/>
                    <a:ext cx="15112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5219640" y="5229360"/>
            <a:ext cx="1728720" cy="718920"/>
          </a:xfrm>
          <a:prstGeom prst="wedgeEllipseCallout">
            <a:avLst>
              <a:gd name="adj1" fmla="val -85444"/>
              <a:gd name="adj2" fmla="val -1291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588000" y="2565360"/>
            <a:ext cx="3598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8920" y="549360"/>
            <a:ext cx="7128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ff9900"/>
                </a:solidFill>
                <a:uFillTx/>
                <a:latin typeface="Arial"/>
              </a:rPr>
              <a:t>УВОДНИ ДЕ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9900"/>
                </a:solidFill>
                <a:latin typeface="Arial"/>
              </a:rPr>
              <a:t>Разговор са ученицима о религији старог Египта, са нагласком на појмовима, које наставник исписује на табли</a:t>
            </a: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ЕГИПАТ, РЕЛИГИЈА, РА, СЕТ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ОЗИРИС, ИЗИДА, АНУБИС, ХОР, ТОТ, ХАТОР = кључне речи за претра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2565360"/>
            <a:ext cx="4968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ff9900"/>
                </a:solidFill>
                <a:uFillTx/>
                <a:latin typeface="Arial"/>
              </a:rPr>
              <a:t>ОСНОВНИ ДЕО ЧА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9999"/>
                </a:solidFill>
                <a:latin typeface="Arial"/>
              </a:rPr>
              <a:t>Наставник упућује ученике да на Интернету уз помоћ претраживача пронађу и сниме фотографије Старог Египта и њихових божанст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452600" y="3108240"/>
            <a:ext cx="6238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ЕГИПАТ НА ИНТЕРНЕТУ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1403280" y="4581360"/>
            <a:ext cx="4969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ff9900"/>
                </a:solidFill>
                <a:uFillTx/>
                <a:latin typeface="Arial"/>
              </a:rPr>
              <a:t>ЗАКЉУЧНИ ДЕО ЧА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9900"/>
                </a:solidFill>
                <a:latin typeface="Arial"/>
              </a:rPr>
              <a:t>Сакупљени материјал биће искоришћен за монтирање филма који ће се приказати на часу синтезе,као презентација на видео би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42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9000"/>
                            </p:stCondLst>
                            <p:childTnLst>
                              <p:par>
                                <p:cTn id="45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1280" y="1773360"/>
            <a:ext cx="79930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f6"/>
                </a:solidFill>
                <a:latin typeface="Arial"/>
              </a:rPr>
              <a:t>СЛЕДЕ ФОТОГРАФИЈЕ ГОТОВИХ МАСКИ, КОЈЕ СУ УЧЕНИЦИ РАДИЛИ НА РЕДОВНИМ ЧАСОВИМА ЛИКОВНЕ КУЛТУ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f6"/>
                </a:solidFill>
                <a:latin typeface="Arial"/>
              </a:rPr>
              <a:t>ЗА ИЗРАДУ МАСКИ ПОТРЕБНА ЈЕ ПРЕТХОДНА ПРИПРЕМА КАЛУПА ОД ГЛИНЕ И ОБРАДА МАСКИ У ПАПИР-МАШЕ ТЕХНИЦ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3565440" cy="4753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95640" y="333360"/>
            <a:ext cx="4969080" cy="2374920"/>
          </a:xfrm>
          <a:prstGeom prst="wedgeEllipseCallout">
            <a:avLst>
              <a:gd name="adj1" fmla="val -49615"/>
              <a:gd name="adj2" fmla="val 77675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СВАКО ДОБА И СВАКО ДРУШТВО ИМАЈУ СВОЈ ЗБИР СПЕЦИФИЧНОГ САЗНАЊА И ИДЕЈА, ОДНОСНО, ОСЕЋАЈНОСТ, КОЈИ СЕ ИЗРАЖАВАЈУ ПРЕКО ЛИКОВНЕ УМ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3400" y="1181160"/>
            <a:ext cx="3522600" cy="4695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859280" y="1268280"/>
            <a:ext cx="4032360" cy="4508640"/>
          </a:xfrm>
          <a:prstGeom prst="wedgeRoundRectCallout">
            <a:avLst>
              <a:gd name="adj1" fmla="val -70750"/>
              <a:gd name="adj2" fmla="val 13731"/>
              <a:gd name="adj3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ОБА ЧАСА ЛИКОВНЕ КУЛТУРЕ ИМАЈУ КАРАКТЕР СТВАРАЛАЧКОГ ПРОЦЕ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0000"/>
                </a:solidFill>
                <a:latin typeface="Arial"/>
              </a:rPr>
              <a:t>ЦИЉ: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УВОЂЕЊЕ УЧЕНИКА У ЕСТЕТИКУ И КУЛТУРУ ЖИВЉЕЊА СТАРИХ ЕГИПЋ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0000"/>
                </a:solidFill>
                <a:latin typeface="Arial"/>
              </a:rPr>
              <a:t>ЗАДАТАК: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ДОЋИ ДО САЗНАЊА ДА ОСИМ ЧИСТЕ ЛИКОВНЕ УМЕТНОСТИ ПОСТОЈИ И ПРИМЕЊЕНА УМЕТНОСТ(КАДА СЕ ПРЕДМЕТ “ПРИМЕЊУЈЕ”СА ОДРЕЂЕНОМ СВРХО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УКРАС МОЖЕ БИТИ ПОТРЕБА ЧОВЕКА ЗА ЗАДОВОЉЕЊЕМ ЕСТЕТСКЕ ПОТРЕБЕ, АЛИ И ОЗНАКА ВЛАСТИ, ПРЕСТИЖА, ЖЕЉЕ ЗА ИСТИЦАЊ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3533760" cy="4711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284720" y="1125360"/>
            <a:ext cx="4608360" cy="3311640"/>
          </a:xfrm>
          <a:prstGeom prst="wedgeRectCallout">
            <a:avLst>
              <a:gd name="adj1" fmla="val -80796"/>
              <a:gd name="adj2" fmla="val 6625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КРОЗ ОБА ЧАСА УЧЕНИЦИ ПРОЛАЗЕ КРОЗ ПЕТ ФАЗА КРЕАТИВНОГ ПРОЦЕ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УОЧАВАЊЕ ПРОБЛЕМА-УЧЕ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ИГ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СТВАР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Р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ПРОЦЕЊИВАЊЕ РЕЗУЛ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536640" cy="4714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427640" y="1341360"/>
            <a:ext cx="4392360" cy="3095640"/>
          </a:xfrm>
          <a:prstGeom prst="wedgeRectCallout">
            <a:avLst>
              <a:gd name="adj1" fmla="val -68000"/>
              <a:gd name="adj2" fmla="val 2410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 u="sng">
                <a:solidFill>
                  <a:srgbClr val="ffffff"/>
                </a:solidFill>
                <a:uFillTx/>
                <a:latin typeface="Arial"/>
              </a:rPr>
              <a:t>УЧЕНИЦИ СУ ПОДЕЉЕНИ У ТРИ ГРУ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ГРУПА ВАЈА МАСКЕ ЕГИПАТСКИХ БОЖАНСТАВА (ПАПИР-МАШЕ ТЕХНИКА, ГЛИНЕНИ КАЛУП, ОСЛИКАВАЊЕ ТЕМПЕРОМ, ЛАКИРАЊ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ГРУПА ВАЈАЊЕ НАКИТА (ДАС-МАСА, ТЕМПЕРА, ЛАКИРАЊ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ГРУПА КРОЈЕЊЕ И ОСЛИКАВАЊЕ ОДЕЋЕ (ТКАНИНА, ТЕМПЕР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8366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МУЛТИМЕДИЈАЛНА ПРЕЗЕНТАЦИЈА се одиграва у полумрак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учион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На видео биму пројектује се филм о култури Старог егип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Из позадине се чује глас ученика који представља египатска божанств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(    )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Визуелан приказ обогаћује се синхронизованим статирањем ученика са маскама, накитом и одећом именованих бог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42920" y="3429000"/>
            <a:ext cx="43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Р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43280" y="3429000"/>
            <a:ext cx="1152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ОЗИРИС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56000" y="3429000"/>
            <a:ext cx="79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СЕТ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343640" y="3429000"/>
            <a:ext cx="1116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ИЗИД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9640" y="5013360"/>
            <a:ext cx="1152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АНУБИС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700360" y="5013360"/>
            <a:ext cx="79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ХОР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788000" y="5013360"/>
            <a:ext cx="720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ТОТ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164360" y="4941720"/>
            <a:ext cx="936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ХАТОР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8244000" y="1465200"/>
          <a:ext cx="755640" cy="59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00" y="1465200"/>
                    <a:ext cx="75564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2627280" y="476280"/>
            <a:ext cx="314316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mph" presetID="6">
                                  <p:stCondLst>
                                    <p:cond delay="20000"/>
                                  </p:stCondLst>
                                  <p:childTnLst>
                                    <p:animScale>
                                      <p:cBhvr>
                                        <p:cTn id="583" dur="5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5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6" dur="1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3500"/>
                            </p:stCondLst>
                            <p:childTnLst>
                              <p:par>
                                <p:cTn id="588" nodeType="afterEffect" fill="hold" presetClass="emph" presetID="6">
                                  <p:stCondLst>
                                    <p:cond delay="6400"/>
                                  </p:stCondLst>
                                  <p:childTnLst>
                                    <p:animScale>
                                      <p:cBhvr>
                                        <p:cTn id="589" dur="5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0400"/>
                            </p:stCondLst>
                            <p:childTnLst>
                              <p:par>
                                <p:cTn id="5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2" dur="1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1400"/>
                            </p:stCondLst>
                            <p:childTnLst>
                              <p:par>
                                <p:cTn id="594" nodeType="afterEffect" fill="hold" presetClass="exit" presetID="10">
                                  <p:stCondLst>
                                    <p:cond delay="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1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0">
                                  <p:stCondLst>
                                    <p:cond delay="4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0">
                                  <p:stCondLst>
                                    <p:cond delay="4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7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68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9" dur="2000" fill="hold"/>
                                        <p:tgtEl>
                                          <p:spTgt spid="20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8800"/>
                            </p:stCondLst>
                            <p:childTnLst>
                              <p:par>
                                <p:cTn id="6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26920" y="2060640"/>
            <a:ext cx="763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ff66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Arial Black"/>
              </a:rPr>
              <a:t>РЕЛИГИЈА СТАРОГ ЕГИП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ff66"/>
                  </a:gs>
                  <a:gs pos="100000">
                    <a:srgbClr val="ff66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16000" y="35258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ЕРА У ВИШЕ БОГ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484280"/>
            <a:ext cx="69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ЕРА,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ЧЕЊЕ О БОЖАНСТВИМА И БО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7280" y="692280"/>
            <a:ext cx="3313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ff66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Arial Black"/>
              </a:rPr>
              <a:t>РЕЛИГИЈА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ff66"/>
                  </a:gs>
                  <a:gs pos="100000">
                    <a:srgbClr val="ff66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7280" y="2492280"/>
            <a:ext cx="6912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ff66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Arial Black"/>
              </a:rPr>
              <a:t>МНОГОБОЖАЧКА РЕЛИГИЈА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ff66"/>
                  </a:gs>
                  <a:gs pos="100000">
                    <a:srgbClr val="ff66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89080" y="4581360"/>
            <a:ext cx="6912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ff66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Arial Black"/>
              </a:rPr>
              <a:t>ЈЕДНОБОЖАЧКА РЕЛИГИЈА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ff66"/>
                  </a:gs>
                  <a:gs pos="100000">
                    <a:srgbClr val="ff66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5516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ЕРА У ЈЕДНОГ Б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26920" y="11620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ЕГИПЋАНИ СУ ВЕРОВАЛИ У ВЕОМА МНОГО БОГОВА, КОЈИ СУ СТВОРИЛИ СВЕТ И ЉУДЕ И КОЈИ ИХ ЧУВАЈУ ОД УНИШТ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3357720"/>
            <a:ext cx="691200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ЕГИПАТСКИ БОГОВ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51280" y="1557360"/>
            <a:ext cx="79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Р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761080" y="2998800"/>
            <a:ext cx="2087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ОЗИРИС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793880" y="3355920"/>
            <a:ext cx="1295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СЕТ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156360" y="4859280"/>
            <a:ext cx="180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ИЗИД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44720" y="4797360"/>
            <a:ext cx="1800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АНУБИС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5853240"/>
            <a:ext cx="88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ЗАДАТАК ЗА УЧЕНИК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– РАД У ПАРОВ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ПИШИТЕ ПОНУЂЕНЕ БОГОВЕ КОРИСТЕЋИ УЏБЕ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794120" y="1197000"/>
            <a:ext cx="857520" cy="1152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233880" y="2443320"/>
            <a:ext cx="761760" cy="1560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701120" y="2421000"/>
            <a:ext cx="831600" cy="1265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8016840" y="4354560"/>
            <a:ext cx="1127160" cy="1409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132000" y="4422600"/>
            <a:ext cx="703440" cy="1413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08000" y="4005360"/>
            <a:ext cx="755640" cy="1930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5076720" y="4067280"/>
            <a:ext cx="874800" cy="1868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4824360" y="2276640"/>
            <a:ext cx="773280" cy="1846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2554200" y="765000"/>
            <a:ext cx="1479600" cy="1992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0"/>
          <a:stretch/>
        </p:blipFill>
        <p:spPr>
          <a:xfrm>
            <a:off x="569880" y="2421000"/>
            <a:ext cx="8892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79371E-006 L 1.11111E-006 -0.41975 E">
                                      <p:cBhvr>
                                        <p:cTn id="84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77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770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4000" y="1413000"/>
            <a:ext cx="489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ff66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Arial Black"/>
              </a:rPr>
              <a:t>СВЕШТЕНИЦИ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ff66"/>
                  </a:gs>
                  <a:gs pos="100000">
                    <a:srgbClr val="ff66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2924280"/>
            <a:ext cx="52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СРЕДНИЦИ ИЗМЕЂУ  ЉУД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ОГОВА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ЧУВАРИ ХРАМ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26164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92360" y="404640"/>
            <a:ext cx="496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ЗАДАТАК ЗА УЧЕНИК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Д У ПАРОВ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ДГОВОРИ НА ПОСТАВЉЕНА ПИТ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92360" y="2781360"/>
            <a:ext cx="496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ШТА ЈЕ ХРАМ 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716360" y="3645000"/>
            <a:ext cx="4248360" cy="2911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93680" y="3645000"/>
            <a:ext cx="42480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77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770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24000" y="1125360"/>
            <a:ext cx="8424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ff66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Arial Black"/>
              </a:rPr>
              <a:t>СВЕШТЕНИЦИ СУ БИЛ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ff66"/>
                  </a:gs>
                  <a:gs pos="100000">
                    <a:srgbClr val="ff66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ff66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Arial Black"/>
              </a:rPr>
              <a:t>И ПРВИ НАУЧНИЦ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ff66"/>
                  </a:gs>
                  <a:gs pos="100000">
                    <a:srgbClr val="ff66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2268360" y="4076640"/>
            <a:ext cx="49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КУШАЈ ДА САЗНАШ КОЈИМ НАУКАМА СУ СЕ БАВ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971640" y="1125360"/>
            <a:ext cx="70563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СТАРИ ЕГИПЋАНИ ДУБОКО СУ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ПОШТОВАЛИ  УМРЛЕ ПРЕТКЕ,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ЈЕР СУ ВЕРОВАЛИ У ЗАГРОБНИ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ЖИВОТ – ЖИВОТ ПОСЛЕ СМРТИ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71640" y="3789360"/>
            <a:ext cx="7056360" cy="20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ЗАТО СУ ВЕЛИКУ ПАЖЊУ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ПОКЛАЊАЛИ САХРАЊИВАЊУ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МРТВИХ, НАРОЧИТО СВОЈИХ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ВЛАДАРА - ФАРАОНА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900000" y="1700280"/>
            <a:ext cx="648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ИРАМИДЕ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333360"/>
            <a:ext cx="46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ФАРАОНСКЕ ГРОБ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ГРАЂЕНЕ СУ У ОБЛ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0920" y="646200"/>
            <a:ext cx="8820000" cy="5630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65240" y="592200"/>
            <a:ext cx="8878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200"/>
                            </p:stCondLst>
                            <p:childTnLst>
                              <p:par>
                                <p:cTn id="293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700"/>
                            </p:stCondLst>
                            <p:childTnLst>
                              <p:par>
                                <p:cTn id="303" nodeType="afterEffect" fill="hold" presetClass="exit" presetID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2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700"/>
                            </p:stCondLst>
                            <p:childTnLst>
                              <p:par>
                                <p:cTn id="31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4700"/>
                            </p:stCondLst>
                            <p:childTnLst>
                              <p:par>
                                <p:cTn id="320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6200"/>
                            </p:stCondLst>
                            <p:childTnLst>
                              <p:par>
                                <p:cTn id="32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cp:keywords/>
  <dc:language>en-US</dc:language>
  <cp:lastModifiedBy>Billy</cp:lastModifiedBy>
  <dcterms:modified xsi:type="dcterms:W3CDTF">2015-01-21T22:22:46Z</dcterms:modified>
  <cp:revision>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